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D9A4-EF58-4280-8DF9-882BC7E5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CA5-12AB-47E0-B1D8-2E3FA017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B57-5C46-4386-9387-20E3B796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A41-3FC2-4786-BCE2-43705F92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591-6F4E-403A-B71A-52F21BC2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C3F6-5FFB-4141-9FF9-CF354347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1A7-DC43-411D-9E3F-40794BF0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487-9F60-4910-A6AA-B3F8C617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FB1-85FF-4F79-AD7C-4FD62947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C61-561B-4E7B-A00F-F49D7B49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197-F31A-42E8-A307-FF6FA972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46C-C599-4807-B08E-C6A4D158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3391-40BE-4DAE-9271-6803CAD84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3.jpe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1337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125 x 0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.7 x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4 x 0.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36960" y="5224320"/>
            <a:ext cx="633240" cy="347760"/>
          </a:xfrm>
          <a:custGeom>
            <a:avLst/>
            <a:gdLst/>
            <a:ahLst/>
            <a:rect l="l" t="t" r="r" b="b"/>
            <a:pathLst>
              <a:path w="1762" h="968">
                <a:moveTo>
                  <a:pt x="8756" y="14833"/>
                </a:moveTo>
                <a:cubicBezTo>
                  <a:pt x="8628" y="14897"/>
                  <a:pt x="8476" y="15112"/>
                  <a:pt x="8434" y="15255"/>
                </a:cubicBezTo>
                <a:cubicBezTo>
                  <a:pt x="8434" y="15305"/>
                  <a:pt x="8434" y="15354"/>
                  <a:pt x="8434" y="15404"/>
                </a:cubicBezTo>
                <a:cubicBezTo>
                  <a:pt x="8701" y="15522"/>
                  <a:pt x="8885" y="15397"/>
                  <a:pt x="8930" y="15081"/>
                </a:cubicBezTo>
                <a:cubicBezTo>
                  <a:pt x="8961" y="14863"/>
                  <a:pt x="8799" y="14897"/>
                  <a:pt x="8657" y="14883"/>
                </a:cubicBezTo>
              </a:path>
              <a:path w="1762" h="968">
                <a:moveTo>
                  <a:pt x="9302" y="14833"/>
                </a:moveTo>
                <a:cubicBezTo>
                  <a:pt x="9336" y="14747"/>
                  <a:pt x="9458" y="14691"/>
                  <a:pt x="9550" y="14759"/>
                </a:cubicBezTo>
                <a:cubicBezTo>
                  <a:pt x="9607" y="14801"/>
                  <a:pt x="9435" y="14942"/>
                  <a:pt x="9426" y="14957"/>
                </a:cubicBezTo>
                <a:cubicBezTo>
                  <a:pt x="9493" y="14957"/>
                  <a:pt x="9762" y="14944"/>
                  <a:pt x="9699" y="15106"/>
                </a:cubicBezTo>
                <a:cubicBezTo>
                  <a:pt x="9631" y="15281"/>
                  <a:pt x="9469" y="15231"/>
                  <a:pt x="9351" y="15205"/>
                </a:cubicBezTo>
              </a:path>
              <a:path w="1762" h="968">
                <a:moveTo>
                  <a:pt x="9897" y="14709"/>
                </a:moveTo>
                <a:cubicBezTo>
                  <a:pt x="9871" y="14799"/>
                  <a:pt x="9771" y="14949"/>
                  <a:pt x="9922" y="15007"/>
                </a:cubicBezTo>
                <a:cubicBezTo>
                  <a:pt x="10060" y="15007"/>
                  <a:pt x="10114" y="15001"/>
                  <a:pt x="10195" y="14932"/>
                </a:cubicBezTo>
              </a:path>
              <a:path w="1762" h="968">
                <a:moveTo>
                  <a:pt x="10195" y="14511"/>
                </a:moveTo>
                <a:cubicBezTo>
                  <a:pt x="10158" y="14792"/>
                  <a:pt x="10131" y="15073"/>
                  <a:pt x="10096" y="15354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26040" y="4606920"/>
            <a:ext cx="1177920" cy="536760"/>
          </a:xfrm>
          <a:custGeom>
            <a:avLst/>
            <a:gdLst/>
            <a:ahLst/>
            <a:rect l="l" t="t" r="r" b="b"/>
            <a:pathLst>
              <a:path w="3275" h="1490">
                <a:moveTo>
                  <a:pt x="14362" y="14263"/>
                </a:moveTo>
                <a:cubicBezTo>
                  <a:pt x="14658" y="14282"/>
                  <a:pt x="14930" y="14280"/>
                  <a:pt x="15230" y="14263"/>
                </a:cubicBezTo>
                <a:cubicBezTo>
                  <a:pt x="15766" y="14232"/>
                  <a:pt x="16309" y="14200"/>
                  <a:pt x="16818" y="14015"/>
                </a:cubicBezTo>
                <a:cubicBezTo>
                  <a:pt x="17088" y="13917"/>
                  <a:pt x="17376" y="13775"/>
                  <a:pt x="17487" y="13494"/>
                </a:cubicBezTo>
                <a:cubicBezTo>
                  <a:pt x="17552" y="13331"/>
                  <a:pt x="17487" y="13095"/>
                  <a:pt x="17338" y="12998"/>
                </a:cubicBezTo>
                <a:cubicBezTo>
                  <a:pt x="17055" y="12812"/>
                  <a:pt x="16668" y="12805"/>
                  <a:pt x="16346" y="12799"/>
                </a:cubicBezTo>
                <a:cubicBezTo>
                  <a:pt x="16014" y="12792"/>
                  <a:pt x="15679" y="12833"/>
                  <a:pt x="15354" y="12898"/>
                </a:cubicBezTo>
                <a:cubicBezTo>
                  <a:pt x="15114" y="12946"/>
                  <a:pt x="14821" y="12989"/>
                  <a:pt x="14610" y="13122"/>
                </a:cubicBezTo>
                <a:cubicBezTo>
                  <a:pt x="14396" y="13257"/>
                  <a:pt x="14228" y="13599"/>
                  <a:pt x="14238" y="13841"/>
                </a:cubicBezTo>
                <a:cubicBezTo>
                  <a:pt x="14247" y="14060"/>
                  <a:pt x="14381" y="14073"/>
                  <a:pt x="14560" y="14114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6960" y="1803240"/>
            <a:ext cx="2909880" cy="3527640"/>
          </a:xfrm>
          <a:custGeom>
            <a:avLst/>
            <a:gdLst/>
            <a:ahLst/>
            <a:rect l="l" t="t" r="r" b="b"/>
            <a:pathLst>
              <a:path w="8087" h="9798">
                <a:moveTo>
                  <a:pt x="13816" y="5209"/>
                </a:moveTo>
                <a:cubicBezTo>
                  <a:pt x="13721" y="5114"/>
                  <a:pt x="13467" y="5157"/>
                  <a:pt x="13320" y="5259"/>
                </a:cubicBezTo>
                <a:cubicBezTo>
                  <a:pt x="13304" y="5284"/>
                  <a:pt x="13287" y="5308"/>
                  <a:pt x="13271" y="5333"/>
                </a:cubicBezTo>
                <a:cubicBezTo>
                  <a:pt x="13420" y="5447"/>
                  <a:pt x="13801" y="5549"/>
                  <a:pt x="13667" y="5779"/>
                </a:cubicBezTo>
                <a:cubicBezTo>
                  <a:pt x="13626" y="5812"/>
                  <a:pt x="13584" y="5846"/>
                  <a:pt x="13543" y="5879"/>
                </a:cubicBezTo>
                <a:cubicBezTo>
                  <a:pt x="13280" y="5879"/>
                  <a:pt x="13571" y="5580"/>
                  <a:pt x="13667" y="5457"/>
                </a:cubicBezTo>
                <a:cubicBezTo>
                  <a:pt x="13761" y="5344"/>
                  <a:pt x="13782" y="5335"/>
                  <a:pt x="13816" y="5259"/>
                </a:cubicBezTo>
              </a:path>
              <a:path w="8087" h="9798">
                <a:moveTo>
                  <a:pt x="14560" y="5035"/>
                </a:moveTo>
                <a:cubicBezTo>
                  <a:pt x="14540" y="5218"/>
                  <a:pt x="14524" y="5373"/>
                  <a:pt x="14536" y="5556"/>
                </a:cubicBezTo>
                <a:cubicBezTo>
                  <a:pt x="14536" y="5564"/>
                  <a:pt x="14536" y="5573"/>
                  <a:pt x="14536" y="5581"/>
                </a:cubicBezTo>
              </a:path>
              <a:path w="8087" h="9798">
                <a:moveTo>
                  <a:pt x="14932" y="5035"/>
                </a:moveTo>
                <a:cubicBezTo>
                  <a:pt x="15117" y="5036"/>
                  <a:pt x="15338" y="5133"/>
                  <a:pt x="15205" y="5383"/>
                </a:cubicBezTo>
                <a:cubicBezTo>
                  <a:pt x="15117" y="5549"/>
                  <a:pt x="14980" y="5556"/>
                  <a:pt x="14833" y="5556"/>
                </a:cubicBezTo>
                <a:cubicBezTo>
                  <a:pt x="14906" y="5411"/>
                  <a:pt x="14992" y="5346"/>
                  <a:pt x="15156" y="5457"/>
                </a:cubicBezTo>
                <a:cubicBezTo>
                  <a:pt x="15197" y="5499"/>
                  <a:pt x="15205" y="5507"/>
                  <a:pt x="15230" y="5531"/>
                </a:cubicBezTo>
              </a:path>
              <a:path w="8087" h="9798">
                <a:moveTo>
                  <a:pt x="15627" y="5011"/>
                </a:moveTo>
                <a:cubicBezTo>
                  <a:pt x="15584" y="5074"/>
                  <a:pt x="15568" y="5086"/>
                  <a:pt x="15577" y="5135"/>
                </a:cubicBezTo>
                <a:cubicBezTo>
                  <a:pt x="15725" y="5213"/>
                  <a:pt x="15825" y="5258"/>
                  <a:pt x="15900" y="5407"/>
                </a:cubicBezTo>
                <a:cubicBezTo>
                  <a:pt x="15789" y="5582"/>
                  <a:pt x="15799" y="5512"/>
                  <a:pt x="15577" y="5457"/>
                </a:cubicBezTo>
              </a:path>
              <a:path w="8087" h="9798">
                <a:moveTo>
                  <a:pt x="13295" y="5904"/>
                </a:moveTo>
                <a:cubicBezTo>
                  <a:pt x="13324" y="6043"/>
                  <a:pt x="13427" y="6165"/>
                  <a:pt x="13469" y="6300"/>
                </a:cubicBezTo>
                <a:cubicBezTo>
                  <a:pt x="13490" y="6424"/>
                  <a:pt x="13498" y="6448"/>
                  <a:pt x="13494" y="6524"/>
                </a:cubicBezTo>
              </a:path>
              <a:path w="8087" h="9798">
                <a:moveTo>
                  <a:pt x="13618" y="5928"/>
                </a:moveTo>
                <a:cubicBezTo>
                  <a:pt x="13480" y="6108"/>
                  <a:pt x="13349" y="6319"/>
                  <a:pt x="13246" y="6524"/>
                </a:cubicBezTo>
                <a:cubicBezTo>
                  <a:pt x="13238" y="6549"/>
                  <a:pt x="13229" y="6573"/>
                  <a:pt x="13221" y="6598"/>
                </a:cubicBezTo>
              </a:path>
              <a:path w="8087" h="9798">
                <a:moveTo>
                  <a:pt x="14436" y="9401"/>
                </a:moveTo>
                <a:cubicBezTo>
                  <a:pt x="14527" y="9341"/>
                  <a:pt x="14438" y="9775"/>
                  <a:pt x="14436" y="9798"/>
                </a:cubicBezTo>
                <a:cubicBezTo>
                  <a:pt x="14424" y="9909"/>
                  <a:pt x="14379" y="10046"/>
                  <a:pt x="14412" y="10046"/>
                </a:cubicBezTo>
              </a:path>
              <a:path w="8087" h="9798">
                <a:moveTo>
                  <a:pt x="14808" y="9351"/>
                </a:moveTo>
                <a:cubicBezTo>
                  <a:pt x="14863" y="9334"/>
                  <a:pt x="14951" y="9258"/>
                  <a:pt x="15032" y="9227"/>
                </a:cubicBezTo>
                <a:cubicBezTo>
                  <a:pt x="15151" y="9467"/>
                  <a:pt x="15171" y="9694"/>
                  <a:pt x="14908" y="9872"/>
                </a:cubicBezTo>
                <a:cubicBezTo>
                  <a:pt x="14802" y="9893"/>
                  <a:pt x="14774" y="9915"/>
                  <a:pt x="14734" y="9847"/>
                </a:cubicBezTo>
                <a:cubicBezTo>
                  <a:pt x="14845" y="9696"/>
                  <a:pt x="14956" y="9591"/>
                  <a:pt x="15131" y="9748"/>
                </a:cubicBezTo>
                <a:cubicBezTo>
                  <a:pt x="15174" y="9813"/>
                  <a:pt x="15185" y="9828"/>
                  <a:pt x="15205" y="9872"/>
                </a:cubicBezTo>
              </a:path>
              <a:path w="8087" h="9798">
                <a:moveTo>
                  <a:pt x="15553" y="9252"/>
                </a:moveTo>
                <a:cubicBezTo>
                  <a:pt x="15621" y="9218"/>
                  <a:pt x="15681" y="9134"/>
                  <a:pt x="15776" y="9103"/>
                </a:cubicBezTo>
                <a:cubicBezTo>
                  <a:pt x="15887" y="9067"/>
                  <a:pt x="15986" y="9043"/>
                  <a:pt x="16098" y="9029"/>
                </a:cubicBezTo>
                <a:cubicBezTo>
                  <a:pt x="16098" y="9228"/>
                  <a:pt x="16082" y="9430"/>
                  <a:pt x="16049" y="9624"/>
                </a:cubicBezTo>
                <a:cubicBezTo>
                  <a:pt x="16030" y="9682"/>
                  <a:pt x="16003" y="9707"/>
                  <a:pt x="16049" y="9699"/>
                </a:cubicBezTo>
              </a:path>
              <a:path w="8087" h="9798">
                <a:moveTo>
                  <a:pt x="13543" y="10492"/>
                </a:moveTo>
                <a:cubicBezTo>
                  <a:pt x="13647" y="10518"/>
                  <a:pt x="13722" y="10664"/>
                  <a:pt x="13791" y="10740"/>
                </a:cubicBezTo>
                <a:cubicBezTo>
                  <a:pt x="13849" y="10803"/>
                  <a:pt x="13866" y="10857"/>
                  <a:pt x="13866" y="10840"/>
                </a:cubicBezTo>
              </a:path>
              <a:path w="8087" h="9798">
                <a:moveTo>
                  <a:pt x="13816" y="10443"/>
                </a:moveTo>
                <a:cubicBezTo>
                  <a:pt x="13816" y="10341"/>
                  <a:pt x="13741" y="10577"/>
                  <a:pt x="13692" y="10666"/>
                </a:cubicBezTo>
                <a:cubicBezTo>
                  <a:pt x="13638" y="10764"/>
                  <a:pt x="13644" y="10866"/>
                  <a:pt x="13543" y="10914"/>
                </a:cubicBezTo>
              </a:path>
              <a:path w="8087" h="9798">
                <a:moveTo>
                  <a:pt x="15007" y="10393"/>
                </a:moveTo>
                <a:cubicBezTo>
                  <a:pt x="15007" y="10285"/>
                  <a:pt x="15007" y="10558"/>
                  <a:pt x="15007" y="10666"/>
                </a:cubicBezTo>
                <a:cubicBezTo>
                  <a:pt x="15007" y="10781"/>
                  <a:pt x="15007" y="11079"/>
                  <a:pt x="15007" y="10964"/>
                </a:cubicBezTo>
              </a:path>
              <a:path w="8087" h="9798">
                <a:moveTo>
                  <a:pt x="15701" y="10344"/>
                </a:moveTo>
                <a:cubicBezTo>
                  <a:pt x="15701" y="10508"/>
                  <a:pt x="15703" y="10526"/>
                  <a:pt x="15875" y="10492"/>
                </a:cubicBezTo>
                <a:cubicBezTo>
                  <a:pt x="15981" y="10466"/>
                  <a:pt x="16020" y="10454"/>
                  <a:pt x="16073" y="10393"/>
                </a:cubicBezTo>
              </a:path>
              <a:path w="8087" h="9798">
                <a:moveTo>
                  <a:pt x="16049" y="10120"/>
                </a:moveTo>
                <a:cubicBezTo>
                  <a:pt x="16049" y="10345"/>
                  <a:pt x="16070" y="10572"/>
                  <a:pt x="16049" y="10790"/>
                </a:cubicBezTo>
              </a:path>
              <a:path w="8087" h="9798">
                <a:moveTo>
                  <a:pt x="14015" y="11559"/>
                </a:moveTo>
                <a:cubicBezTo>
                  <a:pt x="14462" y="11379"/>
                  <a:pt x="14885" y="11212"/>
                  <a:pt x="15354" y="11088"/>
                </a:cubicBezTo>
                <a:cubicBezTo>
                  <a:pt x="15723" y="10990"/>
                  <a:pt x="16098" y="10923"/>
                  <a:pt x="16470" y="10840"/>
                </a:cubicBezTo>
              </a:path>
              <a:path w="8087" h="9798">
                <a:moveTo>
                  <a:pt x="16297" y="11038"/>
                </a:moveTo>
                <a:cubicBezTo>
                  <a:pt x="16190" y="11114"/>
                  <a:pt x="16033" y="11163"/>
                  <a:pt x="15999" y="11311"/>
                </a:cubicBezTo>
                <a:cubicBezTo>
                  <a:pt x="15987" y="11363"/>
                  <a:pt x="16258" y="11542"/>
                  <a:pt x="16297" y="11584"/>
                </a:cubicBezTo>
                <a:cubicBezTo>
                  <a:pt x="16280" y="11600"/>
                  <a:pt x="16264" y="11617"/>
                  <a:pt x="16247" y="11633"/>
                </a:cubicBezTo>
                <a:cubicBezTo>
                  <a:pt x="16102" y="11660"/>
                  <a:pt x="16085" y="11587"/>
                  <a:pt x="16148" y="11435"/>
                </a:cubicBezTo>
                <a:cubicBezTo>
                  <a:pt x="16183" y="11350"/>
                  <a:pt x="16249" y="11238"/>
                  <a:pt x="16297" y="11162"/>
                </a:cubicBezTo>
              </a:path>
              <a:path w="8087" h="9798">
                <a:moveTo>
                  <a:pt x="14833" y="8781"/>
                </a:moveTo>
                <a:cubicBezTo>
                  <a:pt x="14857" y="8663"/>
                  <a:pt x="14908" y="8673"/>
                  <a:pt x="15007" y="8682"/>
                </a:cubicBezTo>
                <a:cubicBezTo>
                  <a:pt x="15025" y="8799"/>
                  <a:pt x="15024" y="8980"/>
                  <a:pt x="14858" y="9004"/>
                </a:cubicBezTo>
                <a:cubicBezTo>
                  <a:pt x="14781" y="8984"/>
                  <a:pt x="14763" y="8992"/>
                  <a:pt x="14734" y="8954"/>
                </a:cubicBezTo>
                <a:cubicBezTo>
                  <a:pt x="14843" y="8954"/>
                  <a:pt x="14947" y="8934"/>
                  <a:pt x="15056" y="8930"/>
                </a:cubicBezTo>
                <a:cubicBezTo>
                  <a:pt x="15101" y="8930"/>
                  <a:pt x="15114" y="8933"/>
                  <a:pt x="15131" y="8905"/>
                </a:cubicBezTo>
              </a:path>
              <a:path w="8087" h="9798">
                <a:moveTo>
                  <a:pt x="15379" y="11261"/>
                </a:moveTo>
                <a:cubicBezTo>
                  <a:pt x="15301" y="11417"/>
                  <a:pt x="15172" y="11654"/>
                  <a:pt x="15180" y="11832"/>
                </a:cubicBezTo>
                <a:cubicBezTo>
                  <a:pt x="15197" y="11857"/>
                  <a:pt x="15213" y="11881"/>
                  <a:pt x="15230" y="11906"/>
                </a:cubicBezTo>
                <a:cubicBezTo>
                  <a:pt x="15440" y="11864"/>
                  <a:pt x="15583" y="11782"/>
                  <a:pt x="15503" y="11534"/>
                </a:cubicBezTo>
                <a:cubicBezTo>
                  <a:pt x="15468" y="11427"/>
                  <a:pt x="15340" y="11388"/>
                  <a:pt x="15255" y="11336"/>
                </a:cubicBezTo>
              </a:path>
              <a:path w="8087" h="9798">
                <a:moveTo>
                  <a:pt x="14188" y="8855"/>
                </a:moveTo>
                <a:cubicBezTo>
                  <a:pt x="14188" y="8784"/>
                  <a:pt x="14212" y="9047"/>
                  <a:pt x="14213" y="9079"/>
                </a:cubicBezTo>
                <a:cubicBezTo>
                  <a:pt x="14213" y="9104"/>
                  <a:pt x="14213" y="9128"/>
                  <a:pt x="14213" y="9153"/>
                </a:cubicBezTo>
              </a:path>
              <a:path w="8087" h="9798">
                <a:moveTo>
                  <a:pt x="14610" y="11460"/>
                </a:moveTo>
                <a:cubicBezTo>
                  <a:pt x="14541" y="11475"/>
                  <a:pt x="14427" y="11512"/>
                  <a:pt x="14387" y="11584"/>
                </a:cubicBezTo>
                <a:cubicBezTo>
                  <a:pt x="14347" y="11656"/>
                  <a:pt x="14379" y="11708"/>
                  <a:pt x="14387" y="11782"/>
                </a:cubicBezTo>
                <a:cubicBezTo>
                  <a:pt x="14493" y="11761"/>
                  <a:pt x="14661" y="11641"/>
                  <a:pt x="14759" y="11757"/>
                </a:cubicBezTo>
                <a:cubicBezTo>
                  <a:pt x="14901" y="11925"/>
                  <a:pt x="14498" y="12061"/>
                  <a:pt x="14412" y="12080"/>
                </a:cubicBezTo>
                <a:cubicBezTo>
                  <a:pt x="14370" y="12080"/>
                  <a:pt x="14354" y="12088"/>
                  <a:pt x="14362" y="12055"/>
                </a:cubicBezTo>
              </a:path>
              <a:path w="8087" h="9798">
                <a:moveTo>
                  <a:pt x="16222" y="11956"/>
                </a:moveTo>
                <a:cubicBezTo>
                  <a:pt x="16118" y="12089"/>
                  <a:pt x="16085" y="12182"/>
                  <a:pt x="16073" y="12353"/>
                </a:cubicBezTo>
                <a:cubicBezTo>
                  <a:pt x="16249" y="12382"/>
                  <a:pt x="16329" y="12308"/>
                  <a:pt x="16371" y="12129"/>
                </a:cubicBezTo>
                <a:cubicBezTo>
                  <a:pt x="16398" y="12016"/>
                  <a:pt x="16255" y="12037"/>
                  <a:pt x="16173" y="12030"/>
                </a:cubicBezTo>
              </a:path>
              <a:path w="8087" h="9798">
                <a:moveTo>
                  <a:pt x="15379" y="12229"/>
                </a:moveTo>
                <a:cubicBezTo>
                  <a:pt x="15318" y="12229"/>
                  <a:pt x="15443" y="12215"/>
                  <a:pt x="15503" y="12204"/>
                </a:cubicBezTo>
                <a:cubicBezTo>
                  <a:pt x="15567" y="12192"/>
                  <a:pt x="15617" y="12166"/>
                  <a:pt x="15677" y="12154"/>
                </a:cubicBezTo>
                <a:cubicBezTo>
                  <a:pt x="15677" y="12282"/>
                  <a:pt x="15658" y="12380"/>
                  <a:pt x="15627" y="12502"/>
                </a:cubicBezTo>
                <a:cubicBezTo>
                  <a:pt x="15627" y="12526"/>
                  <a:pt x="15627" y="12534"/>
                  <a:pt x="15602" y="12526"/>
                </a:cubicBezTo>
              </a:path>
              <a:path w="8087" h="9798">
                <a:moveTo>
                  <a:pt x="14536" y="12502"/>
                </a:moveTo>
                <a:cubicBezTo>
                  <a:pt x="14528" y="12502"/>
                  <a:pt x="14519" y="12502"/>
                  <a:pt x="14511" y="12502"/>
                </a:cubicBezTo>
                <a:cubicBezTo>
                  <a:pt x="14546" y="12431"/>
                  <a:pt x="14675" y="12425"/>
                  <a:pt x="14734" y="12502"/>
                </a:cubicBezTo>
                <a:cubicBezTo>
                  <a:pt x="14869" y="12678"/>
                  <a:pt x="14629" y="12831"/>
                  <a:pt x="14486" y="12849"/>
                </a:cubicBezTo>
                <a:cubicBezTo>
                  <a:pt x="14469" y="12841"/>
                  <a:pt x="14453" y="12832"/>
                  <a:pt x="14436" y="12824"/>
                </a:cubicBezTo>
                <a:cubicBezTo>
                  <a:pt x="14519" y="12713"/>
                  <a:pt x="14594" y="12687"/>
                  <a:pt x="14734" y="12725"/>
                </a:cubicBezTo>
                <a:cubicBezTo>
                  <a:pt x="14751" y="12733"/>
                  <a:pt x="14767" y="12742"/>
                  <a:pt x="14784" y="12750"/>
                </a:cubicBezTo>
              </a:path>
              <a:path w="8087" h="9798">
                <a:moveTo>
                  <a:pt x="13643" y="12626"/>
                </a:moveTo>
                <a:cubicBezTo>
                  <a:pt x="13718" y="12720"/>
                  <a:pt x="13727" y="12855"/>
                  <a:pt x="13742" y="12973"/>
                </a:cubicBezTo>
                <a:cubicBezTo>
                  <a:pt x="13742" y="13014"/>
                  <a:pt x="13734" y="13030"/>
                  <a:pt x="13767" y="13022"/>
                </a:cubicBezTo>
              </a:path>
              <a:path w="8087" h="9798">
                <a:moveTo>
                  <a:pt x="13543" y="13320"/>
                </a:moveTo>
                <a:cubicBezTo>
                  <a:pt x="13884" y="13261"/>
                  <a:pt x="14218" y="13182"/>
                  <a:pt x="14560" y="13122"/>
                </a:cubicBezTo>
                <a:cubicBezTo>
                  <a:pt x="15097" y="13028"/>
                  <a:pt x="15640" y="12966"/>
                  <a:pt x="16173" y="12849"/>
                </a:cubicBezTo>
                <a:cubicBezTo>
                  <a:pt x="16230" y="12830"/>
                  <a:pt x="16237" y="12821"/>
                  <a:pt x="16272" y="12824"/>
                </a:cubicBezTo>
              </a:path>
              <a:path w="8087" h="9798">
                <a:moveTo>
                  <a:pt x="16446" y="12898"/>
                </a:moveTo>
                <a:cubicBezTo>
                  <a:pt x="16330" y="12917"/>
                  <a:pt x="16196" y="12977"/>
                  <a:pt x="16148" y="13097"/>
                </a:cubicBezTo>
                <a:cubicBezTo>
                  <a:pt x="16066" y="13302"/>
                  <a:pt x="16400" y="13253"/>
                  <a:pt x="16470" y="13370"/>
                </a:cubicBezTo>
                <a:cubicBezTo>
                  <a:pt x="16470" y="13395"/>
                  <a:pt x="16470" y="13419"/>
                  <a:pt x="16470" y="13444"/>
                </a:cubicBezTo>
                <a:cubicBezTo>
                  <a:pt x="16392" y="13444"/>
                  <a:pt x="16318" y="13449"/>
                  <a:pt x="16346" y="13320"/>
                </a:cubicBezTo>
                <a:cubicBezTo>
                  <a:pt x="16368" y="13218"/>
                  <a:pt x="16534" y="13072"/>
                  <a:pt x="16520" y="12973"/>
                </a:cubicBezTo>
                <a:cubicBezTo>
                  <a:pt x="16512" y="12973"/>
                  <a:pt x="16503" y="12973"/>
                  <a:pt x="16495" y="12973"/>
                </a:cubicBezTo>
              </a:path>
              <a:path w="8087" h="9798">
                <a:moveTo>
                  <a:pt x="15701" y="13345"/>
                </a:moveTo>
                <a:cubicBezTo>
                  <a:pt x="15631" y="13308"/>
                  <a:pt x="15869" y="13272"/>
                  <a:pt x="15875" y="13271"/>
                </a:cubicBezTo>
                <a:cubicBezTo>
                  <a:pt x="16045" y="13250"/>
                  <a:pt x="15956" y="13447"/>
                  <a:pt x="15949" y="13543"/>
                </a:cubicBezTo>
                <a:cubicBezTo>
                  <a:pt x="15945" y="13599"/>
                  <a:pt x="15949" y="13660"/>
                  <a:pt x="15949" y="13717"/>
                </a:cubicBezTo>
              </a:path>
              <a:path w="8087" h="9798">
                <a:moveTo>
                  <a:pt x="14908" y="13543"/>
                </a:moveTo>
                <a:cubicBezTo>
                  <a:pt x="15011" y="13526"/>
                  <a:pt x="15076" y="13483"/>
                  <a:pt x="15156" y="13419"/>
                </a:cubicBezTo>
                <a:cubicBezTo>
                  <a:pt x="15222" y="13544"/>
                  <a:pt x="15230" y="13624"/>
                  <a:pt x="15230" y="13767"/>
                </a:cubicBezTo>
                <a:cubicBezTo>
                  <a:pt x="15230" y="13775"/>
                  <a:pt x="15230" y="13783"/>
                  <a:pt x="15230" y="13791"/>
                </a:cubicBezTo>
              </a:path>
              <a:path w="8087" h="9798">
                <a:moveTo>
                  <a:pt x="14362" y="13593"/>
                </a:moveTo>
                <a:cubicBezTo>
                  <a:pt x="14400" y="13517"/>
                  <a:pt x="14456" y="13771"/>
                  <a:pt x="14461" y="13791"/>
                </a:cubicBezTo>
                <a:cubicBezTo>
                  <a:pt x="14485" y="13893"/>
                  <a:pt x="14441" y="14022"/>
                  <a:pt x="14536" y="13990"/>
                </a:cubicBezTo>
              </a:path>
              <a:path w="8087" h="9798">
                <a:moveTo>
                  <a:pt x="15503" y="13742"/>
                </a:moveTo>
                <a:cubicBezTo>
                  <a:pt x="15510" y="13777"/>
                  <a:pt x="15517" y="13875"/>
                  <a:pt x="15577" y="13841"/>
                </a:cubicBezTo>
                <a:cubicBezTo>
                  <a:pt x="15594" y="13824"/>
                  <a:pt x="15610" y="13808"/>
                  <a:pt x="15627" y="13791"/>
                </a:cubicBezTo>
                <a:cubicBezTo>
                  <a:pt x="15586" y="13759"/>
                  <a:pt x="15415" y="13732"/>
                  <a:pt x="15503" y="13841"/>
                </a:cubicBezTo>
                <a:cubicBezTo>
                  <a:pt x="15516" y="13857"/>
                  <a:pt x="15638" y="13857"/>
                  <a:pt x="15553" y="13791"/>
                </a:cubicBezTo>
              </a:path>
              <a:path w="8087" h="9798">
                <a:moveTo>
                  <a:pt x="12402" y="9054"/>
                </a:moveTo>
                <a:cubicBezTo>
                  <a:pt x="12460" y="8971"/>
                  <a:pt x="12364" y="9020"/>
                  <a:pt x="12452" y="8979"/>
                </a:cubicBezTo>
                <a:cubicBezTo>
                  <a:pt x="12653" y="8887"/>
                  <a:pt x="12934" y="8834"/>
                  <a:pt x="13146" y="8781"/>
                </a:cubicBezTo>
                <a:cubicBezTo>
                  <a:pt x="13543" y="8682"/>
                  <a:pt x="13960" y="8612"/>
                  <a:pt x="14362" y="8533"/>
                </a:cubicBezTo>
                <a:cubicBezTo>
                  <a:pt x="14703" y="8466"/>
                  <a:pt x="15043" y="8423"/>
                  <a:pt x="15379" y="8334"/>
                </a:cubicBezTo>
                <a:cubicBezTo>
                  <a:pt x="15594" y="8277"/>
                  <a:pt x="15845" y="8224"/>
                  <a:pt x="16049" y="8136"/>
                </a:cubicBezTo>
                <a:cubicBezTo>
                  <a:pt x="16211" y="8066"/>
                  <a:pt x="16363" y="7918"/>
                  <a:pt x="16446" y="7764"/>
                </a:cubicBezTo>
                <a:cubicBezTo>
                  <a:pt x="16523" y="7621"/>
                  <a:pt x="16567" y="7432"/>
                  <a:pt x="16446" y="7293"/>
                </a:cubicBezTo>
                <a:cubicBezTo>
                  <a:pt x="16326" y="7155"/>
                  <a:pt x="16139" y="7101"/>
                  <a:pt x="15974" y="7045"/>
                </a:cubicBezTo>
                <a:cubicBezTo>
                  <a:pt x="15710" y="6955"/>
                  <a:pt x="15504" y="6871"/>
                  <a:pt x="15230" y="6821"/>
                </a:cubicBezTo>
                <a:cubicBezTo>
                  <a:pt x="15043" y="6787"/>
                  <a:pt x="14850" y="6775"/>
                  <a:pt x="14660" y="6772"/>
                </a:cubicBezTo>
                <a:cubicBezTo>
                  <a:pt x="14456" y="6768"/>
                  <a:pt x="14239" y="6804"/>
                  <a:pt x="14039" y="6846"/>
                </a:cubicBezTo>
                <a:cubicBezTo>
                  <a:pt x="13790" y="6898"/>
                  <a:pt x="13556" y="6976"/>
                  <a:pt x="13320" y="7069"/>
                </a:cubicBezTo>
                <a:cubicBezTo>
                  <a:pt x="13159" y="7133"/>
                  <a:pt x="13024" y="7234"/>
                  <a:pt x="12874" y="7317"/>
                </a:cubicBezTo>
                <a:cubicBezTo>
                  <a:pt x="12645" y="7444"/>
                  <a:pt x="12373" y="7643"/>
                  <a:pt x="12353" y="7938"/>
                </a:cubicBezTo>
                <a:cubicBezTo>
                  <a:pt x="12328" y="8295"/>
                  <a:pt x="12748" y="8420"/>
                  <a:pt x="12998" y="8533"/>
                </a:cubicBezTo>
              </a:path>
              <a:path w="8087" h="9798">
                <a:moveTo>
                  <a:pt x="9227" y="14163"/>
                </a:moveTo>
                <a:cubicBezTo>
                  <a:pt x="9249" y="14098"/>
                  <a:pt x="9394" y="14065"/>
                  <a:pt x="9451" y="14163"/>
                </a:cubicBezTo>
                <a:cubicBezTo>
                  <a:pt x="9561" y="14354"/>
                  <a:pt x="9375" y="14504"/>
                  <a:pt x="9203" y="14511"/>
                </a:cubicBezTo>
                <a:cubicBezTo>
                  <a:pt x="9031" y="14518"/>
                  <a:pt x="9061" y="14468"/>
                  <a:pt x="9128" y="14412"/>
                </a:cubicBezTo>
                <a:cubicBezTo>
                  <a:pt x="9277" y="14401"/>
                  <a:pt x="9375" y="14471"/>
                  <a:pt x="9525" y="14511"/>
                </a:cubicBezTo>
                <a:cubicBezTo>
                  <a:pt x="9533" y="14511"/>
                  <a:pt x="9542" y="14511"/>
                  <a:pt x="9550" y="14511"/>
                </a:cubicBezTo>
              </a:path>
              <a:path w="8087" h="9798">
                <a:moveTo>
                  <a:pt x="8434" y="14163"/>
                </a:moveTo>
                <a:cubicBezTo>
                  <a:pt x="8481" y="14356"/>
                  <a:pt x="8483" y="14536"/>
                  <a:pt x="8483" y="14734"/>
                </a:cubicBezTo>
              </a:path>
              <a:path w="8087" h="9798">
                <a:moveTo>
                  <a:pt x="11559" y="14610"/>
                </a:moveTo>
                <a:cubicBezTo>
                  <a:pt x="11577" y="14574"/>
                  <a:pt x="11587" y="14569"/>
                  <a:pt x="11633" y="14560"/>
                </a:cubicBezTo>
                <a:cubicBezTo>
                  <a:pt x="11671" y="14648"/>
                  <a:pt x="11647" y="14710"/>
                  <a:pt x="11633" y="14808"/>
                </a:cubicBezTo>
                <a:cubicBezTo>
                  <a:pt x="11717" y="14802"/>
                  <a:pt x="11778" y="14790"/>
                  <a:pt x="11857" y="14759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33920" y="1571760"/>
            <a:ext cx="1152360" cy="1312560"/>
          </a:xfrm>
          <a:custGeom>
            <a:avLst/>
            <a:gdLst/>
            <a:ahLst/>
            <a:rect l="l" t="t" r="r" b="b"/>
            <a:pathLst>
              <a:path w="3200" h="3647">
                <a:moveTo>
                  <a:pt x="15503" y="5978"/>
                </a:moveTo>
                <a:cubicBezTo>
                  <a:pt x="15579" y="5959"/>
                  <a:pt x="15630" y="5909"/>
                  <a:pt x="15726" y="5928"/>
                </a:cubicBezTo>
                <a:cubicBezTo>
                  <a:pt x="15879" y="5959"/>
                  <a:pt x="15617" y="6165"/>
                  <a:pt x="15602" y="6176"/>
                </a:cubicBezTo>
                <a:cubicBezTo>
                  <a:pt x="15594" y="6176"/>
                  <a:pt x="15585" y="6176"/>
                  <a:pt x="15577" y="6176"/>
                </a:cubicBezTo>
                <a:cubicBezTo>
                  <a:pt x="15674" y="6160"/>
                  <a:pt x="15845" y="6108"/>
                  <a:pt x="15850" y="6276"/>
                </a:cubicBezTo>
                <a:cubicBezTo>
                  <a:pt x="15855" y="6420"/>
                  <a:pt x="15611" y="6484"/>
                  <a:pt x="15528" y="6524"/>
                </a:cubicBezTo>
              </a:path>
              <a:path w="3200" h="3647">
                <a:moveTo>
                  <a:pt x="13519" y="6896"/>
                </a:moveTo>
                <a:cubicBezTo>
                  <a:pt x="13920" y="6838"/>
                  <a:pt x="14333" y="6764"/>
                  <a:pt x="14734" y="6697"/>
                </a:cubicBezTo>
                <a:cubicBezTo>
                  <a:pt x="15153" y="6627"/>
                  <a:pt x="15527" y="6582"/>
                  <a:pt x="15949" y="6573"/>
                </a:cubicBezTo>
              </a:path>
              <a:path w="3200" h="3647">
                <a:moveTo>
                  <a:pt x="15949" y="6772"/>
                </a:moveTo>
                <a:cubicBezTo>
                  <a:pt x="15817" y="6813"/>
                  <a:pt x="15751" y="6847"/>
                  <a:pt x="15652" y="6945"/>
                </a:cubicBezTo>
                <a:cubicBezTo>
                  <a:pt x="15819" y="6983"/>
                  <a:pt x="15940" y="6992"/>
                  <a:pt x="16073" y="7094"/>
                </a:cubicBezTo>
                <a:cubicBezTo>
                  <a:pt x="16035" y="7287"/>
                  <a:pt x="15921" y="7367"/>
                  <a:pt x="15701" y="7342"/>
                </a:cubicBezTo>
                <a:cubicBezTo>
                  <a:pt x="15643" y="7326"/>
                  <a:pt x="15586" y="7309"/>
                  <a:pt x="15528" y="7293"/>
                </a:cubicBezTo>
              </a:path>
              <a:path w="3200" h="3647">
                <a:moveTo>
                  <a:pt x="15230" y="4366"/>
                </a:moveTo>
                <a:cubicBezTo>
                  <a:pt x="15202" y="4498"/>
                  <a:pt x="15180" y="4629"/>
                  <a:pt x="15156" y="4762"/>
                </a:cubicBezTo>
              </a:path>
              <a:path w="3200" h="3647">
                <a:moveTo>
                  <a:pt x="14858" y="7020"/>
                </a:moveTo>
                <a:cubicBezTo>
                  <a:pt x="14933" y="6964"/>
                  <a:pt x="15063" y="6995"/>
                  <a:pt x="15156" y="6995"/>
                </a:cubicBezTo>
                <a:cubicBezTo>
                  <a:pt x="15230" y="6995"/>
                  <a:pt x="15239" y="6995"/>
                  <a:pt x="15280" y="6995"/>
                </a:cubicBezTo>
                <a:cubicBezTo>
                  <a:pt x="15223" y="7163"/>
                  <a:pt x="15140" y="7309"/>
                  <a:pt x="15056" y="7466"/>
                </a:cubicBezTo>
              </a:path>
              <a:path w="3200" h="3647">
                <a:moveTo>
                  <a:pt x="14163" y="7218"/>
                </a:moveTo>
                <a:cubicBezTo>
                  <a:pt x="14225" y="7180"/>
                  <a:pt x="14439" y="7019"/>
                  <a:pt x="14486" y="7169"/>
                </a:cubicBezTo>
                <a:cubicBezTo>
                  <a:pt x="14511" y="7247"/>
                  <a:pt x="14346" y="7320"/>
                  <a:pt x="14312" y="7342"/>
                </a:cubicBezTo>
                <a:cubicBezTo>
                  <a:pt x="14370" y="7330"/>
                  <a:pt x="14517" y="7289"/>
                  <a:pt x="14536" y="7392"/>
                </a:cubicBezTo>
                <a:cubicBezTo>
                  <a:pt x="14582" y="7640"/>
                  <a:pt x="14195" y="7631"/>
                  <a:pt x="14064" y="7640"/>
                </a:cubicBezTo>
              </a:path>
              <a:path w="3200" h="3647">
                <a:moveTo>
                  <a:pt x="12948" y="7417"/>
                </a:moveTo>
                <a:cubicBezTo>
                  <a:pt x="13081" y="7358"/>
                  <a:pt x="13295" y="7292"/>
                  <a:pt x="13295" y="7541"/>
                </a:cubicBezTo>
                <a:cubicBezTo>
                  <a:pt x="13295" y="7792"/>
                  <a:pt x="13057" y="7848"/>
                  <a:pt x="12874" y="7838"/>
                </a:cubicBezTo>
                <a:cubicBezTo>
                  <a:pt x="12974" y="7666"/>
                  <a:pt x="13056" y="7650"/>
                  <a:pt x="13246" y="7714"/>
                </a:cubicBezTo>
                <a:cubicBezTo>
                  <a:pt x="13262" y="7722"/>
                  <a:pt x="13279" y="7731"/>
                  <a:pt x="13295" y="7739"/>
                </a:cubicBezTo>
              </a:path>
              <a:path w="3200" h="3647">
                <a:moveTo>
                  <a:pt x="13419" y="7342"/>
                </a:moveTo>
                <a:cubicBezTo>
                  <a:pt x="13419" y="7413"/>
                  <a:pt x="13380" y="7545"/>
                  <a:pt x="13469" y="7565"/>
                </a:cubicBezTo>
                <a:cubicBezTo>
                  <a:pt x="13572" y="7565"/>
                  <a:pt x="13608" y="7563"/>
                  <a:pt x="13667" y="7516"/>
                </a:cubicBezTo>
              </a:path>
              <a:path w="3200" h="3647">
                <a:moveTo>
                  <a:pt x="13593" y="7243"/>
                </a:moveTo>
                <a:cubicBezTo>
                  <a:pt x="13629" y="7430"/>
                  <a:pt x="13643" y="7599"/>
                  <a:pt x="13643" y="7789"/>
                </a:cubicBezTo>
                <a:cubicBezTo>
                  <a:pt x="13643" y="7822"/>
                  <a:pt x="13643" y="7871"/>
                  <a:pt x="13643" y="7838"/>
                </a:cubicBezTo>
              </a:path>
              <a:path w="3200" h="3647">
                <a:moveTo>
                  <a:pt x="13543" y="7962"/>
                </a:moveTo>
                <a:cubicBezTo>
                  <a:pt x="13499" y="7951"/>
                  <a:pt x="13472" y="7938"/>
                  <a:pt x="13419" y="7938"/>
                </a:cubicBezTo>
                <a:cubicBezTo>
                  <a:pt x="13360" y="7938"/>
                  <a:pt x="13340" y="7982"/>
                  <a:pt x="13370" y="8012"/>
                </a:cubicBezTo>
                <a:cubicBezTo>
                  <a:pt x="13406" y="7953"/>
                  <a:pt x="13393" y="7908"/>
                  <a:pt x="13345" y="7962"/>
                </a:cubicBezTo>
                <a:cubicBezTo>
                  <a:pt x="13316" y="7995"/>
                  <a:pt x="13426" y="8018"/>
                  <a:pt x="13395" y="7987"/>
                </a:cubicBezTo>
                <a:cubicBezTo>
                  <a:pt x="13387" y="7987"/>
                  <a:pt x="13378" y="7987"/>
                  <a:pt x="13370" y="7987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81160" y="5402160"/>
            <a:ext cx="2463840" cy="1295640"/>
          </a:xfrm>
          <a:custGeom>
            <a:avLst/>
            <a:gdLst/>
            <a:ahLst/>
            <a:rect l="l" t="t" r="r" b="b"/>
            <a:pathLst>
              <a:path w="6848" h="3598">
                <a:moveTo>
                  <a:pt x="7640" y="16942"/>
                </a:moveTo>
                <a:cubicBezTo>
                  <a:pt x="7914" y="16751"/>
                  <a:pt x="8254" y="16732"/>
                  <a:pt x="8582" y="16694"/>
                </a:cubicBezTo>
                <a:cubicBezTo>
                  <a:pt x="9268" y="16615"/>
                  <a:pt x="9954" y="16600"/>
                  <a:pt x="10641" y="16545"/>
                </a:cubicBezTo>
                <a:cubicBezTo>
                  <a:pt x="10707" y="16537"/>
                  <a:pt x="10774" y="16528"/>
                  <a:pt x="10840" y="16520"/>
                </a:cubicBezTo>
              </a:path>
              <a:path w="6848" h="3598">
                <a:moveTo>
                  <a:pt x="10468" y="16867"/>
                </a:moveTo>
                <a:cubicBezTo>
                  <a:pt x="10383" y="16888"/>
                  <a:pt x="10260" y="17063"/>
                  <a:pt x="10220" y="17140"/>
                </a:cubicBezTo>
                <a:cubicBezTo>
                  <a:pt x="10212" y="17173"/>
                  <a:pt x="10203" y="17206"/>
                  <a:pt x="10195" y="17239"/>
                </a:cubicBezTo>
                <a:cubicBezTo>
                  <a:pt x="10340" y="17294"/>
                  <a:pt x="10529" y="17246"/>
                  <a:pt x="10616" y="17090"/>
                </a:cubicBezTo>
                <a:cubicBezTo>
                  <a:pt x="10726" y="16891"/>
                  <a:pt x="10591" y="16833"/>
                  <a:pt x="10443" y="16793"/>
                </a:cubicBezTo>
              </a:path>
              <a:path w="6848" h="3598">
                <a:moveTo>
                  <a:pt x="9500" y="16966"/>
                </a:moveTo>
                <a:cubicBezTo>
                  <a:pt x="9492" y="16966"/>
                  <a:pt x="9483" y="16966"/>
                  <a:pt x="9475" y="16966"/>
                </a:cubicBezTo>
                <a:cubicBezTo>
                  <a:pt x="9530" y="16926"/>
                  <a:pt x="9657" y="16922"/>
                  <a:pt x="9723" y="16917"/>
                </a:cubicBezTo>
                <a:cubicBezTo>
                  <a:pt x="9756" y="16917"/>
                  <a:pt x="9790" y="16917"/>
                  <a:pt x="9823" y="16917"/>
                </a:cubicBezTo>
                <a:cubicBezTo>
                  <a:pt x="9803" y="17057"/>
                  <a:pt x="9775" y="17228"/>
                  <a:pt x="9723" y="17363"/>
                </a:cubicBezTo>
                <a:cubicBezTo>
                  <a:pt x="9701" y="17385"/>
                  <a:pt x="9690" y="17394"/>
                  <a:pt x="9723" y="17388"/>
                </a:cubicBezTo>
              </a:path>
              <a:path w="6848" h="3598">
                <a:moveTo>
                  <a:pt x="8905" y="17016"/>
                </a:moveTo>
                <a:cubicBezTo>
                  <a:pt x="8967" y="17058"/>
                  <a:pt x="8952" y="17253"/>
                  <a:pt x="8954" y="17338"/>
                </a:cubicBezTo>
                <a:cubicBezTo>
                  <a:pt x="8954" y="17437"/>
                  <a:pt x="8954" y="17454"/>
                  <a:pt x="8954" y="17512"/>
                </a:cubicBezTo>
              </a:path>
              <a:path w="6848" h="3598">
                <a:moveTo>
                  <a:pt x="8086" y="17190"/>
                </a:moveTo>
                <a:cubicBezTo>
                  <a:pt x="8067" y="17132"/>
                  <a:pt x="8027" y="17215"/>
                  <a:pt x="8012" y="17264"/>
                </a:cubicBezTo>
                <a:cubicBezTo>
                  <a:pt x="7987" y="17344"/>
                  <a:pt x="7933" y="17625"/>
                  <a:pt x="8086" y="17636"/>
                </a:cubicBezTo>
                <a:cubicBezTo>
                  <a:pt x="8257" y="17648"/>
                  <a:pt x="8426" y="17504"/>
                  <a:pt x="8434" y="17338"/>
                </a:cubicBezTo>
                <a:cubicBezTo>
                  <a:pt x="8443" y="17166"/>
                  <a:pt x="8280" y="17159"/>
                  <a:pt x="8161" y="17190"/>
                </a:cubicBezTo>
                <a:cubicBezTo>
                  <a:pt x="8144" y="17198"/>
                  <a:pt x="8128" y="17206"/>
                  <a:pt x="8111" y="17214"/>
                </a:cubicBezTo>
              </a:path>
              <a:path w="6848" h="3598">
                <a:moveTo>
                  <a:pt x="11931" y="15007"/>
                </a:moveTo>
                <a:cubicBezTo>
                  <a:pt x="11958" y="15100"/>
                  <a:pt x="12002" y="15219"/>
                  <a:pt x="12055" y="15304"/>
                </a:cubicBezTo>
                <a:cubicBezTo>
                  <a:pt x="12063" y="15312"/>
                  <a:pt x="12072" y="15321"/>
                  <a:pt x="12080" y="15329"/>
                </a:cubicBezTo>
              </a:path>
              <a:path w="6848" h="3598">
                <a:moveTo>
                  <a:pt x="11460" y="15825"/>
                </a:moveTo>
                <a:cubicBezTo>
                  <a:pt x="11775" y="15637"/>
                  <a:pt x="12079" y="15446"/>
                  <a:pt x="12427" y="15329"/>
                </a:cubicBezTo>
              </a:path>
              <a:path w="6848" h="3598">
                <a:moveTo>
                  <a:pt x="12254" y="15701"/>
                </a:moveTo>
                <a:cubicBezTo>
                  <a:pt x="12254" y="15757"/>
                  <a:pt x="12261" y="15833"/>
                  <a:pt x="12303" y="15875"/>
                </a:cubicBezTo>
                <a:cubicBezTo>
                  <a:pt x="12428" y="16000"/>
                  <a:pt x="12576" y="15872"/>
                  <a:pt x="12626" y="15751"/>
                </a:cubicBezTo>
                <a:cubicBezTo>
                  <a:pt x="12626" y="15743"/>
                  <a:pt x="12626" y="15734"/>
                  <a:pt x="12626" y="15726"/>
                </a:cubicBezTo>
                <a:cubicBezTo>
                  <a:pt x="12526" y="15792"/>
                  <a:pt x="12490" y="15830"/>
                  <a:pt x="12477" y="15949"/>
                </a:cubicBezTo>
              </a:path>
              <a:path w="6848" h="3598">
                <a:moveTo>
                  <a:pt x="7119" y="17338"/>
                </a:moveTo>
                <a:cubicBezTo>
                  <a:pt x="7048" y="17322"/>
                  <a:pt x="7012" y="17449"/>
                  <a:pt x="7020" y="17537"/>
                </a:cubicBezTo>
                <a:cubicBezTo>
                  <a:pt x="7038" y="17738"/>
                  <a:pt x="7227" y="17765"/>
                  <a:pt x="7367" y="17636"/>
                </a:cubicBezTo>
                <a:cubicBezTo>
                  <a:pt x="7507" y="17507"/>
                  <a:pt x="7487" y="17277"/>
                  <a:pt x="7293" y="17214"/>
                </a:cubicBezTo>
                <a:cubicBezTo>
                  <a:pt x="7162" y="17171"/>
                  <a:pt x="7068" y="17253"/>
                  <a:pt x="6970" y="17314"/>
                </a:cubicBezTo>
              </a:path>
              <a:path w="6848" h="3598">
                <a:moveTo>
                  <a:pt x="6350" y="17289"/>
                </a:moveTo>
                <a:cubicBezTo>
                  <a:pt x="6259" y="17289"/>
                  <a:pt x="6235" y="17379"/>
                  <a:pt x="6226" y="17462"/>
                </a:cubicBezTo>
                <a:cubicBezTo>
                  <a:pt x="6203" y="17673"/>
                  <a:pt x="6241" y="17795"/>
                  <a:pt x="6400" y="17909"/>
                </a:cubicBezTo>
                <a:cubicBezTo>
                  <a:pt x="6588" y="17842"/>
                  <a:pt x="6715" y="17701"/>
                  <a:pt x="6672" y="17462"/>
                </a:cubicBezTo>
                <a:cubicBezTo>
                  <a:pt x="6643" y="17298"/>
                  <a:pt x="6460" y="17242"/>
                  <a:pt x="6325" y="17314"/>
                </a:cubicBezTo>
                <a:cubicBezTo>
                  <a:pt x="6279" y="17360"/>
                  <a:pt x="6265" y="17372"/>
                  <a:pt x="6251" y="17413"/>
                </a:cubicBezTo>
              </a:path>
              <a:path w="6848" h="3598">
                <a:moveTo>
                  <a:pt x="8508" y="16470"/>
                </a:moveTo>
                <a:cubicBezTo>
                  <a:pt x="8508" y="16445"/>
                  <a:pt x="8508" y="16421"/>
                  <a:pt x="8508" y="16396"/>
                </a:cubicBezTo>
                <a:cubicBezTo>
                  <a:pt x="8508" y="16304"/>
                  <a:pt x="8514" y="16478"/>
                  <a:pt x="8533" y="16421"/>
                </a:cubicBezTo>
                <a:cubicBezTo>
                  <a:pt x="8533" y="16404"/>
                  <a:pt x="8533" y="16388"/>
                  <a:pt x="8533" y="16371"/>
                </a:cubicBezTo>
                <a:cubicBezTo>
                  <a:pt x="8533" y="16334"/>
                  <a:pt x="8488" y="16452"/>
                  <a:pt x="8508" y="16421"/>
                </a:cubicBezTo>
                <a:cubicBezTo>
                  <a:pt x="8528" y="16380"/>
                  <a:pt x="8547" y="16364"/>
                  <a:pt x="8508" y="16371"/>
                </a:cubicBezTo>
              </a:path>
              <a:path w="6848" h="3598">
                <a:moveTo>
                  <a:pt x="6945" y="17859"/>
                </a:moveTo>
                <a:cubicBezTo>
                  <a:pt x="6912" y="17852"/>
                  <a:pt x="6830" y="17809"/>
                  <a:pt x="6846" y="17884"/>
                </a:cubicBezTo>
                <a:cubicBezTo>
                  <a:pt x="6861" y="17953"/>
                  <a:pt x="6857" y="18009"/>
                  <a:pt x="6896" y="17983"/>
                </a:cubicBezTo>
                <a:cubicBezTo>
                  <a:pt x="6939" y="17887"/>
                  <a:pt x="6959" y="17913"/>
                  <a:pt x="6896" y="17835"/>
                </a:cubicBezTo>
                <a:cubicBezTo>
                  <a:pt x="6860" y="17762"/>
                  <a:pt x="6889" y="17948"/>
                  <a:pt x="6896" y="17983"/>
                </a:cubicBezTo>
                <a:cubicBezTo>
                  <a:pt x="6914" y="18074"/>
                  <a:pt x="6932" y="17915"/>
                  <a:pt x="6921" y="17884"/>
                </a:cubicBezTo>
                <a:cubicBezTo>
                  <a:pt x="6888" y="17792"/>
                  <a:pt x="6892" y="17963"/>
                  <a:pt x="6896" y="17983"/>
                </a:cubicBezTo>
              </a:path>
              <a:path w="6848" h="3598">
                <a:moveTo>
                  <a:pt x="5904" y="18355"/>
                </a:moveTo>
                <a:cubicBezTo>
                  <a:pt x="5996" y="18412"/>
                  <a:pt x="6032" y="18452"/>
                  <a:pt x="6176" y="18479"/>
                </a:cubicBezTo>
                <a:cubicBezTo>
                  <a:pt x="6548" y="18549"/>
                  <a:pt x="6939" y="18598"/>
                  <a:pt x="7317" y="18604"/>
                </a:cubicBezTo>
                <a:cubicBezTo>
                  <a:pt x="7642" y="18609"/>
                  <a:pt x="7963" y="18594"/>
                  <a:pt x="8285" y="18579"/>
                </a:cubicBezTo>
                <a:cubicBezTo>
                  <a:pt x="8557" y="18567"/>
                  <a:pt x="8832" y="18552"/>
                  <a:pt x="9103" y="18529"/>
                </a:cubicBezTo>
                <a:cubicBezTo>
                  <a:pt x="9328" y="18510"/>
                  <a:pt x="9555" y="18460"/>
                  <a:pt x="9773" y="18405"/>
                </a:cubicBezTo>
                <a:cubicBezTo>
                  <a:pt x="9985" y="18352"/>
                  <a:pt x="10214" y="18306"/>
                  <a:pt x="10418" y="18231"/>
                </a:cubicBezTo>
                <a:cubicBezTo>
                  <a:pt x="10632" y="18153"/>
                  <a:pt x="10834" y="18068"/>
                  <a:pt x="11013" y="17934"/>
                </a:cubicBezTo>
                <a:cubicBezTo>
                  <a:pt x="11101" y="17868"/>
                  <a:pt x="11217" y="17798"/>
                  <a:pt x="11286" y="17711"/>
                </a:cubicBezTo>
                <a:cubicBezTo>
                  <a:pt x="11365" y="17611"/>
                  <a:pt x="11432" y="17466"/>
                  <a:pt x="11435" y="17338"/>
                </a:cubicBezTo>
                <a:cubicBezTo>
                  <a:pt x="11437" y="17223"/>
                  <a:pt x="11346" y="17089"/>
                  <a:pt x="11286" y="16991"/>
                </a:cubicBezTo>
                <a:cubicBezTo>
                  <a:pt x="11223" y="16888"/>
                  <a:pt x="11137" y="16848"/>
                  <a:pt x="11063" y="16768"/>
                </a:cubicBezTo>
                <a:cubicBezTo>
                  <a:pt x="11008" y="16708"/>
                  <a:pt x="10965" y="16636"/>
                  <a:pt x="10889" y="16594"/>
                </a:cubicBezTo>
                <a:cubicBezTo>
                  <a:pt x="10818" y="16554"/>
                  <a:pt x="10741" y="16524"/>
                  <a:pt x="10666" y="16495"/>
                </a:cubicBezTo>
                <a:cubicBezTo>
                  <a:pt x="10559" y="16453"/>
                  <a:pt x="10478" y="16459"/>
                  <a:pt x="10368" y="16446"/>
                </a:cubicBezTo>
                <a:cubicBezTo>
                  <a:pt x="10255" y="16433"/>
                  <a:pt x="10133" y="16415"/>
                  <a:pt x="10021" y="16396"/>
                </a:cubicBezTo>
                <a:cubicBezTo>
                  <a:pt x="9831" y="16364"/>
                  <a:pt x="9644" y="16371"/>
                  <a:pt x="9451" y="16371"/>
                </a:cubicBezTo>
                <a:cubicBezTo>
                  <a:pt x="9257" y="16371"/>
                  <a:pt x="9071" y="16358"/>
                  <a:pt x="8880" y="16346"/>
                </a:cubicBezTo>
                <a:cubicBezTo>
                  <a:pt x="8691" y="16334"/>
                  <a:pt x="8521" y="16335"/>
                  <a:pt x="8334" y="16346"/>
                </a:cubicBezTo>
                <a:cubicBezTo>
                  <a:pt x="8149" y="16357"/>
                  <a:pt x="7973" y="16339"/>
                  <a:pt x="7789" y="16371"/>
                </a:cubicBezTo>
                <a:cubicBezTo>
                  <a:pt x="7624" y="16400"/>
                  <a:pt x="7459" y="16415"/>
                  <a:pt x="7293" y="16446"/>
                </a:cubicBezTo>
                <a:cubicBezTo>
                  <a:pt x="7088" y="16484"/>
                  <a:pt x="6888" y="16512"/>
                  <a:pt x="6697" y="16594"/>
                </a:cubicBezTo>
                <a:cubicBezTo>
                  <a:pt x="6556" y="16655"/>
                  <a:pt x="6412" y="16723"/>
                  <a:pt x="6276" y="16793"/>
                </a:cubicBezTo>
                <a:cubicBezTo>
                  <a:pt x="6117" y="16875"/>
                  <a:pt x="5955" y="16997"/>
                  <a:pt x="5879" y="17165"/>
                </a:cubicBezTo>
                <a:cubicBezTo>
                  <a:pt x="5833" y="17267"/>
                  <a:pt x="5769" y="17474"/>
                  <a:pt x="5779" y="17587"/>
                </a:cubicBezTo>
                <a:cubicBezTo>
                  <a:pt x="5791" y="17716"/>
                  <a:pt x="5882" y="17768"/>
                  <a:pt x="5953" y="17859"/>
                </a:cubicBezTo>
                <a:cubicBezTo>
                  <a:pt x="6016" y="17940"/>
                  <a:pt x="6082" y="17963"/>
                  <a:pt x="6152" y="18033"/>
                </a:cubicBezTo>
                <a:cubicBezTo>
                  <a:pt x="6201" y="18082"/>
                  <a:pt x="6262" y="18126"/>
                  <a:pt x="6300" y="18157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5438880"/>
            <a:ext cx="1019160" cy="115920"/>
          </a:xfrm>
          <a:custGeom>
            <a:avLst/>
            <a:gdLst/>
            <a:ahLst/>
            <a:rect l="l" t="t" r="r" b="b"/>
            <a:pathLst>
              <a:path w="2829" h="324">
                <a:moveTo>
                  <a:pt x="9103" y="15280"/>
                </a:moveTo>
                <a:cubicBezTo>
                  <a:pt x="9120" y="15272"/>
                  <a:pt x="9136" y="15263"/>
                  <a:pt x="9153" y="15255"/>
                </a:cubicBezTo>
              </a:path>
              <a:path w="2829" h="324">
                <a:moveTo>
                  <a:pt x="9153" y="15255"/>
                </a:moveTo>
                <a:lnTo>
                  <a:pt x="9153" y="15255"/>
                </a:lnTo>
              </a:path>
              <a:path w="2829" h="324">
                <a:moveTo>
                  <a:pt x="11485" y="15131"/>
                </a:moveTo>
                <a:cubicBezTo>
                  <a:pt x="11509" y="15215"/>
                  <a:pt x="11546" y="15289"/>
                  <a:pt x="11559" y="15379"/>
                </a:cubicBezTo>
              </a:path>
              <a:path w="2829" h="324">
                <a:moveTo>
                  <a:pt x="11435" y="15429"/>
                </a:moveTo>
                <a:cubicBezTo>
                  <a:pt x="11543" y="15375"/>
                  <a:pt x="11583" y="15351"/>
                  <a:pt x="11633" y="15280"/>
                </a:cubicBezTo>
              </a:path>
              <a:path w="2829" h="324">
                <a:moveTo>
                  <a:pt x="11633" y="15280"/>
                </a:moveTo>
                <a:lnTo>
                  <a:pt x="11633" y="15280"/>
                </a:lnTo>
              </a:path>
              <a:path w="2829" h="324">
                <a:moveTo>
                  <a:pt x="11733" y="15106"/>
                </a:moveTo>
                <a:cubicBezTo>
                  <a:pt x="11806" y="15242"/>
                  <a:pt x="11798" y="15254"/>
                  <a:pt x="11931" y="15180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71920" y="5616720"/>
            <a:ext cx="179280" cy="19080"/>
          </a:xfrm>
          <a:custGeom>
            <a:avLst/>
            <a:gdLst/>
            <a:ahLst/>
            <a:rect l="l" t="t" r="r" b="b"/>
            <a:pathLst>
              <a:path w="497" h="51">
                <a:moveTo>
                  <a:pt x="9922" y="15652"/>
                </a:moveTo>
                <a:cubicBezTo>
                  <a:pt x="10096" y="15623"/>
                  <a:pt x="10249" y="15584"/>
                  <a:pt x="10418" y="15627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7000" y="5626080"/>
            <a:ext cx="303120" cy="268200"/>
          </a:xfrm>
          <a:custGeom>
            <a:avLst/>
            <a:gdLst/>
            <a:ahLst/>
            <a:rect l="l" t="t" r="r" b="b"/>
            <a:pathLst>
              <a:path w="845" h="745">
                <a:moveTo>
                  <a:pt x="6573" y="15801"/>
                </a:moveTo>
                <a:cubicBezTo>
                  <a:pt x="6773" y="15851"/>
                  <a:pt x="6808" y="15977"/>
                  <a:pt x="6945" y="16123"/>
                </a:cubicBezTo>
                <a:cubicBezTo>
                  <a:pt x="6978" y="16123"/>
                  <a:pt x="6987" y="16115"/>
                  <a:pt x="6970" y="16073"/>
                </a:cubicBezTo>
              </a:path>
              <a:path w="845" h="745">
                <a:moveTo>
                  <a:pt x="6970" y="15627"/>
                </a:moveTo>
                <a:cubicBezTo>
                  <a:pt x="6941" y="15806"/>
                  <a:pt x="6932" y="16022"/>
                  <a:pt x="6821" y="16173"/>
                </a:cubicBezTo>
                <a:cubicBezTo>
                  <a:pt x="6813" y="16173"/>
                  <a:pt x="6804" y="16173"/>
                  <a:pt x="6796" y="16173"/>
                </a:cubicBezTo>
              </a:path>
              <a:path w="845" h="745">
                <a:moveTo>
                  <a:pt x="7392" y="16272"/>
                </a:moveTo>
                <a:cubicBezTo>
                  <a:pt x="7392" y="16340"/>
                  <a:pt x="7373" y="16356"/>
                  <a:pt x="7417" y="16371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57680" y="5634000"/>
            <a:ext cx="822240" cy="260280"/>
          </a:xfrm>
          <a:custGeom>
            <a:avLst/>
            <a:gdLst/>
            <a:ahLst/>
            <a:rect l="l" t="t" r="r" b="b"/>
            <a:pathLst>
              <a:path w="2283" h="720">
                <a:moveTo>
                  <a:pt x="8086" y="15949"/>
                </a:moveTo>
                <a:cubicBezTo>
                  <a:pt x="8039" y="15965"/>
                  <a:pt x="7953" y="16106"/>
                  <a:pt x="7938" y="16173"/>
                </a:cubicBezTo>
                <a:cubicBezTo>
                  <a:pt x="7883" y="16424"/>
                  <a:pt x="8127" y="16405"/>
                  <a:pt x="8285" y="16321"/>
                </a:cubicBezTo>
                <a:cubicBezTo>
                  <a:pt x="8420" y="16249"/>
                  <a:pt x="8605" y="16014"/>
                  <a:pt x="8359" y="15949"/>
                </a:cubicBezTo>
                <a:cubicBezTo>
                  <a:pt x="8242" y="15949"/>
                  <a:pt x="8208" y="15947"/>
                  <a:pt x="8136" y="15974"/>
                </a:cubicBezTo>
              </a:path>
              <a:path w="2283" h="720">
                <a:moveTo>
                  <a:pt x="9029" y="15900"/>
                </a:moveTo>
                <a:cubicBezTo>
                  <a:pt x="9029" y="15883"/>
                  <a:pt x="9029" y="15867"/>
                  <a:pt x="9029" y="15850"/>
                </a:cubicBezTo>
                <a:cubicBezTo>
                  <a:pt x="8882" y="15801"/>
                  <a:pt x="8824" y="15888"/>
                  <a:pt x="8781" y="16049"/>
                </a:cubicBezTo>
                <a:cubicBezTo>
                  <a:pt x="8716" y="16293"/>
                  <a:pt x="8994" y="16289"/>
                  <a:pt x="9128" y="16197"/>
                </a:cubicBezTo>
                <a:cubicBezTo>
                  <a:pt x="9224" y="16101"/>
                  <a:pt x="9256" y="16073"/>
                  <a:pt x="9252" y="15974"/>
                </a:cubicBezTo>
                <a:cubicBezTo>
                  <a:pt x="9136" y="15858"/>
                  <a:pt x="9070" y="15829"/>
                  <a:pt x="8905" y="15875"/>
                </a:cubicBezTo>
              </a:path>
              <a:path w="2283" h="720">
                <a:moveTo>
                  <a:pt x="9575" y="15751"/>
                </a:moveTo>
                <a:cubicBezTo>
                  <a:pt x="9450" y="15804"/>
                  <a:pt x="9358" y="15948"/>
                  <a:pt x="9376" y="16098"/>
                </a:cubicBezTo>
                <a:cubicBezTo>
                  <a:pt x="9393" y="16131"/>
                  <a:pt x="9409" y="16164"/>
                  <a:pt x="9426" y="16197"/>
                </a:cubicBezTo>
                <a:cubicBezTo>
                  <a:pt x="9571" y="16173"/>
                  <a:pt x="9868" y="16097"/>
                  <a:pt x="9823" y="15875"/>
                </a:cubicBezTo>
                <a:cubicBezTo>
                  <a:pt x="9800" y="15761"/>
                  <a:pt x="9664" y="15788"/>
                  <a:pt x="9599" y="15801"/>
                </a:cubicBezTo>
              </a:path>
              <a:path w="2283" h="720">
                <a:moveTo>
                  <a:pt x="9996" y="15652"/>
                </a:moveTo>
                <a:cubicBezTo>
                  <a:pt x="9931" y="15701"/>
                  <a:pt x="9843" y="15745"/>
                  <a:pt x="9823" y="15825"/>
                </a:cubicBezTo>
                <a:cubicBezTo>
                  <a:pt x="9940" y="15859"/>
                  <a:pt x="10175" y="15845"/>
                  <a:pt x="10220" y="15974"/>
                </a:cubicBezTo>
                <a:cubicBezTo>
                  <a:pt x="10244" y="16042"/>
                  <a:pt x="10112" y="16003"/>
                  <a:pt x="10046" y="15974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62680" y="1714680"/>
            <a:ext cx="777600" cy="2143080"/>
          </a:xfrm>
          <a:custGeom>
            <a:avLst/>
            <a:gdLst/>
            <a:ahLst/>
            <a:rect l="l" t="t" r="r" b="b"/>
            <a:pathLst>
              <a:path w="2159" h="5955">
                <a:moveTo>
                  <a:pt x="14064" y="5631"/>
                </a:moveTo>
                <a:cubicBezTo>
                  <a:pt x="14072" y="5639"/>
                  <a:pt x="14081" y="5647"/>
                  <a:pt x="14089" y="5655"/>
                </a:cubicBezTo>
              </a:path>
              <a:path w="2159" h="5955">
                <a:moveTo>
                  <a:pt x="15801" y="4887"/>
                </a:moveTo>
                <a:cubicBezTo>
                  <a:pt x="15946" y="4846"/>
                  <a:pt x="16083" y="4814"/>
                  <a:pt x="16222" y="4762"/>
                </a:cubicBezTo>
              </a:path>
              <a:path w="2159" h="5955">
                <a:moveTo>
                  <a:pt x="15131" y="6424"/>
                </a:moveTo>
                <a:cubicBezTo>
                  <a:pt x="15153" y="6446"/>
                  <a:pt x="15158" y="6455"/>
                  <a:pt x="15180" y="6449"/>
                </a:cubicBezTo>
              </a:path>
              <a:path w="2159" h="5955">
                <a:moveTo>
                  <a:pt x="15503" y="9599"/>
                </a:moveTo>
                <a:cubicBezTo>
                  <a:pt x="15503" y="9616"/>
                  <a:pt x="15503" y="9632"/>
                  <a:pt x="15503" y="9649"/>
                </a:cubicBezTo>
              </a:path>
              <a:path w="2159" h="5955">
                <a:moveTo>
                  <a:pt x="15379" y="10666"/>
                </a:moveTo>
                <a:cubicBezTo>
                  <a:pt x="15403" y="10714"/>
                  <a:pt x="15409" y="10731"/>
                  <a:pt x="15453" y="10716"/>
                </a:cubicBezTo>
              </a:path>
            </a:pathLst>
          </a:custGeom>
          <a:noFill/>
          <a:ln cap="rnd"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1960" y="6161040"/>
            <a:ext cx="144360" cy="536760"/>
          </a:xfrm>
          <a:custGeom>
            <a:avLst/>
            <a:gdLst/>
            <a:ahLst/>
            <a:rect l="l" t="t" r="r" b="b"/>
            <a:pathLst>
              <a:path w="398" h="1490">
                <a:moveTo>
                  <a:pt x="1960" y="17115"/>
                </a:moveTo>
                <a:cubicBezTo>
                  <a:pt x="1865" y="17162"/>
                  <a:pt x="1721" y="17196"/>
                  <a:pt x="1637" y="17289"/>
                </a:cubicBezTo>
                <a:cubicBezTo>
                  <a:pt x="1553" y="17382"/>
                  <a:pt x="1543" y="17591"/>
                  <a:pt x="1563" y="17711"/>
                </a:cubicBezTo>
                <a:cubicBezTo>
                  <a:pt x="1580" y="17815"/>
                  <a:pt x="1568" y="17930"/>
                  <a:pt x="1588" y="18033"/>
                </a:cubicBezTo>
                <a:cubicBezTo>
                  <a:pt x="1604" y="18115"/>
                  <a:pt x="1599" y="18197"/>
                  <a:pt x="1612" y="18281"/>
                </a:cubicBezTo>
                <a:cubicBezTo>
                  <a:pt x="1625" y="18365"/>
                  <a:pt x="1637" y="18392"/>
                  <a:pt x="1637" y="18479"/>
                </a:cubicBezTo>
                <a:cubicBezTo>
                  <a:pt x="1637" y="18531"/>
                  <a:pt x="1628" y="18561"/>
                  <a:pt x="1612" y="18604"/>
                </a:cubicBezTo>
                <a:cubicBezTo>
                  <a:pt x="1589" y="18575"/>
                  <a:pt x="1565" y="18544"/>
                  <a:pt x="1563" y="18479"/>
                </a:cubicBezTo>
                <a:cubicBezTo>
                  <a:pt x="1559" y="18360"/>
                  <a:pt x="1587" y="18295"/>
                  <a:pt x="1712" y="18256"/>
                </a:cubicBezTo>
                <a:cubicBezTo>
                  <a:pt x="1807" y="18226"/>
                  <a:pt x="1793" y="18263"/>
                  <a:pt x="1836" y="183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bjective:  Students will Divide Decimals by decimal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steps used to divide decimals by whole numb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40240" y="5794200"/>
            <a:ext cx="52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one Sans ITC TT-SemiIta"/>
              </a:rPr>
              <a:t>What if the divisor has a decim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48200" y="2098800"/>
            <a:ext cx="9720" cy="44280"/>
          </a:xfrm>
          <a:custGeom>
            <a:avLst/>
            <a:gdLst/>
            <a:ahLst/>
            <a:rect l="l" t="t" r="r" b="b"/>
            <a:pathLst>
              <a:path w="26" h="125">
                <a:moveTo>
                  <a:pt x="16272" y="5829"/>
                </a:moveTo>
                <a:cubicBezTo>
                  <a:pt x="16231" y="5870"/>
                  <a:pt x="16228" y="5900"/>
                  <a:pt x="16272" y="59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97280" y="2125800"/>
            <a:ext cx="285840" cy="330120"/>
          </a:xfrm>
          <a:custGeom>
            <a:avLst/>
            <a:gdLst/>
            <a:ahLst/>
            <a:rect l="l" t="t" r="r" b="b"/>
            <a:pathLst>
              <a:path w="795" h="918">
                <a:moveTo>
                  <a:pt x="13047" y="5953"/>
                </a:moveTo>
                <a:cubicBezTo>
                  <a:pt x="13047" y="6153"/>
                  <a:pt x="13087" y="6349"/>
                  <a:pt x="13097" y="6548"/>
                </a:cubicBezTo>
                <a:cubicBezTo>
                  <a:pt x="13105" y="6697"/>
                  <a:pt x="13034" y="6987"/>
                  <a:pt x="13146" y="6648"/>
                </a:cubicBezTo>
              </a:path>
              <a:path w="795" h="918">
                <a:moveTo>
                  <a:pt x="13419" y="6102"/>
                </a:moveTo>
                <a:cubicBezTo>
                  <a:pt x="13436" y="6016"/>
                  <a:pt x="13491" y="5916"/>
                  <a:pt x="13593" y="5904"/>
                </a:cubicBezTo>
                <a:cubicBezTo>
                  <a:pt x="13864" y="5871"/>
                  <a:pt x="13867" y="6373"/>
                  <a:pt x="13816" y="6524"/>
                </a:cubicBezTo>
                <a:cubicBezTo>
                  <a:pt x="13725" y="6794"/>
                  <a:pt x="13542" y="6824"/>
                  <a:pt x="13320" y="6747"/>
                </a:cubicBezTo>
                <a:cubicBezTo>
                  <a:pt x="13359" y="6603"/>
                  <a:pt x="13482" y="6563"/>
                  <a:pt x="13643" y="6623"/>
                </a:cubicBezTo>
                <a:cubicBezTo>
                  <a:pt x="13757" y="6666"/>
                  <a:pt x="13773" y="6716"/>
                  <a:pt x="13841" y="67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43680" y="2089080"/>
            <a:ext cx="339480" cy="331920"/>
          </a:xfrm>
          <a:custGeom>
            <a:avLst/>
            <a:gdLst/>
            <a:ahLst/>
            <a:rect l="l" t="t" r="r" b="b"/>
            <a:pathLst>
              <a:path w="943" h="919">
                <a:moveTo>
                  <a:pt x="14362" y="6573"/>
                </a:moveTo>
                <a:cubicBezTo>
                  <a:pt x="14323" y="6586"/>
                  <a:pt x="14305" y="6646"/>
                  <a:pt x="14288" y="6697"/>
                </a:cubicBezTo>
                <a:cubicBezTo>
                  <a:pt x="14392" y="6667"/>
                  <a:pt x="14344" y="6670"/>
                  <a:pt x="14312" y="6623"/>
                </a:cubicBezTo>
              </a:path>
              <a:path w="943" h="919">
                <a:moveTo>
                  <a:pt x="14759" y="6052"/>
                </a:moveTo>
                <a:cubicBezTo>
                  <a:pt x="14759" y="6139"/>
                  <a:pt x="14728" y="6245"/>
                  <a:pt x="14734" y="6325"/>
                </a:cubicBezTo>
                <a:cubicBezTo>
                  <a:pt x="14744" y="6455"/>
                  <a:pt x="14966" y="6390"/>
                  <a:pt x="15032" y="6375"/>
                </a:cubicBezTo>
                <a:cubicBezTo>
                  <a:pt x="15065" y="6367"/>
                  <a:pt x="15098" y="6358"/>
                  <a:pt x="15131" y="6350"/>
                </a:cubicBezTo>
              </a:path>
              <a:path w="943" h="919">
                <a:moveTo>
                  <a:pt x="15106" y="5804"/>
                </a:moveTo>
                <a:cubicBezTo>
                  <a:pt x="15121" y="6042"/>
                  <a:pt x="15146" y="6287"/>
                  <a:pt x="15180" y="6524"/>
                </a:cubicBezTo>
                <a:cubicBezTo>
                  <a:pt x="15191" y="6602"/>
                  <a:pt x="15216" y="6653"/>
                  <a:pt x="15230" y="67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76920" y="2276640"/>
            <a:ext cx="179280" cy="14436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16049" y="6375"/>
                </a:moveTo>
                <a:cubicBezTo>
                  <a:pt x="16174" y="6375"/>
                  <a:pt x="16296" y="6336"/>
                  <a:pt x="16421" y="6325"/>
                </a:cubicBezTo>
                <a:cubicBezTo>
                  <a:pt x="16495" y="6325"/>
                  <a:pt x="16504" y="6325"/>
                  <a:pt x="16545" y="6325"/>
                </a:cubicBezTo>
              </a:path>
              <a:path w="497" h="398">
                <a:moveTo>
                  <a:pt x="16321" y="6672"/>
                </a:moveTo>
                <a:cubicBezTo>
                  <a:pt x="16321" y="6718"/>
                  <a:pt x="16303" y="6726"/>
                  <a:pt x="16346" y="66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6760" y="2089080"/>
            <a:ext cx="161640" cy="339840"/>
          </a:xfrm>
          <a:custGeom>
            <a:avLst/>
            <a:gdLst/>
            <a:ahLst/>
            <a:rect l="l" t="t" r="r" b="b"/>
            <a:pathLst>
              <a:path w="448" h="944">
                <a:moveTo>
                  <a:pt x="17016" y="6052"/>
                </a:moveTo>
                <a:cubicBezTo>
                  <a:pt x="17003" y="6112"/>
                  <a:pt x="16939" y="6313"/>
                  <a:pt x="17016" y="6350"/>
                </a:cubicBezTo>
                <a:cubicBezTo>
                  <a:pt x="17118" y="6399"/>
                  <a:pt x="17285" y="6356"/>
                  <a:pt x="17388" y="6325"/>
                </a:cubicBezTo>
                <a:cubicBezTo>
                  <a:pt x="17405" y="6317"/>
                  <a:pt x="17421" y="6308"/>
                  <a:pt x="17438" y="6300"/>
                </a:cubicBezTo>
              </a:path>
              <a:path w="448" h="944">
                <a:moveTo>
                  <a:pt x="17363" y="5804"/>
                </a:moveTo>
                <a:cubicBezTo>
                  <a:pt x="17363" y="6003"/>
                  <a:pt x="17385" y="6200"/>
                  <a:pt x="17388" y="6400"/>
                </a:cubicBezTo>
                <a:cubicBezTo>
                  <a:pt x="17390" y="6516"/>
                  <a:pt x="17388" y="6631"/>
                  <a:pt x="17388" y="67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3106800"/>
            <a:ext cx="2305080" cy="573120"/>
          </a:xfrm>
          <a:custGeom>
            <a:avLst/>
            <a:gdLst/>
            <a:ahLst/>
            <a:rect l="l" t="t" r="r" b="b"/>
            <a:pathLst>
              <a:path w="6401" h="1589">
                <a:moveTo>
                  <a:pt x="1687" y="8830"/>
                </a:moveTo>
                <a:cubicBezTo>
                  <a:pt x="1665" y="8897"/>
                  <a:pt x="1660" y="8915"/>
                  <a:pt x="1637" y="8954"/>
                </a:cubicBezTo>
                <a:cubicBezTo>
                  <a:pt x="1756" y="9008"/>
                  <a:pt x="1864" y="8964"/>
                  <a:pt x="2009" y="8954"/>
                </a:cubicBezTo>
                <a:cubicBezTo>
                  <a:pt x="1943" y="9105"/>
                  <a:pt x="1942" y="9114"/>
                  <a:pt x="1786" y="9153"/>
                </a:cubicBezTo>
              </a:path>
              <a:path w="6401" h="1589">
                <a:moveTo>
                  <a:pt x="1960" y="8731"/>
                </a:moveTo>
                <a:cubicBezTo>
                  <a:pt x="1980" y="8890"/>
                  <a:pt x="1979" y="8887"/>
                  <a:pt x="2108" y="8979"/>
                </a:cubicBezTo>
                <a:cubicBezTo>
                  <a:pt x="2223" y="8903"/>
                  <a:pt x="2435" y="8714"/>
                  <a:pt x="2183" y="8632"/>
                </a:cubicBezTo>
                <a:cubicBezTo>
                  <a:pt x="2074" y="8632"/>
                  <a:pt x="2047" y="8627"/>
                  <a:pt x="1984" y="8657"/>
                </a:cubicBezTo>
              </a:path>
              <a:path w="6401" h="1589">
                <a:moveTo>
                  <a:pt x="992" y="9153"/>
                </a:moveTo>
                <a:cubicBezTo>
                  <a:pt x="984" y="9153"/>
                  <a:pt x="975" y="9153"/>
                  <a:pt x="967" y="9153"/>
                </a:cubicBezTo>
              </a:path>
              <a:path w="6401" h="1589">
                <a:moveTo>
                  <a:pt x="5085" y="9128"/>
                </a:moveTo>
                <a:cubicBezTo>
                  <a:pt x="5243" y="9086"/>
                  <a:pt x="5393" y="9062"/>
                  <a:pt x="5556" y="9054"/>
                </a:cubicBezTo>
              </a:path>
              <a:path w="6401" h="1589">
                <a:moveTo>
                  <a:pt x="7293" y="9475"/>
                </a:moveTo>
                <a:cubicBezTo>
                  <a:pt x="7304" y="9718"/>
                  <a:pt x="7337" y="9954"/>
                  <a:pt x="7367" y="10195"/>
                </a:cubicBezTo>
                <a:cubicBezTo>
                  <a:pt x="7367" y="10203"/>
                  <a:pt x="7367" y="10212"/>
                  <a:pt x="7367" y="102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6160" y="2251080"/>
            <a:ext cx="187560" cy="98280"/>
          </a:xfrm>
          <a:custGeom>
            <a:avLst/>
            <a:gdLst/>
            <a:ahLst/>
            <a:rect l="l" t="t" r="r" b="b"/>
            <a:pathLst>
              <a:path w="522" h="274">
                <a:moveTo>
                  <a:pt x="18405" y="6350"/>
                </a:moveTo>
                <a:cubicBezTo>
                  <a:pt x="18482" y="6273"/>
                  <a:pt x="18701" y="6265"/>
                  <a:pt x="18827" y="6251"/>
                </a:cubicBezTo>
                <a:cubicBezTo>
                  <a:pt x="18843" y="6251"/>
                  <a:pt x="18860" y="6251"/>
                  <a:pt x="18876" y="6251"/>
                </a:cubicBezTo>
              </a:path>
              <a:path w="522" h="274">
                <a:moveTo>
                  <a:pt x="18529" y="6524"/>
                </a:moveTo>
                <a:cubicBezTo>
                  <a:pt x="18670" y="6497"/>
                  <a:pt x="18789" y="6465"/>
                  <a:pt x="18926" y="64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84160" y="2982960"/>
            <a:ext cx="36720" cy="133200"/>
          </a:xfrm>
          <a:custGeom>
            <a:avLst/>
            <a:gdLst/>
            <a:ahLst/>
            <a:rect l="l" t="t" r="r" b="b"/>
            <a:pathLst>
              <a:path w="100" h="373">
                <a:moveTo>
                  <a:pt x="2505" y="8607"/>
                </a:moveTo>
                <a:cubicBezTo>
                  <a:pt x="2513" y="8624"/>
                  <a:pt x="2522" y="8640"/>
                  <a:pt x="2530" y="8657"/>
                </a:cubicBezTo>
                <a:cubicBezTo>
                  <a:pt x="2499" y="8550"/>
                  <a:pt x="2421" y="8451"/>
                  <a:pt x="2480" y="8334"/>
                </a:cubicBezTo>
                <a:cubicBezTo>
                  <a:pt x="2519" y="8296"/>
                  <a:pt x="2521" y="8279"/>
                  <a:pt x="2555" y="82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60640" y="2687760"/>
            <a:ext cx="403200" cy="608040"/>
          </a:xfrm>
          <a:custGeom>
            <a:avLst/>
            <a:gdLst/>
            <a:ahLst/>
            <a:rect l="l" t="t" r="r" b="b"/>
            <a:pathLst>
              <a:path w="1117" h="1688">
                <a:moveTo>
                  <a:pt x="4093" y="7590"/>
                </a:moveTo>
                <a:cubicBezTo>
                  <a:pt x="4116" y="7727"/>
                  <a:pt x="4095" y="7837"/>
                  <a:pt x="4018" y="7962"/>
                </a:cubicBezTo>
                <a:cubicBezTo>
                  <a:pt x="4002" y="7979"/>
                  <a:pt x="3985" y="7995"/>
                  <a:pt x="3969" y="8012"/>
                </a:cubicBezTo>
                <a:cubicBezTo>
                  <a:pt x="4071" y="7997"/>
                  <a:pt x="4162" y="7987"/>
                  <a:pt x="4266" y="7987"/>
                </a:cubicBezTo>
                <a:cubicBezTo>
                  <a:pt x="4291" y="7987"/>
                  <a:pt x="4299" y="7987"/>
                  <a:pt x="4291" y="7962"/>
                </a:cubicBezTo>
              </a:path>
              <a:path w="1117" h="1688">
                <a:moveTo>
                  <a:pt x="4242" y="7466"/>
                </a:moveTo>
                <a:cubicBezTo>
                  <a:pt x="4266" y="7644"/>
                  <a:pt x="4291" y="7848"/>
                  <a:pt x="4316" y="8037"/>
                </a:cubicBezTo>
                <a:cubicBezTo>
                  <a:pt x="4338" y="8201"/>
                  <a:pt x="4338" y="8150"/>
                  <a:pt x="4316" y="8260"/>
                </a:cubicBezTo>
              </a:path>
              <a:path w="1117" h="1688">
                <a:moveTo>
                  <a:pt x="3225" y="9153"/>
                </a:moveTo>
                <a:cubicBezTo>
                  <a:pt x="3364" y="9053"/>
                  <a:pt x="3530" y="8902"/>
                  <a:pt x="3671" y="8781"/>
                </a:cubicBezTo>
                <a:cubicBezTo>
                  <a:pt x="3710" y="8742"/>
                  <a:pt x="3712" y="8725"/>
                  <a:pt x="3746" y="8731"/>
                </a:cubicBezTo>
              </a:path>
              <a:path w="1117" h="1688">
                <a:moveTo>
                  <a:pt x="3324" y="8682"/>
                </a:moveTo>
                <a:cubicBezTo>
                  <a:pt x="3418" y="8625"/>
                  <a:pt x="3558" y="8613"/>
                  <a:pt x="3671" y="8582"/>
                </a:cubicBezTo>
                <a:cubicBezTo>
                  <a:pt x="3729" y="8564"/>
                  <a:pt x="3735" y="8556"/>
                  <a:pt x="3770" y="8558"/>
                </a:cubicBezTo>
                <a:cubicBezTo>
                  <a:pt x="3797" y="8717"/>
                  <a:pt x="3779" y="8844"/>
                  <a:pt x="3770" y="9004"/>
                </a:cubicBezTo>
                <a:cubicBezTo>
                  <a:pt x="3770" y="9029"/>
                  <a:pt x="3770" y="9037"/>
                  <a:pt x="3770" y="90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09880" y="2411280"/>
            <a:ext cx="722160" cy="2017800"/>
          </a:xfrm>
          <a:custGeom>
            <a:avLst/>
            <a:gdLst/>
            <a:ahLst/>
            <a:rect l="l" t="t" r="r" b="b"/>
            <a:pathLst>
              <a:path w="2010" h="5607">
                <a:moveTo>
                  <a:pt x="6623" y="6945"/>
                </a:moveTo>
                <a:cubicBezTo>
                  <a:pt x="6589" y="6945"/>
                  <a:pt x="6543" y="6932"/>
                  <a:pt x="6524" y="6970"/>
                </a:cubicBezTo>
                <a:cubicBezTo>
                  <a:pt x="6467" y="7086"/>
                  <a:pt x="6554" y="7060"/>
                  <a:pt x="6573" y="6970"/>
                </a:cubicBezTo>
                <a:cubicBezTo>
                  <a:pt x="6573" y="6954"/>
                  <a:pt x="6573" y="6937"/>
                  <a:pt x="6573" y="6921"/>
                </a:cubicBezTo>
                <a:cubicBezTo>
                  <a:pt x="6533" y="6934"/>
                  <a:pt x="6534" y="6973"/>
                  <a:pt x="6548" y="6995"/>
                </a:cubicBezTo>
              </a:path>
              <a:path w="2010" h="5607">
                <a:moveTo>
                  <a:pt x="5680" y="6772"/>
                </a:moveTo>
                <a:cubicBezTo>
                  <a:pt x="5633" y="6772"/>
                  <a:pt x="5594" y="6796"/>
                  <a:pt x="5581" y="6846"/>
                </a:cubicBezTo>
                <a:cubicBezTo>
                  <a:pt x="5566" y="6903"/>
                  <a:pt x="5576" y="6997"/>
                  <a:pt x="5606" y="7045"/>
                </a:cubicBezTo>
                <a:cubicBezTo>
                  <a:pt x="5647" y="7111"/>
                  <a:pt x="5708" y="7096"/>
                  <a:pt x="5755" y="7069"/>
                </a:cubicBezTo>
                <a:cubicBezTo>
                  <a:pt x="5835" y="7024"/>
                  <a:pt x="5848" y="6962"/>
                  <a:pt x="5854" y="6871"/>
                </a:cubicBezTo>
                <a:cubicBezTo>
                  <a:pt x="5857" y="6825"/>
                  <a:pt x="5809" y="6763"/>
                  <a:pt x="5755" y="6772"/>
                </a:cubicBezTo>
                <a:cubicBezTo>
                  <a:pt x="5726" y="6777"/>
                  <a:pt x="5718" y="6796"/>
                  <a:pt x="5680" y="6796"/>
                </a:cubicBezTo>
              </a:path>
              <a:path w="2010" h="5607">
                <a:moveTo>
                  <a:pt x="6102" y="6796"/>
                </a:moveTo>
                <a:cubicBezTo>
                  <a:pt x="6117" y="6746"/>
                  <a:pt x="6168" y="6667"/>
                  <a:pt x="6251" y="6697"/>
                </a:cubicBezTo>
                <a:cubicBezTo>
                  <a:pt x="6329" y="6726"/>
                  <a:pt x="6295" y="6855"/>
                  <a:pt x="6251" y="6896"/>
                </a:cubicBezTo>
                <a:cubicBezTo>
                  <a:pt x="6234" y="6904"/>
                  <a:pt x="6218" y="6913"/>
                  <a:pt x="6201" y="6921"/>
                </a:cubicBezTo>
                <a:cubicBezTo>
                  <a:pt x="6278" y="6921"/>
                  <a:pt x="6287" y="6872"/>
                  <a:pt x="6350" y="6945"/>
                </a:cubicBezTo>
                <a:cubicBezTo>
                  <a:pt x="6423" y="7029"/>
                  <a:pt x="6272" y="7148"/>
                  <a:pt x="6201" y="7169"/>
                </a:cubicBezTo>
                <a:cubicBezTo>
                  <a:pt x="6157" y="7169"/>
                  <a:pt x="6144" y="7166"/>
                  <a:pt x="6127" y="7193"/>
                </a:cubicBezTo>
              </a:path>
              <a:path w="2010" h="5607">
                <a:moveTo>
                  <a:pt x="5705" y="8682"/>
                </a:moveTo>
                <a:cubicBezTo>
                  <a:pt x="5705" y="8808"/>
                  <a:pt x="5716" y="8955"/>
                  <a:pt x="5730" y="9079"/>
                </a:cubicBezTo>
                <a:cubicBezTo>
                  <a:pt x="5738" y="9120"/>
                  <a:pt x="5747" y="9162"/>
                  <a:pt x="5755" y="9203"/>
                </a:cubicBezTo>
              </a:path>
              <a:path w="2010" h="5607">
                <a:moveTo>
                  <a:pt x="6003" y="8731"/>
                </a:moveTo>
                <a:cubicBezTo>
                  <a:pt x="6105" y="8714"/>
                  <a:pt x="6210" y="8655"/>
                  <a:pt x="6276" y="8781"/>
                </a:cubicBezTo>
                <a:cubicBezTo>
                  <a:pt x="6342" y="8907"/>
                  <a:pt x="6280" y="9188"/>
                  <a:pt x="6102" y="9178"/>
                </a:cubicBezTo>
                <a:cubicBezTo>
                  <a:pt x="5966" y="9170"/>
                  <a:pt x="5994" y="9096"/>
                  <a:pt x="6028" y="9029"/>
                </a:cubicBezTo>
                <a:cubicBezTo>
                  <a:pt x="6045" y="9028"/>
                  <a:pt x="6341" y="9075"/>
                  <a:pt x="6276" y="9128"/>
                </a:cubicBezTo>
                <a:cubicBezTo>
                  <a:pt x="6259" y="9128"/>
                  <a:pt x="6243" y="9128"/>
                  <a:pt x="6226" y="9128"/>
                </a:cubicBezTo>
              </a:path>
              <a:path w="2010" h="5607">
                <a:moveTo>
                  <a:pt x="6921" y="6747"/>
                </a:moveTo>
                <a:cubicBezTo>
                  <a:pt x="6921" y="6670"/>
                  <a:pt x="6967" y="6824"/>
                  <a:pt x="6995" y="6896"/>
                </a:cubicBezTo>
                <a:cubicBezTo>
                  <a:pt x="7024" y="6969"/>
                  <a:pt x="7035" y="7035"/>
                  <a:pt x="7069" y="7094"/>
                </a:cubicBezTo>
              </a:path>
              <a:path w="2010" h="5607">
                <a:moveTo>
                  <a:pt x="7069" y="10542"/>
                </a:moveTo>
                <a:cubicBezTo>
                  <a:pt x="7122" y="10529"/>
                  <a:pt x="7139" y="10513"/>
                  <a:pt x="7119" y="10592"/>
                </a:cubicBezTo>
                <a:cubicBezTo>
                  <a:pt x="7089" y="10711"/>
                  <a:pt x="7058" y="10813"/>
                  <a:pt x="6995" y="10914"/>
                </a:cubicBezTo>
                <a:cubicBezTo>
                  <a:pt x="7103" y="10898"/>
                  <a:pt x="7206" y="10870"/>
                  <a:pt x="7317" y="10864"/>
                </a:cubicBezTo>
                <a:cubicBezTo>
                  <a:pt x="7383" y="10864"/>
                  <a:pt x="7391" y="10823"/>
                  <a:pt x="7342" y="10716"/>
                </a:cubicBezTo>
              </a:path>
              <a:path w="2010" h="5607">
                <a:moveTo>
                  <a:pt x="7293" y="10443"/>
                </a:moveTo>
                <a:cubicBezTo>
                  <a:pt x="7333" y="10646"/>
                  <a:pt x="7414" y="10831"/>
                  <a:pt x="7441" y="11038"/>
                </a:cubicBezTo>
                <a:cubicBezTo>
                  <a:pt x="7441" y="11096"/>
                  <a:pt x="7441" y="11104"/>
                  <a:pt x="7441" y="11137"/>
                </a:cubicBezTo>
              </a:path>
              <a:path w="2010" h="5607">
                <a:moveTo>
                  <a:pt x="6251" y="10964"/>
                </a:moveTo>
                <a:cubicBezTo>
                  <a:pt x="6342" y="10946"/>
                  <a:pt x="6407" y="10939"/>
                  <a:pt x="6499" y="10939"/>
                </a:cubicBezTo>
              </a:path>
              <a:path w="2010" h="5607">
                <a:moveTo>
                  <a:pt x="6251" y="11460"/>
                </a:moveTo>
                <a:cubicBezTo>
                  <a:pt x="6553" y="11363"/>
                  <a:pt x="6896" y="11328"/>
                  <a:pt x="7218" y="11311"/>
                </a:cubicBezTo>
                <a:cubicBezTo>
                  <a:pt x="7274" y="11308"/>
                  <a:pt x="7574" y="11318"/>
                  <a:pt x="7590" y="11286"/>
                </a:cubicBezTo>
              </a:path>
              <a:path w="2010" h="5607">
                <a:moveTo>
                  <a:pt x="7392" y="11733"/>
                </a:moveTo>
                <a:cubicBezTo>
                  <a:pt x="7274" y="11864"/>
                  <a:pt x="7240" y="12080"/>
                  <a:pt x="7342" y="12254"/>
                </a:cubicBezTo>
                <a:cubicBezTo>
                  <a:pt x="7367" y="12270"/>
                  <a:pt x="7392" y="12287"/>
                  <a:pt x="7417" y="12303"/>
                </a:cubicBezTo>
                <a:cubicBezTo>
                  <a:pt x="7576" y="12218"/>
                  <a:pt x="7696" y="12037"/>
                  <a:pt x="7516" y="11857"/>
                </a:cubicBezTo>
                <a:cubicBezTo>
                  <a:pt x="7442" y="11838"/>
                  <a:pt x="7435" y="11830"/>
                  <a:pt x="7392" y="118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62840" y="2108160"/>
            <a:ext cx="339840" cy="330120"/>
          </a:xfrm>
          <a:custGeom>
            <a:avLst/>
            <a:gdLst/>
            <a:ahLst/>
            <a:rect l="l" t="t" r="r" b="b"/>
            <a:pathLst>
              <a:path w="943" h="919">
                <a:moveTo>
                  <a:pt x="19769" y="6003"/>
                </a:moveTo>
                <a:cubicBezTo>
                  <a:pt x="19929" y="5924"/>
                  <a:pt x="19961" y="5868"/>
                  <a:pt x="20141" y="5879"/>
                </a:cubicBezTo>
                <a:cubicBezTo>
                  <a:pt x="20141" y="6080"/>
                  <a:pt x="20090" y="6170"/>
                  <a:pt x="19918" y="6300"/>
                </a:cubicBezTo>
                <a:cubicBezTo>
                  <a:pt x="19926" y="6292"/>
                  <a:pt x="19935" y="6284"/>
                  <a:pt x="19943" y="6276"/>
                </a:cubicBezTo>
                <a:cubicBezTo>
                  <a:pt x="20131" y="6276"/>
                  <a:pt x="20327" y="6408"/>
                  <a:pt x="20117" y="6623"/>
                </a:cubicBezTo>
                <a:cubicBezTo>
                  <a:pt x="19988" y="6755"/>
                  <a:pt x="19774" y="6800"/>
                  <a:pt x="19621" y="6722"/>
                </a:cubicBezTo>
              </a:path>
              <a:path w="943" h="919">
                <a:moveTo>
                  <a:pt x="20538" y="6573"/>
                </a:moveTo>
                <a:cubicBezTo>
                  <a:pt x="20498" y="6593"/>
                  <a:pt x="20482" y="6592"/>
                  <a:pt x="20489" y="6623"/>
                </a:cubicBezTo>
                <a:cubicBezTo>
                  <a:pt x="20533" y="6623"/>
                  <a:pt x="20570" y="6626"/>
                  <a:pt x="20538" y="6598"/>
                </a:cubicBezTo>
                <a:cubicBezTo>
                  <a:pt x="20530" y="6590"/>
                  <a:pt x="20521" y="6581"/>
                  <a:pt x="20513" y="65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81960" y="2108160"/>
            <a:ext cx="17280" cy="276120"/>
          </a:xfrm>
          <a:custGeom>
            <a:avLst/>
            <a:gdLst/>
            <a:ahLst/>
            <a:rect l="l" t="t" r="r" b="b"/>
            <a:pathLst>
              <a:path w="51" h="770">
                <a:moveTo>
                  <a:pt x="21059" y="5854"/>
                </a:moveTo>
                <a:cubicBezTo>
                  <a:pt x="21059" y="5995"/>
                  <a:pt x="21102" y="6134"/>
                  <a:pt x="21109" y="6276"/>
                </a:cubicBezTo>
                <a:cubicBezTo>
                  <a:pt x="21115" y="6389"/>
                  <a:pt x="21109" y="6509"/>
                  <a:pt x="21109" y="66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98920" y="2786040"/>
            <a:ext cx="258840" cy="223920"/>
          </a:xfrm>
          <a:custGeom>
            <a:avLst/>
            <a:gdLst/>
            <a:ahLst/>
            <a:rect l="l" t="t" r="r" b="b"/>
            <a:pathLst>
              <a:path w="721" h="621">
                <a:moveTo>
                  <a:pt x="10071" y="8161"/>
                </a:moveTo>
                <a:cubicBezTo>
                  <a:pt x="10103" y="8234"/>
                  <a:pt x="10088" y="8279"/>
                  <a:pt x="10145" y="8334"/>
                </a:cubicBezTo>
              </a:path>
              <a:path w="721" h="621">
                <a:moveTo>
                  <a:pt x="9996" y="7888"/>
                </a:moveTo>
                <a:lnTo>
                  <a:pt x="9996" y="7888"/>
                </a:lnTo>
                <a:lnTo>
                  <a:pt x="9996" y="7888"/>
                </a:lnTo>
              </a:path>
              <a:path w="721" h="621">
                <a:moveTo>
                  <a:pt x="9996" y="7888"/>
                </a:moveTo>
                <a:lnTo>
                  <a:pt x="9996" y="7888"/>
                </a:lnTo>
              </a:path>
              <a:path w="721" h="621">
                <a:moveTo>
                  <a:pt x="10716" y="7739"/>
                </a:moveTo>
                <a:lnTo>
                  <a:pt x="10716" y="773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12960" y="2581200"/>
            <a:ext cx="857160" cy="500040"/>
          </a:xfrm>
          <a:custGeom>
            <a:avLst/>
            <a:gdLst/>
            <a:ahLst/>
            <a:rect l="l" t="t" r="r" b="b"/>
            <a:pathLst>
              <a:path w="2383" h="1390">
                <a:moveTo>
                  <a:pt x="5035" y="8533"/>
                </a:moveTo>
                <a:cubicBezTo>
                  <a:pt x="5062" y="8523"/>
                  <a:pt x="5163" y="8457"/>
                  <a:pt x="5209" y="8359"/>
                </a:cubicBezTo>
                <a:cubicBezTo>
                  <a:pt x="5306" y="8152"/>
                  <a:pt x="5292" y="7930"/>
                  <a:pt x="5283" y="7714"/>
                </a:cubicBezTo>
                <a:cubicBezTo>
                  <a:pt x="5279" y="7604"/>
                  <a:pt x="5283" y="7475"/>
                  <a:pt x="5259" y="7367"/>
                </a:cubicBezTo>
                <a:cubicBezTo>
                  <a:pt x="5252" y="7336"/>
                  <a:pt x="5245" y="7299"/>
                  <a:pt x="5234" y="7268"/>
                </a:cubicBezTo>
                <a:cubicBezTo>
                  <a:pt x="5223" y="7238"/>
                  <a:pt x="5198" y="7197"/>
                  <a:pt x="5184" y="7169"/>
                </a:cubicBezTo>
                <a:cubicBezTo>
                  <a:pt x="5302" y="7174"/>
                  <a:pt x="5414" y="7189"/>
                  <a:pt x="5531" y="7193"/>
                </a:cubicBezTo>
                <a:cubicBezTo>
                  <a:pt x="6129" y="7212"/>
                  <a:pt x="6868" y="7100"/>
                  <a:pt x="7417" y="7218"/>
                </a:cubicBezTo>
              </a:path>
              <a:path w="2383" h="1390">
                <a:moveTo>
                  <a:pt x="5755" y="7689"/>
                </a:moveTo>
                <a:cubicBezTo>
                  <a:pt x="5755" y="7541"/>
                  <a:pt x="5755" y="7938"/>
                  <a:pt x="5755" y="8086"/>
                </a:cubicBezTo>
                <a:cubicBezTo>
                  <a:pt x="5755" y="8193"/>
                  <a:pt x="5755" y="8417"/>
                  <a:pt x="5755" y="8310"/>
                </a:cubicBezTo>
              </a:path>
              <a:path w="2383" h="1390">
                <a:moveTo>
                  <a:pt x="5953" y="7789"/>
                </a:moveTo>
                <a:cubicBezTo>
                  <a:pt x="6047" y="7714"/>
                  <a:pt x="6171" y="7625"/>
                  <a:pt x="6251" y="7789"/>
                </a:cubicBezTo>
                <a:cubicBezTo>
                  <a:pt x="6345" y="7981"/>
                  <a:pt x="6262" y="8237"/>
                  <a:pt x="6102" y="8359"/>
                </a:cubicBezTo>
                <a:cubicBezTo>
                  <a:pt x="5995" y="8441"/>
                  <a:pt x="5960" y="8428"/>
                  <a:pt x="5904" y="8359"/>
                </a:cubicBezTo>
                <a:cubicBezTo>
                  <a:pt x="5917" y="8253"/>
                  <a:pt x="5980" y="8186"/>
                  <a:pt x="6102" y="8186"/>
                </a:cubicBezTo>
                <a:cubicBezTo>
                  <a:pt x="6245" y="8186"/>
                  <a:pt x="6297" y="8303"/>
                  <a:pt x="6350" y="8409"/>
                </a:cubicBezTo>
              </a:path>
              <a:path w="2383" h="1390">
                <a:moveTo>
                  <a:pt x="6672" y="8210"/>
                </a:moveTo>
                <a:cubicBezTo>
                  <a:pt x="6672" y="8243"/>
                  <a:pt x="6672" y="8277"/>
                  <a:pt x="6672" y="8310"/>
                </a:cubicBezTo>
              </a:path>
              <a:path w="2383" h="1390">
                <a:moveTo>
                  <a:pt x="6945" y="7838"/>
                </a:moveTo>
                <a:cubicBezTo>
                  <a:pt x="6898" y="7854"/>
                  <a:pt x="6909" y="7981"/>
                  <a:pt x="6921" y="8037"/>
                </a:cubicBezTo>
                <a:cubicBezTo>
                  <a:pt x="6951" y="8178"/>
                  <a:pt x="7099" y="8128"/>
                  <a:pt x="7193" y="8086"/>
                </a:cubicBezTo>
                <a:cubicBezTo>
                  <a:pt x="7218" y="8070"/>
                  <a:pt x="7243" y="8053"/>
                  <a:pt x="7268" y="8037"/>
                </a:cubicBezTo>
              </a:path>
              <a:path w="2383" h="1390">
                <a:moveTo>
                  <a:pt x="7218" y="7590"/>
                </a:moveTo>
                <a:cubicBezTo>
                  <a:pt x="7218" y="7746"/>
                  <a:pt x="7249" y="7907"/>
                  <a:pt x="7268" y="8062"/>
                </a:cubicBezTo>
                <a:cubicBezTo>
                  <a:pt x="7285" y="8198"/>
                  <a:pt x="7290" y="8327"/>
                  <a:pt x="7317" y="84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46240" y="2705040"/>
            <a:ext cx="1590840" cy="295200"/>
          </a:xfrm>
          <a:custGeom>
            <a:avLst/>
            <a:gdLst/>
            <a:ahLst/>
            <a:rect l="l" t="t" r="r" b="b"/>
            <a:pathLst>
              <a:path w="4416" h="819">
                <a:moveTo>
                  <a:pt x="8334" y="7987"/>
                </a:moveTo>
                <a:cubicBezTo>
                  <a:pt x="8566" y="7940"/>
                  <a:pt x="8813" y="7981"/>
                  <a:pt x="9054" y="7987"/>
                </a:cubicBezTo>
                <a:cubicBezTo>
                  <a:pt x="9070" y="7987"/>
                  <a:pt x="9087" y="7987"/>
                  <a:pt x="9103" y="7987"/>
                </a:cubicBezTo>
              </a:path>
              <a:path w="4416" h="819">
                <a:moveTo>
                  <a:pt x="8508" y="7689"/>
                </a:moveTo>
                <a:cubicBezTo>
                  <a:pt x="8415" y="7815"/>
                  <a:pt x="8324" y="7967"/>
                  <a:pt x="8186" y="8037"/>
                </a:cubicBezTo>
                <a:cubicBezTo>
                  <a:pt x="8352" y="8054"/>
                  <a:pt x="8524" y="8107"/>
                  <a:pt x="8682" y="8161"/>
                </a:cubicBezTo>
                <a:cubicBezTo>
                  <a:pt x="8725" y="8183"/>
                  <a:pt x="8736" y="8187"/>
                  <a:pt x="8756" y="8210"/>
                </a:cubicBezTo>
              </a:path>
              <a:path w="4416" h="819">
                <a:moveTo>
                  <a:pt x="9699" y="8037"/>
                </a:moveTo>
                <a:cubicBezTo>
                  <a:pt x="9699" y="7997"/>
                  <a:pt x="9688" y="7978"/>
                  <a:pt x="9649" y="7962"/>
                </a:cubicBezTo>
                <a:cubicBezTo>
                  <a:pt x="9479" y="8039"/>
                  <a:pt x="9510" y="8147"/>
                  <a:pt x="9624" y="8285"/>
                </a:cubicBezTo>
                <a:cubicBezTo>
                  <a:pt x="9806" y="8188"/>
                  <a:pt x="9773" y="8177"/>
                  <a:pt x="9798" y="7962"/>
                </a:cubicBezTo>
              </a:path>
              <a:path w="4416" h="819">
                <a:moveTo>
                  <a:pt x="9699" y="7541"/>
                </a:moveTo>
                <a:cubicBezTo>
                  <a:pt x="9755" y="7779"/>
                  <a:pt x="9820" y="8017"/>
                  <a:pt x="9847" y="8260"/>
                </a:cubicBezTo>
                <a:cubicBezTo>
                  <a:pt x="9847" y="8285"/>
                  <a:pt x="9847" y="8309"/>
                  <a:pt x="9847" y="8334"/>
                </a:cubicBezTo>
              </a:path>
              <a:path w="4416" h="819">
                <a:moveTo>
                  <a:pt x="10294" y="7987"/>
                </a:moveTo>
                <a:cubicBezTo>
                  <a:pt x="10338" y="8060"/>
                  <a:pt x="10423" y="8274"/>
                  <a:pt x="10492" y="8310"/>
                </a:cubicBezTo>
                <a:cubicBezTo>
                  <a:pt x="10501" y="8164"/>
                  <a:pt x="10526" y="8069"/>
                  <a:pt x="10592" y="7938"/>
                </a:cubicBezTo>
                <a:cubicBezTo>
                  <a:pt x="10662" y="8027"/>
                  <a:pt x="10708" y="8110"/>
                  <a:pt x="10765" y="8210"/>
                </a:cubicBezTo>
              </a:path>
              <a:path w="4416" h="819">
                <a:moveTo>
                  <a:pt x="11212" y="7913"/>
                </a:moveTo>
                <a:cubicBezTo>
                  <a:pt x="11152" y="7823"/>
                  <a:pt x="11005" y="7913"/>
                  <a:pt x="10964" y="8012"/>
                </a:cubicBezTo>
                <a:cubicBezTo>
                  <a:pt x="10941" y="8169"/>
                  <a:pt x="10923" y="8213"/>
                  <a:pt x="11013" y="8285"/>
                </a:cubicBezTo>
                <a:cubicBezTo>
                  <a:pt x="11243" y="8131"/>
                  <a:pt x="11187" y="8136"/>
                  <a:pt x="11187" y="7838"/>
                </a:cubicBezTo>
              </a:path>
              <a:path w="4416" h="819">
                <a:moveTo>
                  <a:pt x="11038" y="7565"/>
                </a:moveTo>
                <a:cubicBezTo>
                  <a:pt x="11139" y="7794"/>
                  <a:pt x="11223" y="8025"/>
                  <a:pt x="11311" y="8260"/>
                </a:cubicBezTo>
              </a:path>
              <a:path w="4416" h="819">
                <a:moveTo>
                  <a:pt x="11385" y="8111"/>
                </a:moveTo>
                <a:cubicBezTo>
                  <a:pt x="11457" y="8111"/>
                  <a:pt x="11514" y="8098"/>
                  <a:pt x="11584" y="8086"/>
                </a:cubicBezTo>
                <a:cubicBezTo>
                  <a:pt x="11592" y="8086"/>
                  <a:pt x="11601" y="8086"/>
                  <a:pt x="11609" y="8086"/>
                </a:cubicBezTo>
                <a:cubicBezTo>
                  <a:pt x="11578" y="8017"/>
                  <a:pt x="11555" y="7972"/>
                  <a:pt x="11509" y="7913"/>
                </a:cubicBezTo>
                <a:cubicBezTo>
                  <a:pt x="11398" y="7867"/>
                  <a:pt x="11365" y="8038"/>
                  <a:pt x="11385" y="8136"/>
                </a:cubicBezTo>
                <a:cubicBezTo>
                  <a:pt x="11440" y="8400"/>
                  <a:pt x="11650" y="8169"/>
                  <a:pt x="11733" y="8086"/>
                </a:cubicBezTo>
              </a:path>
              <a:path w="4416" h="819">
                <a:moveTo>
                  <a:pt x="11782" y="7962"/>
                </a:moveTo>
                <a:cubicBezTo>
                  <a:pt x="11788" y="8052"/>
                  <a:pt x="11801" y="8125"/>
                  <a:pt x="11832" y="8210"/>
                </a:cubicBezTo>
                <a:cubicBezTo>
                  <a:pt x="11817" y="8090"/>
                  <a:pt x="11797" y="8041"/>
                  <a:pt x="11857" y="7938"/>
                </a:cubicBezTo>
                <a:cubicBezTo>
                  <a:pt x="12010" y="7961"/>
                  <a:pt x="12065" y="8014"/>
                  <a:pt x="12129" y="8161"/>
                </a:cubicBezTo>
                <a:cubicBezTo>
                  <a:pt x="12157" y="8224"/>
                  <a:pt x="12060" y="8217"/>
                  <a:pt x="12204" y="8186"/>
                </a:cubicBezTo>
              </a:path>
              <a:path w="4416" h="819">
                <a:moveTo>
                  <a:pt x="12526" y="7938"/>
                </a:moveTo>
                <a:cubicBezTo>
                  <a:pt x="12472" y="7806"/>
                  <a:pt x="12379" y="7852"/>
                  <a:pt x="12278" y="7962"/>
                </a:cubicBezTo>
                <a:cubicBezTo>
                  <a:pt x="12180" y="8068"/>
                  <a:pt x="12174" y="8382"/>
                  <a:pt x="12402" y="8260"/>
                </a:cubicBezTo>
                <a:cubicBezTo>
                  <a:pt x="12443" y="8219"/>
                  <a:pt x="12485" y="8177"/>
                  <a:pt x="12526" y="8136"/>
                </a:cubicBezTo>
              </a:path>
              <a:path w="4416" h="819">
                <a:moveTo>
                  <a:pt x="12303" y="7516"/>
                </a:moveTo>
                <a:cubicBezTo>
                  <a:pt x="12414" y="7701"/>
                  <a:pt x="12484" y="7928"/>
                  <a:pt x="12551" y="8136"/>
                </a:cubicBezTo>
                <a:cubicBezTo>
                  <a:pt x="12562" y="8171"/>
                  <a:pt x="12573" y="8292"/>
                  <a:pt x="12601" y="82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46160" y="3071880"/>
            <a:ext cx="768600" cy="588960"/>
          </a:xfrm>
          <a:custGeom>
            <a:avLst/>
            <a:gdLst/>
            <a:ahLst/>
            <a:rect l="l" t="t" r="r" b="b"/>
            <a:pathLst>
              <a:path w="2135" h="1638">
                <a:moveTo>
                  <a:pt x="5407" y="9500"/>
                </a:moveTo>
                <a:cubicBezTo>
                  <a:pt x="5662" y="9436"/>
                  <a:pt x="5912" y="9391"/>
                  <a:pt x="6176" y="9376"/>
                </a:cubicBezTo>
                <a:cubicBezTo>
                  <a:pt x="6313" y="9368"/>
                  <a:pt x="6440" y="9362"/>
                  <a:pt x="6573" y="9351"/>
                </a:cubicBezTo>
              </a:path>
              <a:path w="2135" h="1638">
                <a:moveTo>
                  <a:pt x="6350" y="9649"/>
                </a:moveTo>
                <a:cubicBezTo>
                  <a:pt x="6198" y="9718"/>
                  <a:pt x="6146" y="9813"/>
                  <a:pt x="6176" y="9996"/>
                </a:cubicBezTo>
                <a:cubicBezTo>
                  <a:pt x="6220" y="10106"/>
                  <a:pt x="6225" y="10139"/>
                  <a:pt x="6300" y="10170"/>
                </a:cubicBezTo>
                <a:cubicBezTo>
                  <a:pt x="6475" y="10094"/>
                  <a:pt x="6612" y="9985"/>
                  <a:pt x="6499" y="9773"/>
                </a:cubicBezTo>
                <a:cubicBezTo>
                  <a:pt x="6442" y="9665"/>
                  <a:pt x="6384" y="9696"/>
                  <a:pt x="6300" y="9723"/>
                </a:cubicBezTo>
              </a:path>
              <a:path w="2135" h="1638">
                <a:moveTo>
                  <a:pt x="7144" y="8533"/>
                </a:moveTo>
                <a:cubicBezTo>
                  <a:pt x="7175" y="8627"/>
                  <a:pt x="7199" y="8824"/>
                  <a:pt x="7218" y="8954"/>
                </a:cubicBezTo>
                <a:cubicBezTo>
                  <a:pt x="7238" y="9072"/>
                  <a:pt x="7232" y="9093"/>
                  <a:pt x="7268" y="9153"/>
                </a:cubicBezTo>
              </a:path>
              <a:path w="2135" h="1638">
                <a:moveTo>
                  <a:pt x="7020" y="9004"/>
                </a:moveTo>
                <a:cubicBezTo>
                  <a:pt x="7104" y="9116"/>
                  <a:pt x="7149" y="9278"/>
                  <a:pt x="7293" y="9178"/>
                </a:cubicBezTo>
                <a:cubicBezTo>
                  <a:pt x="7359" y="9132"/>
                  <a:pt x="7471" y="8994"/>
                  <a:pt x="7541" y="9029"/>
                </a:cubicBezTo>
              </a:path>
              <a:path w="2135" h="1638">
                <a:moveTo>
                  <a:pt x="7069" y="9624"/>
                </a:moveTo>
                <a:cubicBezTo>
                  <a:pt x="7069" y="9752"/>
                  <a:pt x="7046" y="9871"/>
                  <a:pt x="7020" y="9996"/>
                </a:cubicBezTo>
                <a:cubicBezTo>
                  <a:pt x="7130" y="9974"/>
                  <a:pt x="7228" y="9891"/>
                  <a:pt x="7317" y="9823"/>
                </a:cubicBezTo>
                <a:cubicBezTo>
                  <a:pt x="7325" y="9815"/>
                  <a:pt x="7334" y="9806"/>
                  <a:pt x="7342" y="97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4200" y="3276720"/>
            <a:ext cx="401760" cy="312480"/>
          </a:xfrm>
          <a:custGeom>
            <a:avLst/>
            <a:gdLst/>
            <a:ahLst/>
            <a:rect l="l" t="t" r="r" b="b"/>
            <a:pathLst>
              <a:path w="1118" h="869">
                <a:moveTo>
                  <a:pt x="1116" y="9475"/>
                </a:moveTo>
                <a:cubicBezTo>
                  <a:pt x="1072" y="9402"/>
                  <a:pt x="961" y="9339"/>
                  <a:pt x="868" y="9401"/>
                </a:cubicBezTo>
                <a:cubicBezTo>
                  <a:pt x="673" y="9531"/>
                  <a:pt x="620" y="9769"/>
                  <a:pt x="620" y="9971"/>
                </a:cubicBezTo>
                <a:cubicBezTo>
                  <a:pt x="815" y="9890"/>
                  <a:pt x="805" y="9882"/>
                  <a:pt x="868" y="9674"/>
                </a:cubicBezTo>
              </a:path>
              <a:path w="1118" h="869">
                <a:moveTo>
                  <a:pt x="670" y="9178"/>
                </a:moveTo>
                <a:cubicBezTo>
                  <a:pt x="833" y="9341"/>
                  <a:pt x="962" y="9441"/>
                  <a:pt x="992" y="9674"/>
                </a:cubicBezTo>
                <a:cubicBezTo>
                  <a:pt x="992" y="9707"/>
                  <a:pt x="992" y="9707"/>
                  <a:pt x="992" y="9649"/>
                </a:cubicBezTo>
              </a:path>
              <a:path w="1118" h="869">
                <a:moveTo>
                  <a:pt x="1116" y="9401"/>
                </a:moveTo>
                <a:cubicBezTo>
                  <a:pt x="1181" y="9383"/>
                  <a:pt x="1249" y="9362"/>
                  <a:pt x="1315" y="9351"/>
                </a:cubicBezTo>
                <a:cubicBezTo>
                  <a:pt x="1269" y="9344"/>
                  <a:pt x="1127" y="9300"/>
                  <a:pt x="1116" y="9401"/>
                </a:cubicBezTo>
                <a:cubicBezTo>
                  <a:pt x="1108" y="9471"/>
                  <a:pt x="1161" y="9639"/>
                  <a:pt x="1191" y="9575"/>
                </a:cubicBezTo>
                <a:cubicBezTo>
                  <a:pt x="1199" y="9542"/>
                  <a:pt x="1207" y="9508"/>
                  <a:pt x="1215" y="9475"/>
                </a:cubicBezTo>
              </a:path>
              <a:path w="1118" h="869">
                <a:moveTo>
                  <a:pt x="1191" y="9277"/>
                </a:moveTo>
                <a:cubicBezTo>
                  <a:pt x="1298" y="9277"/>
                  <a:pt x="1367" y="9343"/>
                  <a:pt x="1463" y="9426"/>
                </a:cubicBezTo>
                <a:cubicBezTo>
                  <a:pt x="1449" y="9350"/>
                  <a:pt x="1363" y="9206"/>
                  <a:pt x="1389" y="9128"/>
                </a:cubicBezTo>
                <a:cubicBezTo>
                  <a:pt x="1397" y="9120"/>
                  <a:pt x="1406" y="9111"/>
                  <a:pt x="1414" y="9103"/>
                </a:cubicBezTo>
              </a:path>
              <a:path w="1118" h="869">
                <a:moveTo>
                  <a:pt x="1563" y="9103"/>
                </a:moveTo>
                <a:cubicBezTo>
                  <a:pt x="1574" y="9118"/>
                  <a:pt x="1742" y="9391"/>
                  <a:pt x="1687" y="92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7680" y="3214800"/>
            <a:ext cx="90360" cy="108000"/>
          </a:xfrm>
          <a:custGeom>
            <a:avLst/>
            <a:gdLst/>
            <a:ahLst/>
            <a:rect l="l" t="t" r="r" b="b"/>
            <a:pathLst>
              <a:path w="249" h="298">
                <a:moveTo>
                  <a:pt x="1687" y="9227"/>
                </a:moveTo>
                <a:lnTo>
                  <a:pt x="1687" y="9227"/>
                </a:lnTo>
              </a:path>
              <a:path w="249" h="298">
                <a:moveTo>
                  <a:pt x="1439" y="8979"/>
                </a:moveTo>
                <a:cubicBezTo>
                  <a:pt x="1447" y="8963"/>
                  <a:pt x="1455" y="8946"/>
                  <a:pt x="1463" y="89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70200" y="6224760"/>
            <a:ext cx="3098880" cy="98280"/>
          </a:xfrm>
          <a:custGeom>
            <a:avLst/>
            <a:gdLst/>
            <a:ahLst/>
            <a:rect l="l" t="t" r="r" b="b"/>
            <a:pathLst>
              <a:path w="8608" h="274">
                <a:moveTo>
                  <a:pt x="10195" y="17487"/>
                </a:moveTo>
                <a:cubicBezTo>
                  <a:pt x="10206" y="17490"/>
                  <a:pt x="10301" y="17534"/>
                  <a:pt x="10344" y="17537"/>
                </a:cubicBezTo>
                <a:cubicBezTo>
                  <a:pt x="10469" y="17547"/>
                  <a:pt x="10592" y="17556"/>
                  <a:pt x="10716" y="17562"/>
                </a:cubicBezTo>
                <a:cubicBezTo>
                  <a:pt x="10876" y="17570"/>
                  <a:pt x="11033" y="17543"/>
                  <a:pt x="11187" y="17537"/>
                </a:cubicBezTo>
                <a:cubicBezTo>
                  <a:pt x="11363" y="17530"/>
                  <a:pt x="11534" y="17533"/>
                  <a:pt x="11708" y="17512"/>
                </a:cubicBezTo>
                <a:cubicBezTo>
                  <a:pt x="11823" y="17498"/>
                  <a:pt x="11937" y="17470"/>
                  <a:pt x="12055" y="17462"/>
                </a:cubicBezTo>
                <a:cubicBezTo>
                  <a:pt x="12161" y="17455"/>
                  <a:pt x="12274" y="17435"/>
                  <a:pt x="12378" y="17438"/>
                </a:cubicBezTo>
                <a:cubicBezTo>
                  <a:pt x="12454" y="17440"/>
                  <a:pt x="12523" y="17459"/>
                  <a:pt x="12601" y="17462"/>
                </a:cubicBezTo>
                <a:cubicBezTo>
                  <a:pt x="13290" y="17485"/>
                  <a:pt x="13978" y="17473"/>
                  <a:pt x="14660" y="17512"/>
                </a:cubicBezTo>
                <a:cubicBezTo>
                  <a:pt x="14853" y="17523"/>
                  <a:pt x="15042" y="17494"/>
                  <a:pt x="15230" y="17487"/>
                </a:cubicBezTo>
                <a:cubicBezTo>
                  <a:pt x="15470" y="17478"/>
                  <a:pt x="15710" y="17470"/>
                  <a:pt x="15949" y="17462"/>
                </a:cubicBezTo>
                <a:cubicBezTo>
                  <a:pt x="16140" y="17456"/>
                  <a:pt x="16331" y="17459"/>
                  <a:pt x="16520" y="17438"/>
                </a:cubicBezTo>
                <a:cubicBezTo>
                  <a:pt x="16808" y="17406"/>
                  <a:pt x="17099" y="17416"/>
                  <a:pt x="17388" y="17388"/>
                </a:cubicBezTo>
                <a:cubicBezTo>
                  <a:pt x="17589" y="17369"/>
                  <a:pt x="17783" y="17340"/>
                  <a:pt x="17983" y="17314"/>
                </a:cubicBezTo>
                <a:cubicBezTo>
                  <a:pt x="18131" y="17295"/>
                  <a:pt x="18280" y="17291"/>
                  <a:pt x="18430" y="17289"/>
                </a:cubicBezTo>
                <a:cubicBezTo>
                  <a:pt x="18562" y="17287"/>
                  <a:pt x="18645" y="17289"/>
                  <a:pt x="18777" y="172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362320" y="228600"/>
            <a:ext cx="648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bjective:  Students will Divide Decimals by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71680" y="1104840"/>
            <a:ext cx="8038800" cy="1191240"/>
            <a:chOff x="571680" y="1104840"/>
            <a:chExt cx="8038800" cy="1191240"/>
          </a:xfrm>
        </p:grpSpPr>
        <p:sp>
          <p:nvSpPr>
            <p:cNvPr id="82" name=""/>
            <p:cNvSpPr/>
            <p:nvPr/>
          </p:nvSpPr>
          <p:spPr>
            <a:xfrm>
              <a:off x="571680" y="1104840"/>
              <a:ext cx="803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find the quoti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.102    6.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multiply the divisor and dividend b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Move the decimal point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place to the righ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5"/>
            <a:srcRect l="22218" t="0" r="18690" b="0"/>
            <a:stretch/>
          </p:blipFill>
          <p:spPr>
            <a:xfrm>
              <a:off x="4470480" y="1270080"/>
              <a:ext cx="26496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"/>
          <p:cNvGrpSpPr/>
          <p:nvPr/>
        </p:nvGrpSpPr>
        <p:grpSpPr>
          <a:xfrm>
            <a:off x="888840" y="2362320"/>
            <a:ext cx="1587600" cy="642600"/>
            <a:chOff x="888840" y="2362320"/>
            <a:chExt cx="1587600" cy="642600"/>
          </a:xfrm>
        </p:grpSpPr>
        <p:grpSp>
          <p:nvGrpSpPr>
            <p:cNvPr id="85" name=""/>
            <p:cNvGrpSpPr/>
            <p:nvPr/>
          </p:nvGrpSpPr>
          <p:grpSpPr>
            <a:xfrm>
              <a:off x="1219320" y="2362320"/>
              <a:ext cx="1181160" cy="642600"/>
              <a:chOff x="1219320" y="2362320"/>
              <a:chExt cx="1181160" cy="642600"/>
            </a:xfrm>
          </p:grpSpPr>
          <p:sp>
            <p:nvSpPr>
              <p:cNvPr id="86" name=""/>
              <p:cNvSpPr/>
              <p:nvPr/>
            </p:nvSpPr>
            <p:spPr>
              <a:xfrm>
                <a:off x="1219320" y="2362320"/>
                <a:ext cx="304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333440" y="255276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888840" y="2514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09760" y="2514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.1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2590920" y="2514600"/>
            <a:ext cx="2590560" cy="5205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5257800" y="2355840"/>
            <a:ext cx="2057040" cy="882720"/>
            <a:chOff x="5257800" y="2355840"/>
            <a:chExt cx="2057040" cy="882720"/>
          </a:xfrm>
        </p:grpSpPr>
        <p:grpSp>
          <p:nvGrpSpPr>
            <p:cNvPr id="92" name=""/>
            <p:cNvGrpSpPr/>
            <p:nvPr/>
          </p:nvGrpSpPr>
          <p:grpSpPr>
            <a:xfrm>
              <a:off x="5257800" y="2355840"/>
              <a:ext cx="2057040" cy="642600"/>
              <a:chOff x="5257800" y="2355840"/>
              <a:chExt cx="2057040" cy="64260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5685840" y="2355840"/>
                <a:ext cx="1530000" cy="642600"/>
                <a:chOff x="5685840" y="2355840"/>
                <a:chExt cx="1530000" cy="6426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685840" y="2355840"/>
                  <a:ext cx="394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833440" y="2546280"/>
                  <a:ext cx="1382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5257800" y="2508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.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932800" y="2508120"/>
                <a:ext cx="138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01.0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8" name="" descr=""/>
            <p:cNvPicPr/>
            <p:nvPr/>
          </p:nvPicPr>
          <p:blipFill>
            <a:blip r:embed="rId7"/>
            <a:stretch/>
          </p:blipFill>
          <p:spPr>
            <a:xfrm>
              <a:off x="5359320" y="2895480"/>
              <a:ext cx="343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8"/>
            <a:stretch/>
          </p:blipFill>
          <p:spPr>
            <a:xfrm>
              <a:off x="6222960" y="2895480"/>
              <a:ext cx="343080" cy="34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5257800" y="3429000"/>
            <a:ext cx="3390840" cy="1068120"/>
            <a:chOff x="5257800" y="3429000"/>
            <a:chExt cx="3390840" cy="1068120"/>
          </a:xfrm>
        </p:grpSpPr>
        <p:grpSp>
          <p:nvGrpSpPr>
            <p:cNvPr id="101" name=""/>
            <p:cNvGrpSpPr/>
            <p:nvPr/>
          </p:nvGrpSpPr>
          <p:grpSpPr>
            <a:xfrm>
              <a:off x="5257800" y="3854520"/>
              <a:ext cx="2057040" cy="642600"/>
              <a:chOff x="5257800" y="3854520"/>
              <a:chExt cx="2057040" cy="6426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5685840" y="3854520"/>
                <a:ext cx="1530000" cy="642600"/>
                <a:chOff x="5685840" y="3854520"/>
                <a:chExt cx="1530000" cy="6426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685840" y="3854520"/>
                  <a:ext cx="394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833440" y="4044960"/>
                  <a:ext cx="1382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257800" y="40068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932800" y="4006800"/>
                <a:ext cx="138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01.0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124760" y="3429000"/>
              <a:ext cx="1523880" cy="380880"/>
            </a:xfrm>
            <a:prstGeom prst="wedgeRoundRectCallout">
              <a:avLst>
                <a:gd name="adj1" fmla="val -36351"/>
                <a:gd name="adj2" fmla="val 100833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en divi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51880" y="368316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09.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738080" y="5638680"/>
            <a:ext cx="534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 Italic"/>
              </a:rPr>
              <a:t>Over - over and up we g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283068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3299" y="7888"/>
                </a:moveTo>
                <a:cubicBezTo>
                  <a:pt x="3299" y="7880"/>
                  <a:pt x="3299" y="7871"/>
                  <a:pt x="3299" y="7863"/>
                </a:cubicBezTo>
              </a:path>
              <a:path w="1" h="26">
                <a:moveTo>
                  <a:pt x="3299" y="7863"/>
                </a:moveTo>
                <a:lnTo>
                  <a:pt x="3299" y="7863"/>
                </a:lnTo>
              </a:path>
              <a:path w="1" h="26">
                <a:moveTo>
                  <a:pt x="3299" y="7863"/>
                </a:moveTo>
                <a:lnTo>
                  <a:pt x="3299" y="7863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71920" y="2224080"/>
            <a:ext cx="1401840" cy="98280"/>
          </a:xfrm>
          <a:custGeom>
            <a:avLst/>
            <a:gdLst/>
            <a:ahLst/>
            <a:rect l="l" t="t" r="r" b="b"/>
            <a:pathLst>
              <a:path w="3895" h="274">
                <a:moveTo>
                  <a:pt x="13742" y="6400"/>
                </a:moveTo>
                <a:cubicBezTo>
                  <a:pt x="13742" y="6424"/>
                  <a:pt x="13742" y="6432"/>
                  <a:pt x="13767" y="6424"/>
                </a:cubicBezTo>
              </a:path>
              <a:path w="3895" h="274">
                <a:moveTo>
                  <a:pt x="13816" y="6449"/>
                </a:moveTo>
                <a:lnTo>
                  <a:pt x="13816" y="6449"/>
                </a:lnTo>
              </a:path>
              <a:path w="3895" h="274">
                <a:moveTo>
                  <a:pt x="13816" y="6449"/>
                </a:moveTo>
                <a:lnTo>
                  <a:pt x="13816" y="6449"/>
                </a:lnTo>
              </a:path>
              <a:path w="3895" h="274">
                <a:moveTo>
                  <a:pt x="9922" y="6176"/>
                </a:moveTo>
                <a:lnTo>
                  <a:pt x="9922" y="6176"/>
                </a:lnTo>
              </a:path>
              <a:path w="3895" h="274">
                <a:moveTo>
                  <a:pt x="9922" y="6176"/>
                </a:moveTo>
                <a:lnTo>
                  <a:pt x="9922" y="617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54200" y="1884240"/>
            <a:ext cx="2955960" cy="536760"/>
          </a:xfrm>
          <a:custGeom>
            <a:avLst/>
            <a:gdLst/>
            <a:ahLst/>
            <a:rect l="l" t="t" r="r" b="b"/>
            <a:pathLst>
              <a:path w="8211" h="1489">
                <a:moveTo>
                  <a:pt x="10939" y="6251"/>
                </a:moveTo>
                <a:cubicBezTo>
                  <a:pt x="10939" y="6258"/>
                  <a:pt x="10939" y="6341"/>
                  <a:pt x="10939" y="6276"/>
                </a:cubicBezTo>
              </a:path>
              <a:path w="8211" h="1489">
                <a:moveTo>
                  <a:pt x="11435" y="5779"/>
                </a:moveTo>
                <a:cubicBezTo>
                  <a:pt x="11394" y="5902"/>
                  <a:pt x="11346" y="6020"/>
                  <a:pt x="11311" y="6152"/>
                </a:cubicBezTo>
                <a:cubicBezTo>
                  <a:pt x="11284" y="6255"/>
                  <a:pt x="11286" y="6325"/>
                  <a:pt x="11435" y="6325"/>
                </a:cubicBezTo>
                <a:cubicBezTo>
                  <a:pt x="11494" y="6325"/>
                  <a:pt x="11660" y="6280"/>
                  <a:pt x="11683" y="6201"/>
                </a:cubicBezTo>
                <a:cubicBezTo>
                  <a:pt x="11683" y="6185"/>
                  <a:pt x="11683" y="6168"/>
                  <a:pt x="11683" y="6152"/>
                </a:cubicBezTo>
                <a:cubicBezTo>
                  <a:pt x="11571" y="6152"/>
                  <a:pt x="11568" y="6178"/>
                  <a:pt x="11509" y="6276"/>
                </a:cubicBezTo>
                <a:cubicBezTo>
                  <a:pt x="11445" y="6382"/>
                  <a:pt x="11550" y="6296"/>
                  <a:pt x="11584" y="6276"/>
                </a:cubicBezTo>
              </a:path>
              <a:path w="8211" h="1489">
                <a:moveTo>
                  <a:pt x="11931" y="5829"/>
                </a:moveTo>
                <a:cubicBezTo>
                  <a:pt x="11991" y="5729"/>
                  <a:pt x="11983" y="5740"/>
                  <a:pt x="12105" y="5730"/>
                </a:cubicBezTo>
                <a:cubicBezTo>
                  <a:pt x="12188" y="5870"/>
                  <a:pt x="12147" y="5901"/>
                  <a:pt x="12030" y="6003"/>
                </a:cubicBezTo>
                <a:cubicBezTo>
                  <a:pt x="12022" y="6011"/>
                  <a:pt x="12013" y="6020"/>
                  <a:pt x="12005" y="6028"/>
                </a:cubicBezTo>
                <a:cubicBezTo>
                  <a:pt x="12029" y="5992"/>
                  <a:pt x="12115" y="5985"/>
                  <a:pt x="12154" y="6052"/>
                </a:cubicBezTo>
                <a:cubicBezTo>
                  <a:pt x="12224" y="6175"/>
                  <a:pt x="12121" y="6317"/>
                  <a:pt x="11981" y="6300"/>
                </a:cubicBezTo>
                <a:cubicBezTo>
                  <a:pt x="11891" y="6264"/>
                  <a:pt x="11885" y="6248"/>
                  <a:pt x="11832" y="6251"/>
                </a:cubicBezTo>
              </a:path>
              <a:path w="8211" h="1489">
                <a:moveTo>
                  <a:pt x="12526" y="6424"/>
                </a:moveTo>
                <a:cubicBezTo>
                  <a:pt x="12585" y="6323"/>
                  <a:pt x="12616" y="6175"/>
                  <a:pt x="12626" y="6028"/>
                </a:cubicBezTo>
                <a:cubicBezTo>
                  <a:pt x="12634" y="5915"/>
                  <a:pt x="12593" y="5837"/>
                  <a:pt x="12576" y="5779"/>
                </a:cubicBezTo>
                <a:cubicBezTo>
                  <a:pt x="12565" y="5740"/>
                  <a:pt x="12565" y="5694"/>
                  <a:pt x="12551" y="5655"/>
                </a:cubicBezTo>
                <a:cubicBezTo>
                  <a:pt x="12663" y="5690"/>
                  <a:pt x="12751" y="5703"/>
                  <a:pt x="12874" y="5705"/>
                </a:cubicBezTo>
                <a:cubicBezTo>
                  <a:pt x="13131" y="5710"/>
                  <a:pt x="13387" y="5733"/>
                  <a:pt x="13643" y="5755"/>
                </a:cubicBezTo>
                <a:cubicBezTo>
                  <a:pt x="13940" y="5781"/>
                  <a:pt x="14239" y="5800"/>
                  <a:pt x="14536" y="5804"/>
                </a:cubicBezTo>
                <a:cubicBezTo>
                  <a:pt x="14720" y="5807"/>
                  <a:pt x="14923" y="5806"/>
                  <a:pt x="15106" y="5829"/>
                </a:cubicBezTo>
                <a:cubicBezTo>
                  <a:pt x="15172" y="5837"/>
                  <a:pt x="15250" y="5865"/>
                  <a:pt x="15304" y="5879"/>
                </a:cubicBezTo>
              </a:path>
              <a:path w="8211" h="1489">
                <a:moveTo>
                  <a:pt x="13047" y="5879"/>
                </a:moveTo>
                <a:cubicBezTo>
                  <a:pt x="12914" y="5879"/>
                  <a:pt x="12855" y="6018"/>
                  <a:pt x="12799" y="6127"/>
                </a:cubicBezTo>
                <a:cubicBezTo>
                  <a:pt x="12754" y="6240"/>
                  <a:pt x="12738" y="6270"/>
                  <a:pt x="12750" y="6350"/>
                </a:cubicBezTo>
                <a:cubicBezTo>
                  <a:pt x="12908" y="6437"/>
                  <a:pt x="13018" y="6391"/>
                  <a:pt x="13146" y="6251"/>
                </a:cubicBezTo>
                <a:cubicBezTo>
                  <a:pt x="13154" y="6234"/>
                  <a:pt x="13163" y="6218"/>
                  <a:pt x="13171" y="6201"/>
                </a:cubicBezTo>
                <a:cubicBezTo>
                  <a:pt x="13059" y="6127"/>
                  <a:pt x="12958" y="6169"/>
                  <a:pt x="12898" y="6300"/>
                </a:cubicBezTo>
                <a:cubicBezTo>
                  <a:pt x="12876" y="6412"/>
                  <a:pt x="12858" y="6446"/>
                  <a:pt x="12948" y="6474"/>
                </a:cubicBezTo>
              </a:path>
              <a:path w="8211" h="1489">
                <a:moveTo>
                  <a:pt x="13444" y="6028"/>
                </a:moveTo>
                <a:cubicBezTo>
                  <a:pt x="13334" y="6156"/>
                  <a:pt x="13265" y="6232"/>
                  <a:pt x="13295" y="6400"/>
                </a:cubicBezTo>
                <a:cubicBezTo>
                  <a:pt x="13453" y="6373"/>
                  <a:pt x="13678" y="6306"/>
                  <a:pt x="13593" y="6077"/>
                </a:cubicBezTo>
                <a:cubicBezTo>
                  <a:pt x="13546" y="5949"/>
                  <a:pt x="13471" y="5999"/>
                  <a:pt x="13444" y="6052"/>
                </a:cubicBezTo>
              </a:path>
              <a:path w="8211" h="1489">
                <a:moveTo>
                  <a:pt x="14089" y="6077"/>
                </a:moveTo>
                <a:cubicBezTo>
                  <a:pt x="14089" y="6203"/>
                  <a:pt x="13938" y="6448"/>
                  <a:pt x="14064" y="6449"/>
                </a:cubicBezTo>
                <a:cubicBezTo>
                  <a:pt x="14089" y="6433"/>
                  <a:pt x="14114" y="6416"/>
                  <a:pt x="14139" y="6400"/>
                </a:cubicBezTo>
              </a:path>
              <a:path w="8211" h="1489">
                <a:moveTo>
                  <a:pt x="14486" y="6077"/>
                </a:moveTo>
                <a:cubicBezTo>
                  <a:pt x="14432" y="6154"/>
                  <a:pt x="14279" y="6414"/>
                  <a:pt x="14486" y="6449"/>
                </a:cubicBezTo>
                <a:cubicBezTo>
                  <a:pt x="14660" y="6478"/>
                  <a:pt x="14784" y="6251"/>
                  <a:pt x="14660" y="6127"/>
                </a:cubicBezTo>
                <a:cubicBezTo>
                  <a:pt x="14599" y="6107"/>
                  <a:pt x="14584" y="6088"/>
                  <a:pt x="14560" y="6127"/>
                </a:cubicBezTo>
              </a:path>
              <a:path w="8211" h="1489">
                <a:moveTo>
                  <a:pt x="14908" y="6102"/>
                </a:moveTo>
                <a:cubicBezTo>
                  <a:pt x="14973" y="6102"/>
                  <a:pt x="15148" y="6056"/>
                  <a:pt x="15131" y="6176"/>
                </a:cubicBezTo>
                <a:cubicBezTo>
                  <a:pt x="15116" y="6281"/>
                  <a:pt x="14977" y="6355"/>
                  <a:pt x="14908" y="6424"/>
                </a:cubicBezTo>
                <a:cubicBezTo>
                  <a:pt x="15040" y="6424"/>
                  <a:pt x="15172" y="6424"/>
                  <a:pt x="15304" y="6424"/>
                </a:cubicBezTo>
              </a:path>
              <a:path w="8211" h="1489">
                <a:moveTo>
                  <a:pt x="10914" y="6350"/>
                </a:moveTo>
                <a:cubicBezTo>
                  <a:pt x="10914" y="6383"/>
                  <a:pt x="10904" y="6368"/>
                  <a:pt x="10914" y="6400"/>
                </a:cubicBezTo>
                <a:cubicBezTo>
                  <a:pt x="10930" y="6451"/>
                  <a:pt x="10968" y="6478"/>
                  <a:pt x="10988" y="6499"/>
                </a:cubicBezTo>
                <a:cubicBezTo>
                  <a:pt x="11044" y="6556"/>
                  <a:pt x="11044" y="6525"/>
                  <a:pt x="11112" y="6548"/>
                </a:cubicBezTo>
                <a:cubicBezTo>
                  <a:pt x="11136" y="6556"/>
                  <a:pt x="11243" y="6600"/>
                  <a:pt x="11261" y="6598"/>
                </a:cubicBezTo>
                <a:cubicBezTo>
                  <a:pt x="11343" y="6588"/>
                  <a:pt x="11328" y="6593"/>
                  <a:pt x="11410" y="6598"/>
                </a:cubicBezTo>
                <a:cubicBezTo>
                  <a:pt x="11456" y="6601"/>
                  <a:pt x="11469" y="6580"/>
                  <a:pt x="11509" y="6573"/>
                </a:cubicBezTo>
                <a:cubicBezTo>
                  <a:pt x="11553" y="6566"/>
                  <a:pt x="11598" y="6555"/>
                  <a:pt x="11633" y="6548"/>
                </a:cubicBezTo>
                <a:cubicBezTo>
                  <a:pt x="11686" y="6537"/>
                  <a:pt x="11712" y="6540"/>
                  <a:pt x="11757" y="6499"/>
                </a:cubicBezTo>
                <a:cubicBezTo>
                  <a:pt x="11779" y="6479"/>
                  <a:pt x="11776" y="6463"/>
                  <a:pt x="11782" y="6424"/>
                </a:cubicBezTo>
                <a:cubicBezTo>
                  <a:pt x="11788" y="6440"/>
                  <a:pt x="11792" y="6534"/>
                  <a:pt x="11807" y="6573"/>
                </a:cubicBezTo>
                <a:cubicBezTo>
                  <a:pt x="11839" y="6656"/>
                  <a:pt x="11884" y="6638"/>
                  <a:pt x="11956" y="6672"/>
                </a:cubicBezTo>
                <a:cubicBezTo>
                  <a:pt x="12040" y="6712"/>
                  <a:pt x="12083" y="6686"/>
                  <a:pt x="12154" y="6672"/>
                </a:cubicBezTo>
                <a:cubicBezTo>
                  <a:pt x="12252" y="6652"/>
                  <a:pt x="12212" y="6679"/>
                  <a:pt x="12278" y="6598"/>
                </a:cubicBezTo>
                <a:cubicBezTo>
                  <a:pt x="12314" y="6554"/>
                  <a:pt x="12349" y="6528"/>
                  <a:pt x="12353" y="6449"/>
                </a:cubicBezTo>
                <a:cubicBezTo>
                  <a:pt x="12356" y="6400"/>
                  <a:pt x="12353" y="6349"/>
                  <a:pt x="12353" y="6300"/>
                </a:cubicBezTo>
                <a:cubicBezTo>
                  <a:pt x="12279" y="6424"/>
                  <a:pt x="12422" y="6378"/>
                  <a:pt x="12477" y="6300"/>
                </a:cubicBezTo>
                <a:cubicBezTo>
                  <a:pt x="12535" y="6218"/>
                  <a:pt x="12476" y="6134"/>
                  <a:pt x="12378" y="6176"/>
                </a:cubicBezTo>
                <a:cubicBezTo>
                  <a:pt x="12298" y="6210"/>
                  <a:pt x="12312" y="6247"/>
                  <a:pt x="12328" y="6300"/>
                </a:cubicBezTo>
                <a:cubicBezTo>
                  <a:pt x="12402" y="6263"/>
                  <a:pt x="12411" y="6258"/>
                  <a:pt x="12452" y="6176"/>
                </a:cubicBezTo>
                <a:cubicBezTo>
                  <a:pt x="12378" y="6213"/>
                  <a:pt x="12364" y="6213"/>
                  <a:pt x="12353" y="6300"/>
                </a:cubicBezTo>
              </a:path>
              <a:path w="8211" h="1489">
                <a:moveTo>
                  <a:pt x="13791" y="6524"/>
                </a:moveTo>
                <a:cubicBezTo>
                  <a:pt x="13791" y="6499"/>
                  <a:pt x="13791" y="6474"/>
                  <a:pt x="13791" y="6449"/>
                </a:cubicBezTo>
              </a:path>
              <a:path w="8211" h="1489">
                <a:moveTo>
                  <a:pt x="13816" y="6449"/>
                </a:moveTo>
                <a:cubicBezTo>
                  <a:pt x="13816" y="6499"/>
                  <a:pt x="13812" y="6561"/>
                  <a:pt x="13841" y="6598"/>
                </a:cubicBezTo>
                <a:cubicBezTo>
                  <a:pt x="13867" y="6631"/>
                  <a:pt x="13946" y="6687"/>
                  <a:pt x="13990" y="6697"/>
                </a:cubicBezTo>
                <a:cubicBezTo>
                  <a:pt x="14026" y="6706"/>
                  <a:pt x="14117" y="6699"/>
                  <a:pt x="14139" y="6672"/>
                </a:cubicBezTo>
                <a:cubicBezTo>
                  <a:pt x="14162" y="6644"/>
                  <a:pt x="14209" y="6582"/>
                  <a:pt x="14213" y="6548"/>
                </a:cubicBezTo>
                <a:cubicBezTo>
                  <a:pt x="14219" y="6496"/>
                  <a:pt x="14233" y="6512"/>
                  <a:pt x="14238" y="6474"/>
                </a:cubicBezTo>
                <a:cubicBezTo>
                  <a:pt x="14250" y="6375"/>
                  <a:pt x="14242" y="6463"/>
                  <a:pt x="14238" y="6524"/>
                </a:cubicBezTo>
                <a:cubicBezTo>
                  <a:pt x="14234" y="6586"/>
                  <a:pt x="14267" y="6623"/>
                  <a:pt x="14312" y="6648"/>
                </a:cubicBezTo>
                <a:cubicBezTo>
                  <a:pt x="14362" y="6676"/>
                  <a:pt x="14438" y="6712"/>
                  <a:pt x="14486" y="6722"/>
                </a:cubicBezTo>
                <a:cubicBezTo>
                  <a:pt x="14574" y="6740"/>
                  <a:pt x="14686" y="6719"/>
                  <a:pt x="14759" y="6697"/>
                </a:cubicBezTo>
                <a:cubicBezTo>
                  <a:pt x="14796" y="6686"/>
                  <a:pt x="14827" y="6675"/>
                  <a:pt x="14858" y="6648"/>
                </a:cubicBezTo>
                <a:cubicBezTo>
                  <a:pt x="14889" y="6621"/>
                  <a:pt x="14929" y="6573"/>
                  <a:pt x="14932" y="6548"/>
                </a:cubicBezTo>
                <a:cubicBezTo>
                  <a:pt x="14939" y="6489"/>
                  <a:pt x="14912" y="6484"/>
                  <a:pt x="14908" y="6449"/>
                </a:cubicBezTo>
                <a:cubicBezTo>
                  <a:pt x="14904" y="6418"/>
                  <a:pt x="14902" y="6385"/>
                  <a:pt x="14883" y="6375"/>
                </a:cubicBezTo>
                <a:cubicBezTo>
                  <a:pt x="14841" y="6354"/>
                  <a:pt x="14825" y="6358"/>
                  <a:pt x="14808" y="6375"/>
                </a:cubicBezTo>
                <a:cubicBezTo>
                  <a:pt x="14773" y="6450"/>
                  <a:pt x="14875" y="6355"/>
                  <a:pt x="14808" y="6350"/>
                </a:cubicBezTo>
                <a:cubicBezTo>
                  <a:pt x="14764" y="6350"/>
                  <a:pt x="14750" y="6347"/>
                  <a:pt x="14734" y="6375"/>
                </a:cubicBezTo>
                <a:cubicBezTo>
                  <a:pt x="14734" y="6408"/>
                  <a:pt x="14742" y="6417"/>
                  <a:pt x="14784" y="6400"/>
                </a:cubicBezTo>
                <a:cubicBezTo>
                  <a:pt x="14798" y="6315"/>
                  <a:pt x="14790" y="6381"/>
                  <a:pt x="14808" y="6325"/>
                </a:cubicBezTo>
              </a:path>
              <a:path w="8211" h="1489">
                <a:moveTo>
                  <a:pt x="14808" y="5457"/>
                </a:moveTo>
                <a:cubicBezTo>
                  <a:pt x="14769" y="5507"/>
                  <a:pt x="14757" y="5544"/>
                  <a:pt x="14734" y="5606"/>
                </a:cubicBezTo>
                <a:cubicBezTo>
                  <a:pt x="14818" y="5669"/>
                  <a:pt x="14857" y="5556"/>
                  <a:pt x="14883" y="5482"/>
                </a:cubicBezTo>
                <a:cubicBezTo>
                  <a:pt x="14906" y="5416"/>
                  <a:pt x="14764" y="5495"/>
                  <a:pt x="14759" y="5507"/>
                </a:cubicBezTo>
                <a:cubicBezTo>
                  <a:pt x="14759" y="5532"/>
                  <a:pt x="14759" y="5556"/>
                  <a:pt x="14759" y="5581"/>
                </a:cubicBezTo>
                <a:cubicBezTo>
                  <a:pt x="14811" y="5568"/>
                  <a:pt x="14825" y="5487"/>
                  <a:pt x="14808" y="5507"/>
                </a:cubicBezTo>
                <a:cubicBezTo>
                  <a:pt x="14800" y="5523"/>
                  <a:pt x="14792" y="5540"/>
                  <a:pt x="14784" y="5556"/>
                </a:cubicBezTo>
              </a:path>
              <a:path w="8211" h="1489">
                <a:moveTo>
                  <a:pt x="7144" y="5904"/>
                </a:moveTo>
                <a:cubicBezTo>
                  <a:pt x="7144" y="5879"/>
                  <a:pt x="7144" y="5871"/>
                  <a:pt x="7144" y="5854"/>
                </a:cubicBezTo>
                <a:cubicBezTo>
                  <a:pt x="7116" y="5891"/>
                  <a:pt x="7141" y="5980"/>
                  <a:pt x="7094" y="5978"/>
                </a:cubicBezTo>
                <a:cubicBezTo>
                  <a:pt x="7094" y="5953"/>
                  <a:pt x="7094" y="5945"/>
                  <a:pt x="7094" y="5928"/>
                </a:cubicBezTo>
                <a:cubicBezTo>
                  <a:pt x="7094" y="5985"/>
                  <a:pt x="7084" y="6004"/>
                  <a:pt x="7119" y="6028"/>
                </a:cubicBezTo>
              </a:path>
              <a:path w="8211" h="1489">
                <a:moveTo>
                  <a:pt x="7466" y="5531"/>
                </a:moveTo>
                <a:cubicBezTo>
                  <a:pt x="7443" y="5671"/>
                  <a:pt x="7394" y="5811"/>
                  <a:pt x="7367" y="5953"/>
                </a:cubicBezTo>
                <a:cubicBezTo>
                  <a:pt x="7347" y="6054"/>
                  <a:pt x="7328" y="6074"/>
                  <a:pt x="7367" y="6127"/>
                </a:cubicBezTo>
                <a:cubicBezTo>
                  <a:pt x="7531" y="6101"/>
                  <a:pt x="7570" y="6039"/>
                  <a:pt x="7665" y="5904"/>
                </a:cubicBezTo>
                <a:cubicBezTo>
                  <a:pt x="7627" y="5790"/>
                  <a:pt x="7518" y="6082"/>
                  <a:pt x="7516" y="6102"/>
                </a:cubicBezTo>
                <a:cubicBezTo>
                  <a:pt x="7535" y="6159"/>
                  <a:pt x="7526" y="6184"/>
                  <a:pt x="7565" y="6176"/>
                </a:cubicBezTo>
              </a:path>
              <a:path w="8211" h="1489">
                <a:moveTo>
                  <a:pt x="7838" y="5631"/>
                </a:moveTo>
                <a:cubicBezTo>
                  <a:pt x="7864" y="5623"/>
                  <a:pt x="8090" y="5526"/>
                  <a:pt x="8086" y="5655"/>
                </a:cubicBezTo>
                <a:cubicBezTo>
                  <a:pt x="8038" y="5753"/>
                  <a:pt x="8023" y="5785"/>
                  <a:pt x="7962" y="5829"/>
                </a:cubicBezTo>
                <a:cubicBezTo>
                  <a:pt x="7954" y="5837"/>
                  <a:pt x="7946" y="5846"/>
                  <a:pt x="7938" y="5854"/>
                </a:cubicBezTo>
                <a:cubicBezTo>
                  <a:pt x="8048" y="5817"/>
                  <a:pt x="8131" y="5934"/>
                  <a:pt x="8062" y="6052"/>
                </a:cubicBezTo>
                <a:cubicBezTo>
                  <a:pt x="7960" y="6226"/>
                  <a:pt x="7778" y="6261"/>
                  <a:pt x="7764" y="6077"/>
                </a:cubicBezTo>
              </a:path>
              <a:path w="8211" h="1489">
                <a:moveTo>
                  <a:pt x="8483" y="6400"/>
                </a:moveTo>
                <a:cubicBezTo>
                  <a:pt x="8483" y="6103"/>
                  <a:pt x="8477" y="5786"/>
                  <a:pt x="8458" y="5507"/>
                </a:cubicBezTo>
                <a:cubicBezTo>
                  <a:pt x="8458" y="5482"/>
                  <a:pt x="8458" y="5474"/>
                  <a:pt x="8458" y="5457"/>
                </a:cubicBezTo>
                <a:cubicBezTo>
                  <a:pt x="8585" y="5474"/>
                  <a:pt x="8746" y="5477"/>
                  <a:pt x="8880" y="5457"/>
                </a:cubicBezTo>
                <a:cubicBezTo>
                  <a:pt x="9124" y="5421"/>
                  <a:pt x="9337" y="5444"/>
                  <a:pt x="9575" y="5432"/>
                </a:cubicBezTo>
                <a:cubicBezTo>
                  <a:pt x="9673" y="5427"/>
                  <a:pt x="9745" y="5432"/>
                  <a:pt x="9847" y="5432"/>
                </a:cubicBezTo>
                <a:cubicBezTo>
                  <a:pt x="9978" y="5432"/>
                  <a:pt x="10093" y="5442"/>
                  <a:pt x="10220" y="5457"/>
                </a:cubicBezTo>
                <a:cubicBezTo>
                  <a:pt x="10269" y="5457"/>
                  <a:pt x="10286" y="5457"/>
                  <a:pt x="10319" y="5457"/>
                </a:cubicBezTo>
              </a:path>
              <a:path w="8211" h="1489">
                <a:moveTo>
                  <a:pt x="8781" y="5606"/>
                </a:moveTo>
                <a:cubicBezTo>
                  <a:pt x="8781" y="5558"/>
                  <a:pt x="8711" y="5763"/>
                  <a:pt x="8706" y="5779"/>
                </a:cubicBezTo>
                <a:cubicBezTo>
                  <a:pt x="8679" y="5872"/>
                  <a:pt x="8644" y="5983"/>
                  <a:pt x="8632" y="6077"/>
                </a:cubicBezTo>
                <a:cubicBezTo>
                  <a:pt x="8754" y="6130"/>
                  <a:pt x="8757" y="6080"/>
                  <a:pt x="8855" y="6028"/>
                </a:cubicBezTo>
                <a:cubicBezTo>
                  <a:pt x="8906" y="6001"/>
                  <a:pt x="8867" y="5960"/>
                  <a:pt x="8855" y="5904"/>
                </a:cubicBezTo>
                <a:cubicBezTo>
                  <a:pt x="8777" y="5968"/>
                  <a:pt x="8717" y="5996"/>
                  <a:pt x="8706" y="6102"/>
                </a:cubicBezTo>
                <a:cubicBezTo>
                  <a:pt x="8706" y="6144"/>
                  <a:pt x="8698" y="6160"/>
                  <a:pt x="8731" y="6152"/>
                </a:cubicBezTo>
              </a:path>
              <a:path w="8211" h="1489">
                <a:moveTo>
                  <a:pt x="9029" y="5730"/>
                </a:moveTo>
                <a:cubicBezTo>
                  <a:pt x="8898" y="5795"/>
                  <a:pt x="8895" y="5895"/>
                  <a:pt x="8855" y="6028"/>
                </a:cubicBezTo>
                <a:cubicBezTo>
                  <a:pt x="8833" y="6093"/>
                  <a:pt x="8825" y="6108"/>
                  <a:pt x="8830" y="6152"/>
                </a:cubicBezTo>
                <a:cubicBezTo>
                  <a:pt x="8965" y="6178"/>
                  <a:pt x="9099" y="6109"/>
                  <a:pt x="9178" y="5978"/>
                </a:cubicBezTo>
                <a:cubicBezTo>
                  <a:pt x="9243" y="5870"/>
                  <a:pt x="9195" y="5753"/>
                  <a:pt x="9079" y="5730"/>
                </a:cubicBezTo>
                <a:cubicBezTo>
                  <a:pt x="9037" y="5730"/>
                  <a:pt x="9029" y="5730"/>
                  <a:pt x="9004" y="5730"/>
                </a:cubicBezTo>
              </a:path>
              <a:path w="8211" h="1489">
                <a:moveTo>
                  <a:pt x="9376" y="6052"/>
                </a:moveTo>
                <a:cubicBezTo>
                  <a:pt x="9351" y="5981"/>
                  <a:pt x="9319" y="6093"/>
                  <a:pt x="9302" y="6127"/>
                </a:cubicBezTo>
                <a:cubicBezTo>
                  <a:pt x="9315" y="6124"/>
                  <a:pt x="9408" y="6084"/>
                  <a:pt x="9376" y="6052"/>
                </a:cubicBezTo>
                <a:cubicBezTo>
                  <a:pt x="9368" y="6052"/>
                  <a:pt x="9359" y="6052"/>
                  <a:pt x="9351" y="6052"/>
                </a:cubicBezTo>
              </a:path>
              <a:path w="8211" h="1489">
                <a:moveTo>
                  <a:pt x="9748" y="5631"/>
                </a:moveTo>
                <a:cubicBezTo>
                  <a:pt x="9703" y="5646"/>
                  <a:pt x="9701" y="5942"/>
                  <a:pt x="9699" y="5978"/>
                </a:cubicBezTo>
                <a:cubicBezTo>
                  <a:pt x="9694" y="6090"/>
                  <a:pt x="9697" y="6158"/>
                  <a:pt x="9674" y="6226"/>
                </a:cubicBezTo>
              </a:path>
              <a:path w="8211" h="1489">
                <a:moveTo>
                  <a:pt x="7144" y="5978"/>
                </a:moveTo>
                <a:cubicBezTo>
                  <a:pt x="7144" y="6098"/>
                  <a:pt x="7148" y="6206"/>
                  <a:pt x="7169" y="6325"/>
                </a:cubicBezTo>
                <a:cubicBezTo>
                  <a:pt x="7191" y="6446"/>
                  <a:pt x="7242" y="6559"/>
                  <a:pt x="7392" y="6524"/>
                </a:cubicBezTo>
                <a:cubicBezTo>
                  <a:pt x="7522" y="6494"/>
                  <a:pt x="7534" y="6439"/>
                  <a:pt x="7590" y="6375"/>
                </a:cubicBezTo>
                <a:cubicBezTo>
                  <a:pt x="7615" y="6375"/>
                  <a:pt x="7623" y="6375"/>
                  <a:pt x="7615" y="6350"/>
                </a:cubicBezTo>
                <a:cubicBezTo>
                  <a:pt x="7627" y="6399"/>
                  <a:pt x="7642" y="6447"/>
                  <a:pt x="7665" y="6499"/>
                </a:cubicBezTo>
                <a:cubicBezTo>
                  <a:pt x="7692" y="6560"/>
                  <a:pt x="7766" y="6585"/>
                  <a:pt x="7838" y="6573"/>
                </a:cubicBezTo>
                <a:cubicBezTo>
                  <a:pt x="7921" y="6559"/>
                  <a:pt x="8015" y="6494"/>
                  <a:pt x="8062" y="6424"/>
                </a:cubicBezTo>
                <a:cubicBezTo>
                  <a:pt x="8080" y="6396"/>
                  <a:pt x="8111" y="6270"/>
                  <a:pt x="8111" y="6325"/>
                </a:cubicBezTo>
              </a:path>
              <a:path w="8211" h="1489">
                <a:moveTo>
                  <a:pt x="9351" y="6127"/>
                </a:moveTo>
                <a:cubicBezTo>
                  <a:pt x="9351" y="6119"/>
                  <a:pt x="9351" y="6110"/>
                  <a:pt x="9351" y="6102"/>
                </a:cubicBezTo>
                <a:cubicBezTo>
                  <a:pt x="9321" y="6154"/>
                  <a:pt x="9315" y="6235"/>
                  <a:pt x="9327" y="6300"/>
                </a:cubicBezTo>
                <a:cubicBezTo>
                  <a:pt x="9341" y="6377"/>
                  <a:pt x="9348" y="6421"/>
                  <a:pt x="9401" y="6474"/>
                </a:cubicBezTo>
                <a:cubicBezTo>
                  <a:pt x="9456" y="6529"/>
                  <a:pt x="9502" y="6524"/>
                  <a:pt x="9575" y="6524"/>
                </a:cubicBezTo>
                <a:cubicBezTo>
                  <a:pt x="9618" y="6524"/>
                  <a:pt x="9721" y="6509"/>
                  <a:pt x="9748" y="6474"/>
                </a:cubicBezTo>
                <a:cubicBezTo>
                  <a:pt x="9782" y="6430"/>
                  <a:pt x="9826" y="6369"/>
                  <a:pt x="9847" y="6325"/>
                </a:cubicBezTo>
                <a:cubicBezTo>
                  <a:pt x="9865" y="6286"/>
                  <a:pt x="9877" y="6232"/>
                  <a:pt x="9897" y="6201"/>
                </a:cubicBezTo>
                <a:cubicBezTo>
                  <a:pt x="9920" y="6178"/>
                  <a:pt x="9931" y="6170"/>
                  <a:pt x="9897" y="6176"/>
                </a:cubicBezTo>
              </a:path>
              <a:path w="8211" h="1489">
                <a:moveTo>
                  <a:pt x="9922" y="6176"/>
                </a:moveTo>
                <a:cubicBezTo>
                  <a:pt x="9922" y="6223"/>
                  <a:pt x="9905" y="6239"/>
                  <a:pt x="9897" y="6276"/>
                </a:cubicBezTo>
                <a:cubicBezTo>
                  <a:pt x="9886" y="6327"/>
                  <a:pt x="9922" y="6348"/>
                  <a:pt x="9922" y="6400"/>
                </a:cubicBezTo>
                <a:cubicBezTo>
                  <a:pt x="9922" y="6418"/>
                  <a:pt x="9963" y="6517"/>
                  <a:pt x="9971" y="6524"/>
                </a:cubicBezTo>
                <a:cubicBezTo>
                  <a:pt x="10017" y="6565"/>
                  <a:pt x="10062" y="6573"/>
                  <a:pt x="10120" y="6573"/>
                </a:cubicBezTo>
                <a:cubicBezTo>
                  <a:pt x="10159" y="6573"/>
                  <a:pt x="10175" y="6614"/>
                  <a:pt x="10220" y="6598"/>
                </a:cubicBezTo>
                <a:cubicBezTo>
                  <a:pt x="10284" y="6575"/>
                  <a:pt x="10355" y="6532"/>
                  <a:pt x="10393" y="6474"/>
                </a:cubicBezTo>
                <a:cubicBezTo>
                  <a:pt x="10414" y="6442"/>
                  <a:pt x="10462" y="6363"/>
                  <a:pt x="10468" y="6350"/>
                </a:cubicBezTo>
                <a:cubicBezTo>
                  <a:pt x="10480" y="6326"/>
                  <a:pt x="10489" y="6253"/>
                  <a:pt x="10492" y="6226"/>
                </a:cubicBezTo>
                <a:cubicBezTo>
                  <a:pt x="10499" y="6161"/>
                  <a:pt x="10481" y="6130"/>
                  <a:pt x="10468" y="6102"/>
                </a:cubicBezTo>
                <a:cubicBezTo>
                  <a:pt x="10468" y="6077"/>
                  <a:pt x="10468" y="6069"/>
                  <a:pt x="10492" y="6077"/>
                </a:cubicBezTo>
                <a:cubicBezTo>
                  <a:pt x="10457" y="6089"/>
                  <a:pt x="10457" y="6090"/>
                  <a:pt x="10492" y="6102"/>
                </a:cubicBezTo>
              </a:path>
              <a:path w="8211" h="1489">
                <a:moveTo>
                  <a:pt x="10220" y="5482"/>
                </a:moveTo>
                <a:cubicBezTo>
                  <a:pt x="10377" y="5482"/>
                  <a:pt x="10534" y="5482"/>
                  <a:pt x="10691" y="5482"/>
                </a:cubicBezTo>
              </a:path>
              <a:path w="8211" h="1489">
                <a:moveTo>
                  <a:pt x="10517" y="5259"/>
                </a:moveTo>
                <a:cubicBezTo>
                  <a:pt x="10485" y="5195"/>
                  <a:pt x="10447" y="5362"/>
                  <a:pt x="10468" y="5383"/>
                </a:cubicBezTo>
                <a:cubicBezTo>
                  <a:pt x="10510" y="5426"/>
                  <a:pt x="10550" y="5329"/>
                  <a:pt x="10567" y="5308"/>
                </a:cubicBezTo>
                <a:cubicBezTo>
                  <a:pt x="10546" y="5245"/>
                  <a:pt x="10489" y="5301"/>
                  <a:pt x="10468" y="5358"/>
                </a:cubicBezTo>
                <a:cubicBezTo>
                  <a:pt x="10468" y="5374"/>
                  <a:pt x="10468" y="5391"/>
                  <a:pt x="10468" y="5407"/>
                </a:cubicBezTo>
                <a:cubicBezTo>
                  <a:pt x="10518" y="5395"/>
                  <a:pt x="10589" y="5301"/>
                  <a:pt x="10517" y="5259"/>
                </a:cubicBezTo>
                <a:cubicBezTo>
                  <a:pt x="10492" y="5283"/>
                  <a:pt x="10484" y="5291"/>
                  <a:pt x="10468" y="5308"/>
                </a:cubicBezTo>
              </a:path>
              <a:path w="8211" h="1489">
                <a:moveTo>
                  <a:pt x="10170" y="5730"/>
                </a:moveTo>
                <a:cubicBezTo>
                  <a:pt x="10081" y="5730"/>
                  <a:pt x="10081" y="5781"/>
                  <a:pt x="10046" y="5854"/>
                </a:cubicBezTo>
                <a:cubicBezTo>
                  <a:pt x="10017" y="5915"/>
                  <a:pt x="10000" y="5988"/>
                  <a:pt x="9996" y="6052"/>
                </a:cubicBezTo>
                <a:cubicBezTo>
                  <a:pt x="9989" y="6163"/>
                  <a:pt x="9985" y="6146"/>
                  <a:pt x="10071" y="6201"/>
                </a:cubicBezTo>
                <a:cubicBezTo>
                  <a:pt x="10122" y="6233"/>
                  <a:pt x="10163" y="6221"/>
                  <a:pt x="10220" y="6201"/>
                </a:cubicBezTo>
                <a:cubicBezTo>
                  <a:pt x="10276" y="6181"/>
                  <a:pt x="10325" y="6133"/>
                  <a:pt x="10344" y="6077"/>
                </a:cubicBezTo>
                <a:cubicBezTo>
                  <a:pt x="10358" y="6036"/>
                  <a:pt x="10387" y="5979"/>
                  <a:pt x="10368" y="5928"/>
                </a:cubicBezTo>
                <a:cubicBezTo>
                  <a:pt x="10355" y="5893"/>
                  <a:pt x="10340" y="5835"/>
                  <a:pt x="10319" y="5804"/>
                </a:cubicBezTo>
                <a:cubicBezTo>
                  <a:pt x="10309" y="5789"/>
                  <a:pt x="10238" y="5738"/>
                  <a:pt x="10220" y="5730"/>
                </a:cubicBezTo>
                <a:cubicBezTo>
                  <a:pt x="10177" y="5711"/>
                  <a:pt x="10194" y="5706"/>
                  <a:pt x="10145" y="57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27800" y="2820960"/>
            <a:ext cx="223560" cy="152280"/>
          </a:xfrm>
          <a:custGeom>
            <a:avLst/>
            <a:gdLst/>
            <a:ahLst/>
            <a:rect l="l" t="t" r="r" b="b"/>
            <a:pathLst>
              <a:path w="621" h="423">
                <a:moveTo>
                  <a:pt x="15354" y="7962"/>
                </a:moveTo>
                <a:cubicBezTo>
                  <a:pt x="15365" y="7920"/>
                  <a:pt x="15417" y="7883"/>
                  <a:pt x="15429" y="7863"/>
                </a:cubicBezTo>
                <a:cubicBezTo>
                  <a:pt x="15429" y="7855"/>
                  <a:pt x="15429" y="7846"/>
                  <a:pt x="15429" y="7838"/>
                </a:cubicBezTo>
                <a:cubicBezTo>
                  <a:pt x="15423" y="7941"/>
                  <a:pt x="15359" y="8087"/>
                  <a:pt x="15379" y="8186"/>
                </a:cubicBezTo>
                <a:cubicBezTo>
                  <a:pt x="15408" y="8332"/>
                  <a:pt x="15600" y="8243"/>
                  <a:pt x="15677" y="8210"/>
                </a:cubicBezTo>
                <a:cubicBezTo>
                  <a:pt x="15792" y="8161"/>
                  <a:pt x="15904" y="8087"/>
                  <a:pt x="15949" y="7962"/>
                </a:cubicBezTo>
                <a:cubicBezTo>
                  <a:pt x="15965" y="7918"/>
                  <a:pt x="15986" y="7875"/>
                  <a:pt x="15949" y="78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40320" y="2803680"/>
            <a:ext cx="214560" cy="152280"/>
          </a:xfrm>
          <a:custGeom>
            <a:avLst/>
            <a:gdLst/>
            <a:ahLst/>
            <a:rect l="l" t="t" r="r" b="b"/>
            <a:pathLst>
              <a:path w="597" h="422">
                <a:moveTo>
                  <a:pt x="17611" y="7888"/>
                </a:moveTo>
                <a:cubicBezTo>
                  <a:pt x="17642" y="7908"/>
                  <a:pt x="17645" y="7830"/>
                  <a:pt x="17661" y="7863"/>
                </a:cubicBezTo>
                <a:cubicBezTo>
                  <a:pt x="17676" y="7892"/>
                  <a:pt x="17636" y="8064"/>
                  <a:pt x="17636" y="8111"/>
                </a:cubicBezTo>
                <a:cubicBezTo>
                  <a:pt x="17636" y="8182"/>
                  <a:pt x="17687" y="8199"/>
                  <a:pt x="17760" y="8210"/>
                </a:cubicBezTo>
                <a:cubicBezTo>
                  <a:pt x="17859" y="8225"/>
                  <a:pt x="17945" y="8203"/>
                  <a:pt x="18033" y="8161"/>
                </a:cubicBezTo>
                <a:cubicBezTo>
                  <a:pt x="18103" y="8128"/>
                  <a:pt x="18144" y="8079"/>
                  <a:pt x="18182" y="8012"/>
                </a:cubicBezTo>
                <a:cubicBezTo>
                  <a:pt x="18212" y="7958"/>
                  <a:pt x="18207" y="7924"/>
                  <a:pt x="18207" y="7863"/>
                </a:cubicBezTo>
                <a:cubicBezTo>
                  <a:pt x="18207" y="7855"/>
                  <a:pt x="18207" y="7846"/>
                  <a:pt x="18207" y="7838"/>
                </a:cubicBezTo>
                <a:cubicBezTo>
                  <a:pt x="18137" y="7855"/>
                  <a:pt x="18150" y="7885"/>
                  <a:pt x="18107" y="7863"/>
                </a:cubicBezTo>
                <a:cubicBezTo>
                  <a:pt x="18083" y="7850"/>
                  <a:pt x="18091" y="7792"/>
                  <a:pt x="18083" y="7789"/>
                </a:cubicBezTo>
                <a:cubicBezTo>
                  <a:pt x="18066" y="7789"/>
                  <a:pt x="18050" y="7789"/>
                  <a:pt x="18033" y="77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00880" y="2463840"/>
            <a:ext cx="27000" cy="19080"/>
          </a:xfrm>
          <a:custGeom>
            <a:avLst/>
            <a:gdLst/>
            <a:ahLst/>
            <a:rect l="l" t="t" r="r" b="b"/>
            <a:pathLst>
              <a:path w="75" h="51">
                <a:moveTo>
                  <a:pt x="18132" y="6871"/>
                </a:moveTo>
                <a:cubicBezTo>
                  <a:pt x="18115" y="6819"/>
                  <a:pt x="18092" y="6857"/>
                  <a:pt x="18083" y="6896"/>
                </a:cubicBezTo>
                <a:cubicBezTo>
                  <a:pt x="18104" y="6867"/>
                  <a:pt x="18099" y="6904"/>
                  <a:pt x="18083" y="6871"/>
                </a:cubicBezTo>
                <a:cubicBezTo>
                  <a:pt x="18083" y="6843"/>
                  <a:pt x="18081" y="6837"/>
                  <a:pt x="18058" y="68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2795760"/>
            <a:ext cx="223920" cy="125280"/>
          </a:xfrm>
          <a:custGeom>
            <a:avLst/>
            <a:gdLst/>
            <a:ahLst/>
            <a:rect l="l" t="t" r="r" b="b"/>
            <a:pathLst>
              <a:path w="621" h="348">
                <a:moveTo>
                  <a:pt x="3299" y="7863"/>
                </a:moveTo>
                <a:cubicBezTo>
                  <a:pt x="3309" y="7903"/>
                  <a:pt x="3337" y="7926"/>
                  <a:pt x="3349" y="7962"/>
                </a:cubicBezTo>
                <a:cubicBezTo>
                  <a:pt x="3361" y="7996"/>
                  <a:pt x="3392" y="8024"/>
                  <a:pt x="3398" y="8037"/>
                </a:cubicBezTo>
                <a:cubicBezTo>
                  <a:pt x="3411" y="8062"/>
                  <a:pt x="3462" y="8103"/>
                  <a:pt x="3497" y="8111"/>
                </a:cubicBezTo>
                <a:cubicBezTo>
                  <a:pt x="3571" y="8127"/>
                  <a:pt x="3637" y="8099"/>
                  <a:pt x="3696" y="8086"/>
                </a:cubicBezTo>
                <a:cubicBezTo>
                  <a:pt x="3765" y="8071"/>
                  <a:pt x="3733" y="8058"/>
                  <a:pt x="3795" y="8037"/>
                </a:cubicBezTo>
                <a:cubicBezTo>
                  <a:pt x="3828" y="8026"/>
                  <a:pt x="3825" y="7997"/>
                  <a:pt x="3845" y="7987"/>
                </a:cubicBezTo>
                <a:cubicBezTo>
                  <a:pt x="3882" y="7969"/>
                  <a:pt x="3873" y="7942"/>
                  <a:pt x="3894" y="7913"/>
                </a:cubicBezTo>
                <a:cubicBezTo>
                  <a:pt x="3923" y="7875"/>
                  <a:pt x="3919" y="7862"/>
                  <a:pt x="3919" y="7813"/>
                </a:cubicBezTo>
                <a:cubicBezTo>
                  <a:pt x="3919" y="7781"/>
                  <a:pt x="3884" y="7842"/>
                  <a:pt x="3870" y="7813"/>
                </a:cubicBezTo>
                <a:cubicBezTo>
                  <a:pt x="3849" y="7772"/>
                  <a:pt x="3895" y="7781"/>
                  <a:pt x="3845" y="7764"/>
                </a:cubicBezTo>
                <a:cubicBezTo>
                  <a:pt x="3837" y="7772"/>
                  <a:pt x="3828" y="7781"/>
                  <a:pt x="3820" y="7789"/>
                </a:cubicBezTo>
                <a:cubicBezTo>
                  <a:pt x="3849" y="7871"/>
                  <a:pt x="3875" y="7730"/>
                  <a:pt x="3845" y="7764"/>
                </a:cubicBezTo>
                <a:cubicBezTo>
                  <a:pt x="3825" y="7804"/>
                  <a:pt x="3816" y="7810"/>
                  <a:pt x="3820" y="7838"/>
                </a:cubicBezTo>
                <a:cubicBezTo>
                  <a:pt x="3871" y="7721"/>
                  <a:pt x="3790" y="7772"/>
                  <a:pt x="3770" y="7838"/>
                </a:cubicBezTo>
                <a:cubicBezTo>
                  <a:pt x="3770" y="7855"/>
                  <a:pt x="3770" y="7871"/>
                  <a:pt x="3770" y="7888"/>
                </a:cubicBezTo>
                <a:cubicBezTo>
                  <a:pt x="3814" y="7875"/>
                  <a:pt x="3852" y="7788"/>
                  <a:pt x="3845" y="7789"/>
                </a:cubicBezTo>
                <a:cubicBezTo>
                  <a:pt x="3812" y="7795"/>
                  <a:pt x="3781" y="7842"/>
                  <a:pt x="3770" y="7863"/>
                </a:cubicBezTo>
                <a:cubicBezTo>
                  <a:pt x="3786" y="7855"/>
                  <a:pt x="3880" y="7754"/>
                  <a:pt x="3820" y="7813"/>
                </a:cubicBezTo>
                <a:cubicBezTo>
                  <a:pt x="3761" y="7871"/>
                  <a:pt x="3816" y="7854"/>
                  <a:pt x="3820" y="7838"/>
                </a:cubicBezTo>
                <a:cubicBezTo>
                  <a:pt x="3820" y="7822"/>
                  <a:pt x="3820" y="7805"/>
                  <a:pt x="3820" y="77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12960" y="2830680"/>
            <a:ext cx="231840" cy="117360"/>
          </a:xfrm>
          <a:custGeom>
            <a:avLst/>
            <a:gdLst/>
            <a:ahLst/>
            <a:rect l="l" t="t" r="r" b="b"/>
            <a:pathLst>
              <a:path w="646" h="324">
                <a:moveTo>
                  <a:pt x="5035" y="7888"/>
                </a:moveTo>
                <a:cubicBezTo>
                  <a:pt x="5035" y="7821"/>
                  <a:pt x="5035" y="7927"/>
                  <a:pt x="5035" y="7938"/>
                </a:cubicBezTo>
                <a:cubicBezTo>
                  <a:pt x="5035" y="7989"/>
                  <a:pt x="5050" y="7991"/>
                  <a:pt x="5060" y="8012"/>
                </a:cubicBezTo>
                <a:cubicBezTo>
                  <a:pt x="5073" y="8037"/>
                  <a:pt x="5102" y="8046"/>
                  <a:pt x="5110" y="8062"/>
                </a:cubicBezTo>
                <a:cubicBezTo>
                  <a:pt x="5123" y="8087"/>
                  <a:pt x="5143" y="8127"/>
                  <a:pt x="5184" y="8136"/>
                </a:cubicBezTo>
                <a:cubicBezTo>
                  <a:pt x="5229" y="8146"/>
                  <a:pt x="5254" y="8161"/>
                  <a:pt x="5308" y="8161"/>
                </a:cubicBezTo>
                <a:cubicBezTo>
                  <a:pt x="5374" y="8161"/>
                  <a:pt x="5339" y="8180"/>
                  <a:pt x="5407" y="8186"/>
                </a:cubicBezTo>
                <a:cubicBezTo>
                  <a:pt x="5458" y="8191"/>
                  <a:pt x="5467" y="8175"/>
                  <a:pt x="5507" y="8161"/>
                </a:cubicBezTo>
                <a:cubicBezTo>
                  <a:pt x="5522" y="8156"/>
                  <a:pt x="5568" y="8137"/>
                  <a:pt x="5581" y="8111"/>
                </a:cubicBezTo>
                <a:cubicBezTo>
                  <a:pt x="5590" y="8094"/>
                  <a:pt x="5606" y="8035"/>
                  <a:pt x="5631" y="8012"/>
                </a:cubicBezTo>
                <a:cubicBezTo>
                  <a:pt x="5657" y="7989"/>
                  <a:pt x="5655" y="7990"/>
                  <a:pt x="5655" y="7938"/>
                </a:cubicBezTo>
                <a:cubicBezTo>
                  <a:pt x="5655" y="7894"/>
                  <a:pt x="5654" y="7898"/>
                  <a:pt x="5680" y="78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7800" y="2490840"/>
            <a:ext cx="27000" cy="27000"/>
          </a:xfrm>
          <a:custGeom>
            <a:avLst/>
            <a:gdLst/>
            <a:ahLst/>
            <a:rect l="l" t="t" r="r" b="b"/>
            <a:pathLst>
              <a:path w="75" h="75">
                <a:moveTo>
                  <a:pt x="5680" y="6970"/>
                </a:moveTo>
                <a:cubicBezTo>
                  <a:pt x="5678" y="6963"/>
                  <a:pt x="5645" y="6902"/>
                  <a:pt x="5631" y="6921"/>
                </a:cubicBezTo>
                <a:cubicBezTo>
                  <a:pt x="5609" y="6950"/>
                  <a:pt x="5649" y="6913"/>
                  <a:pt x="5631" y="6945"/>
                </a:cubicBezTo>
                <a:cubicBezTo>
                  <a:pt x="5623" y="6962"/>
                  <a:pt x="5614" y="6978"/>
                  <a:pt x="5606" y="6995"/>
                </a:cubicBezTo>
                <a:cubicBezTo>
                  <a:pt x="5634" y="6995"/>
                  <a:pt x="5645" y="6993"/>
                  <a:pt x="5655" y="6970"/>
                </a:cubicBezTo>
                <a:cubicBezTo>
                  <a:pt x="5629" y="6839"/>
                  <a:pt x="5631" y="7017"/>
                  <a:pt x="5631" y="69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00880" y="3973680"/>
            <a:ext cx="27000" cy="27000"/>
          </a:xfrm>
          <a:custGeom>
            <a:avLst/>
            <a:gdLst/>
            <a:ahLst/>
            <a:rect l="l" t="t" r="r" b="b"/>
            <a:pathLst>
              <a:path w="75" h="75">
                <a:moveTo>
                  <a:pt x="18132" y="11088"/>
                </a:moveTo>
                <a:cubicBezTo>
                  <a:pt x="18110" y="11066"/>
                  <a:pt x="18105" y="11057"/>
                  <a:pt x="18083" y="11063"/>
                </a:cubicBezTo>
                <a:cubicBezTo>
                  <a:pt x="18102" y="11179"/>
                  <a:pt x="18148" y="11065"/>
                  <a:pt x="18132" y="11038"/>
                </a:cubicBezTo>
                <a:cubicBezTo>
                  <a:pt x="18120" y="11017"/>
                  <a:pt x="18025" y="11055"/>
                  <a:pt x="18058" y="11088"/>
                </a:cubicBezTo>
                <a:cubicBezTo>
                  <a:pt x="18094" y="11124"/>
                  <a:pt x="18119" y="11051"/>
                  <a:pt x="18083" y="11088"/>
                </a:cubicBezTo>
                <a:cubicBezTo>
                  <a:pt x="18058" y="11114"/>
                  <a:pt x="18094" y="11029"/>
                  <a:pt x="18083" y="110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2362320" y="3049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bjective:  Students will Divide Decimals by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090440"/>
            <a:ext cx="827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some quotients, you may need to use zeros as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91628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holder in Divid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838080" y="2362320"/>
            <a:ext cx="2057400" cy="459720"/>
            <a:chOff x="838080" y="2362320"/>
            <a:chExt cx="2057400" cy="459720"/>
          </a:xfrm>
        </p:grpSpPr>
        <p:sp>
          <p:nvSpPr>
            <p:cNvPr id="128" name=""/>
            <p:cNvSpPr/>
            <p:nvPr/>
          </p:nvSpPr>
          <p:spPr>
            <a:xfrm>
              <a:off x="838080" y="2362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   1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5"/>
            <a:srcRect l="22218" t="0" r="18690" b="0"/>
            <a:stretch/>
          </p:blipFill>
          <p:spPr>
            <a:xfrm>
              <a:off x="1130400" y="2476440"/>
              <a:ext cx="264960" cy="22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" descr=""/>
          <p:cNvPicPr/>
          <p:nvPr/>
        </p:nvPicPr>
        <p:blipFill>
          <a:blip r:embed="rId6"/>
          <a:srcRect l="-13140" t="9991" r="0" b="0"/>
          <a:stretch/>
        </p:blipFill>
        <p:spPr>
          <a:xfrm>
            <a:off x="1066680" y="2895480"/>
            <a:ext cx="3492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457200" y="3581280"/>
            <a:ext cx="2057400" cy="642600"/>
            <a:chOff x="457200" y="3581280"/>
            <a:chExt cx="2057400" cy="642600"/>
          </a:xfrm>
        </p:grpSpPr>
        <p:sp>
          <p:nvSpPr>
            <p:cNvPr id="132" name=""/>
            <p:cNvSpPr/>
            <p:nvPr/>
          </p:nvSpPr>
          <p:spPr>
            <a:xfrm>
              <a:off x="1131840" y="3733920"/>
              <a:ext cx="13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885960" y="3581280"/>
              <a:ext cx="765000" cy="642600"/>
              <a:chOff x="885960" y="3581280"/>
              <a:chExt cx="765000" cy="642600"/>
            </a:xfrm>
          </p:grpSpPr>
          <p:sp>
            <p:nvSpPr>
              <p:cNvPr id="134" name=""/>
              <p:cNvSpPr/>
              <p:nvPr/>
            </p:nvSpPr>
            <p:spPr>
              <a:xfrm>
                <a:off x="885960" y="3581280"/>
                <a:ext cx="3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08000" y="3772080"/>
                <a:ext cx="64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457200" y="37339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7"/>
          <a:srcRect l="-12249" t="15032" r="0" b="0"/>
          <a:stretch/>
        </p:blipFill>
        <p:spPr>
          <a:xfrm>
            <a:off x="1066680" y="4191120"/>
            <a:ext cx="346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492120" y="4813200"/>
            <a:ext cx="1260360" cy="1551960"/>
            <a:chOff x="492120" y="4813200"/>
            <a:chExt cx="1260360" cy="1551960"/>
          </a:xfrm>
        </p:grpSpPr>
        <p:grpSp>
          <p:nvGrpSpPr>
            <p:cNvPr id="139" name=""/>
            <p:cNvGrpSpPr/>
            <p:nvPr/>
          </p:nvGrpSpPr>
          <p:grpSpPr>
            <a:xfrm>
              <a:off x="860400" y="4997520"/>
              <a:ext cx="765000" cy="642600"/>
              <a:chOff x="860400" y="4997520"/>
              <a:chExt cx="765000" cy="642600"/>
            </a:xfrm>
          </p:grpSpPr>
          <p:sp>
            <p:nvSpPr>
              <p:cNvPr id="140" name=""/>
              <p:cNvSpPr/>
              <p:nvPr/>
            </p:nvSpPr>
            <p:spPr>
              <a:xfrm>
                <a:off x="860400" y="4997520"/>
                <a:ext cx="3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982440" y="5187960"/>
                <a:ext cx="64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068480" y="5181480"/>
              <a:ext cx="62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2120" y="518148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92240" y="59436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44520" y="59054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19320" y="4813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057400" y="2895480"/>
            <a:ext cx="1523880" cy="685800"/>
          </a:xfrm>
          <a:prstGeom prst="wedgeRoundRectCallout">
            <a:avLst>
              <a:gd name="adj1" fmla="val -71356"/>
              <a:gd name="adj2" fmla="val 10787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ero as place ho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64400" y="190332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holder in Quo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83280" y="2362320"/>
            <a:ext cx="1704600" cy="459720"/>
            <a:chOff x="5183280" y="2362320"/>
            <a:chExt cx="1704600" cy="459720"/>
          </a:xfrm>
        </p:grpSpPr>
        <p:sp>
          <p:nvSpPr>
            <p:cNvPr id="150" name=""/>
            <p:cNvSpPr/>
            <p:nvPr/>
          </p:nvSpPr>
          <p:spPr>
            <a:xfrm>
              <a:off x="5183280" y="236232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0126    1.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8"/>
            <a:srcRect l="22218" t="0" r="18690" b="0"/>
            <a:stretch/>
          </p:blipFill>
          <p:spPr>
            <a:xfrm>
              <a:off x="6148440" y="2476440"/>
              <a:ext cx="264960" cy="22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" descr=""/>
          <p:cNvPicPr/>
          <p:nvPr/>
        </p:nvPicPr>
        <p:blipFill>
          <a:blip r:embed="rId9"/>
          <a:srcRect l="1114" t="9991" r="0" b="0"/>
          <a:stretch/>
        </p:blipFill>
        <p:spPr>
          <a:xfrm>
            <a:off x="6172200" y="2895480"/>
            <a:ext cx="304920" cy="6858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5257800" y="3473280"/>
            <a:ext cx="2057040" cy="642600"/>
            <a:chOff x="5257800" y="3473280"/>
            <a:chExt cx="2057040" cy="642600"/>
          </a:xfrm>
        </p:grpSpPr>
        <p:grpSp>
          <p:nvGrpSpPr>
            <p:cNvPr id="154" name=""/>
            <p:cNvGrpSpPr/>
            <p:nvPr/>
          </p:nvGrpSpPr>
          <p:grpSpPr>
            <a:xfrm>
              <a:off x="5685840" y="3473280"/>
              <a:ext cx="1530000" cy="642600"/>
              <a:chOff x="5685840" y="3473280"/>
              <a:chExt cx="1530000" cy="642600"/>
            </a:xfrm>
          </p:grpSpPr>
          <p:sp>
            <p:nvSpPr>
              <p:cNvPr id="155" name=""/>
              <p:cNvSpPr/>
              <p:nvPr/>
            </p:nvSpPr>
            <p:spPr>
              <a:xfrm>
                <a:off x="5685840" y="3473280"/>
                <a:ext cx="394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33440" y="3663720"/>
                <a:ext cx="138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57800" y="3625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32800" y="3625560"/>
              <a:ext cx="138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01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0"/>
          <a:srcRect l="-6904" t="11701" r="0" b="0"/>
          <a:stretch/>
        </p:blipFill>
        <p:spPr>
          <a:xfrm>
            <a:off x="6172200" y="4191120"/>
            <a:ext cx="330120" cy="672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074000" y="3733920"/>
            <a:ext cx="1612800" cy="685800"/>
          </a:xfrm>
          <a:prstGeom prst="wedgeRoundRectCallout">
            <a:avLst>
              <a:gd name="adj1" fmla="val -70175"/>
              <a:gd name="adj2" fmla="val 10787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ero as place 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521320" y="4800600"/>
            <a:ext cx="2784600" cy="1551960"/>
            <a:chOff x="5521320" y="4800600"/>
            <a:chExt cx="2784600" cy="1551960"/>
          </a:xfrm>
        </p:grpSpPr>
        <p:sp>
          <p:nvSpPr>
            <p:cNvPr id="162" name=""/>
            <p:cNvSpPr/>
            <p:nvPr/>
          </p:nvSpPr>
          <p:spPr>
            <a:xfrm>
              <a:off x="5889600" y="4984920"/>
              <a:ext cx="3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12000" y="5175360"/>
              <a:ext cx="92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7680" y="5168880"/>
              <a:ext cx="220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1320" y="516888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88200" y="593100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9400" y="58928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58080" y="4800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19800" y="55245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893960" y="2857680"/>
            <a:ext cx="928440" cy="517320"/>
          </a:xfrm>
          <a:custGeom>
            <a:avLst/>
            <a:gdLst/>
            <a:ahLst/>
            <a:rect l="l" t="t" r="r" b="b"/>
            <a:pathLst>
              <a:path w="2580" h="1439">
                <a:moveTo>
                  <a:pt x="6896" y="8409"/>
                </a:moveTo>
                <a:cubicBezTo>
                  <a:pt x="6801" y="8408"/>
                  <a:pt x="6783" y="8595"/>
                  <a:pt x="6772" y="8706"/>
                </a:cubicBezTo>
                <a:cubicBezTo>
                  <a:pt x="6758" y="8849"/>
                  <a:pt x="6820" y="8948"/>
                  <a:pt x="6970" y="8905"/>
                </a:cubicBezTo>
                <a:cubicBezTo>
                  <a:pt x="7048" y="8883"/>
                  <a:pt x="7221" y="8766"/>
                  <a:pt x="7169" y="8657"/>
                </a:cubicBezTo>
                <a:cubicBezTo>
                  <a:pt x="7152" y="8640"/>
                  <a:pt x="7136" y="8624"/>
                  <a:pt x="7119" y="8607"/>
                </a:cubicBezTo>
                <a:cubicBezTo>
                  <a:pt x="6984" y="8684"/>
                  <a:pt x="6931" y="8763"/>
                  <a:pt x="6945" y="8930"/>
                </a:cubicBezTo>
              </a:path>
              <a:path w="2580" h="1439">
                <a:moveTo>
                  <a:pt x="6424" y="9178"/>
                </a:moveTo>
                <a:cubicBezTo>
                  <a:pt x="6403" y="9127"/>
                  <a:pt x="6400" y="8993"/>
                  <a:pt x="6400" y="8905"/>
                </a:cubicBezTo>
                <a:cubicBezTo>
                  <a:pt x="6400" y="8699"/>
                  <a:pt x="6344" y="8531"/>
                  <a:pt x="6300" y="8334"/>
                </a:cubicBezTo>
                <a:cubicBezTo>
                  <a:pt x="6300" y="8326"/>
                  <a:pt x="6300" y="8318"/>
                  <a:pt x="6300" y="8310"/>
                </a:cubicBezTo>
                <a:cubicBezTo>
                  <a:pt x="6392" y="8273"/>
                  <a:pt x="6520" y="8229"/>
                  <a:pt x="6623" y="8210"/>
                </a:cubicBezTo>
                <a:cubicBezTo>
                  <a:pt x="6846" y="8169"/>
                  <a:pt x="7091" y="8166"/>
                  <a:pt x="7317" y="8161"/>
                </a:cubicBezTo>
                <a:cubicBezTo>
                  <a:pt x="7448" y="8158"/>
                  <a:pt x="7563" y="8128"/>
                  <a:pt x="7689" y="8111"/>
                </a:cubicBezTo>
                <a:cubicBezTo>
                  <a:pt x="7714" y="8111"/>
                  <a:pt x="7722" y="8111"/>
                  <a:pt x="7739" y="8111"/>
                </a:cubicBezTo>
              </a:path>
              <a:path w="2580" h="1439">
                <a:moveTo>
                  <a:pt x="5259" y="8607"/>
                </a:moveTo>
                <a:cubicBezTo>
                  <a:pt x="5259" y="8766"/>
                  <a:pt x="5279" y="8920"/>
                  <a:pt x="5283" y="9079"/>
                </a:cubicBezTo>
                <a:cubicBezTo>
                  <a:pt x="5283" y="9137"/>
                  <a:pt x="5283" y="9145"/>
                  <a:pt x="5283" y="9178"/>
                </a:cubicBezTo>
              </a:path>
              <a:path w="2580" h="1439">
                <a:moveTo>
                  <a:pt x="5606" y="8954"/>
                </a:moveTo>
                <a:cubicBezTo>
                  <a:pt x="5632" y="8989"/>
                  <a:pt x="5631" y="8985"/>
                  <a:pt x="5631" y="9029"/>
                </a:cubicBezTo>
              </a:path>
              <a:path w="2580" h="1439">
                <a:moveTo>
                  <a:pt x="5804" y="8682"/>
                </a:moveTo>
                <a:cubicBezTo>
                  <a:pt x="5820" y="8634"/>
                  <a:pt x="5884" y="8597"/>
                  <a:pt x="5953" y="8607"/>
                </a:cubicBezTo>
                <a:cubicBezTo>
                  <a:pt x="6083" y="8626"/>
                  <a:pt x="6069" y="8796"/>
                  <a:pt x="6052" y="8880"/>
                </a:cubicBezTo>
                <a:cubicBezTo>
                  <a:pt x="6030" y="8987"/>
                  <a:pt x="5988" y="9057"/>
                  <a:pt x="5879" y="9079"/>
                </a:cubicBezTo>
                <a:cubicBezTo>
                  <a:pt x="5861" y="9032"/>
                  <a:pt x="5825" y="8967"/>
                  <a:pt x="5879" y="8930"/>
                </a:cubicBezTo>
                <a:cubicBezTo>
                  <a:pt x="5960" y="8874"/>
                  <a:pt x="6026" y="8917"/>
                  <a:pt x="6102" y="8954"/>
                </a:cubicBezTo>
                <a:cubicBezTo>
                  <a:pt x="6140" y="8973"/>
                  <a:pt x="6188" y="9000"/>
                  <a:pt x="6226" y="9004"/>
                </a:cubicBezTo>
                <a:cubicBezTo>
                  <a:pt x="6234" y="9004"/>
                  <a:pt x="6243" y="9004"/>
                  <a:pt x="6251" y="9004"/>
                </a:cubicBezTo>
              </a:path>
              <a:path w="2580" h="1439">
                <a:moveTo>
                  <a:pt x="5631" y="9029"/>
                </a:moveTo>
                <a:cubicBezTo>
                  <a:pt x="5664" y="9054"/>
                  <a:pt x="5712" y="9146"/>
                  <a:pt x="5730" y="9203"/>
                </a:cubicBezTo>
                <a:cubicBezTo>
                  <a:pt x="5748" y="9260"/>
                  <a:pt x="5773" y="9295"/>
                  <a:pt x="5829" y="9327"/>
                </a:cubicBezTo>
                <a:cubicBezTo>
                  <a:pt x="5889" y="9361"/>
                  <a:pt x="5909" y="9376"/>
                  <a:pt x="5978" y="9376"/>
                </a:cubicBezTo>
                <a:cubicBezTo>
                  <a:pt x="6035" y="9376"/>
                  <a:pt x="6125" y="9351"/>
                  <a:pt x="6176" y="9327"/>
                </a:cubicBezTo>
                <a:cubicBezTo>
                  <a:pt x="6202" y="9315"/>
                  <a:pt x="6283" y="9274"/>
                  <a:pt x="6300" y="9252"/>
                </a:cubicBezTo>
                <a:cubicBezTo>
                  <a:pt x="6312" y="9236"/>
                  <a:pt x="6340" y="9208"/>
                  <a:pt x="6350" y="9178"/>
                </a:cubicBezTo>
                <a:cubicBezTo>
                  <a:pt x="6365" y="9134"/>
                  <a:pt x="6329" y="9143"/>
                  <a:pt x="6375" y="9128"/>
                </a:cubicBezTo>
              </a:path>
              <a:path w="2580" h="1439">
                <a:moveTo>
                  <a:pt x="7367" y="8930"/>
                </a:moveTo>
                <a:cubicBezTo>
                  <a:pt x="7311" y="8902"/>
                  <a:pt x="7306" y="8939"/>
                  <a:pt x="7293" y="9004"/>
                </a:cubicBezTo>
                <a:cubicBezTo>
                  <a:pt x="7320" y="8985"/>
                  <a:pt x="7324" y="8868"/>
                  <a:pt x="7293" y="8930"/>
                </a:cubicBezTo>
                <a:cubicBezTo>
                  <a:pt x="7293" y="8938"/>
                  <a:pt x="7293" y="8946"/>
                  <a:pt x="7293" y="8954"/>
                </a:cubicBezTo>
              </a:path>
              <a:path w="2580" h="1439">
                <a:moveTo>
                  <a:pt x="7342" y="9029"/>
                </a:moveTo>
                <a:cubicBezTo>
                  <a:pt x="7342" y="9086"/>
                  <a:pt x="7352" y="9107"/>
                  <a:pt x="7367" y="9153"/>
                </a:cubicBezTo>
                <a:cubicBezTo>
                  <a:pt x="7367" y="9161"/>
                  <a:pt x="7367" y="9170"/>
                  <a:pt x="7367" y="9178"/>
                </a:cubicBezTo>
                <a:cubicBezTo>
                  <a:pt x="7386" y="9183"/>
                  <a:pt x="7453" y="9229"/>
                  <a:pt x="7466" y="9227"/>
                </a:cubicBezTo>
                <a:cubicBezTo>
                  <a:pt x="7495" y="9223"/>
                  <a:pt x="7593" y="9166"/>
                  <a:pt x="7615" y="9153"/>
                </a:cubicBezTo>
                <a:cubicBezTo>
                  <a:pt x="7652" y="9131"/>
                  <a:pt x="7674" y="9092"/>
                  <a:pt x="7714" y="9079"/>
                </a:cubicBezTo>
                <a:cubicBezTo>
                  <a:pt x="7722" y="9079"/>
                  <a:pt x="7731" y="9079"/>
                  <a:pt x="7739" y="9079"/>
                </a:cubicBezTo>
                <a:cubicBezTo>
                  <a:pt x="7761" y="9024"/>
                  <a:pt x="7823" y="8972"/>
                  <a:pt x="7838" y="8905"/>
                </a:cubicBezTo>
                <a:cubicBezTo>
                  <a:pt x="7848" y="8862"/>
                  <a:pt x="7838" y="8801"/>
                  <a:pt x="7838" y="8756"/>
                </a:cubicBezTo>
              </a:path>
              <a:path w="2580" h="1439">
                <a:moveTo>
                  <a:pt x="7640" y="8334"/>
                </a:moveTo>
                <a:cubicBezTo>
                  <a:pt x="7578" y="8319"/>
                  <a:pt x="7596" y="8323"/>
                  <a:pt x="7541" y="8334"/>
                </a:cubicBezTo>
                <a:cubicBezTo>
                  <a:pt x="7470" y="8349"/>
                  <a:pt x="7433" y="8401"/>
                  <a:pt x="7417" y="8483"/>
                </a:cubicBezTo>
                <a:cubicBezTo>
                  <a:pt x="7403" y="8555"/>
                  <a:pt x="7437" y="8613"/>
                  <a:pt x="7441" y="8682"/>
                </a:cubicBezTo>
                <a:cubicBezTo>
                  <a:pt x="7443" y="8722"/>
                  <a:pt x="7455" y="8781"/>
                  <a:pt x="7491" y="8806"/>
                </a:cubicBezTo>
                <a:cubicBezTo>
                  <a:pt x="7561" y="8853"/>
                  <a:pt x="7625" y="8792"/>
                  <a:pt x="7665" y="8731"/>
                </a:cubicBezTo>
                <a:cubicBezTo>
                  <a:pt x="7698" y="8681"/>
                  <a:pt x="7738" y="8594"/>
                  <a:pt x="7714" y="8533"/>
                </a:cubicBezTo>
                <a:cubicBezTo>
                  <a:pt x="7704" y="8506"/>
                  <a:pt x="7669" y="8466"/>
                  <a:pt x="7665" y="8458"/>
                </a:cubicBezTo>
                <a:cubicBezTo>
                  <a:pt x="7651" y="8430"/>
                  <a:pt x="7604" y="8430"/>
                  <a:pt x="7590" y="8409"/>
                </a:cubicBezTo>
                <a:cubicBezTo>
                  <a:pt x="7590" y="8401"/>
                  <a:pt x="7590" y="8392"/>
                  <a:pt x="7590" y="8384"/>
                </a:cubicBezTo>
              </a:path>
              <a:path w="2580" h="1439">
                <a:moveTo>
                  <a:pt x="7789" y="7962"/>
                </a:moveTo>
                <a:cubicBezTo>
                  <a:pt x="7781" y="7954"/>
                  <a:pt x="7772" y="7946"/>
                  <a:pt x="7764" y="7938"/>
                </a:cubicBezTo>
                <a:cubicBezTo>
                  <a:pt x="7755" y="7974"/>
                  <a:pt x="7703" y="8027"/>
                  <a:pt x="7764" y="8037"/>
                </a:cubicBezTo>
                <a:cubicBezTo>
                  <a:pt x="7875" y="8054"/>
                  <a:pt x="7787" y="7948"/>
                  <a:pt x="7714" y="7938"/>
                </a:cubicBezTo>
                <a:cubicBezTo>
                  <a:pt x="7626" y="7926"/>
                  <a:pt x="7681" y="8045"/>
                  <a:pt x="7714" y="8012"/>
                </a:cubicBezTo>
                <a:cubicBezTo>
                  <a:pt x="7714" y="8004"/>
                  <a:pt x="7714" y="7995"/>
                  <a:pt x="7714" y="79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35880" y="5099040"/>
            <a:ext cx="54000" cy="303120"/>
          </a:xfrm>
          <a:custGeom>
            <a:avLst/>
            <a:gdLst/>
            <a:ahLst/>
            <a:rect l="l" t="t" r="r" b="b"/>
            <a:pathLst>
              <a:path w="150" h="845">
                <a:moveTo>
                  <a:pt x="21084" y="14163"/>
                </a:moveTo>
                <a:cubicBezTo>
                  <a:pt x="21036" y="14428"/>
                  <a:pt x="20985" y="14693"/>
                  <a:pt x="20935" y="14957"/>
                </a:cubicBezTo>
                <a:cubicBezTo>
                  <a:pt x="20935" y="14974"/>
                  <a:pt x="20935" y="14990"/>
                  <a:pt x="20935" y="150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37160" y="3367080"/>
            <a:ext cx="1374840" cy="1081080"/>
          </a:xfrm>
          <a:custGeom>
            <a:avLst/>
            <a:gdLst/>
            <a:ahLst/>
            <a:rect l="l" t="t" r="r" b="b"/>
            <a:pathLst>
              <a:path w="3821" h="3003">
                <a:moveTo>
                  <a:pt x="15379" y="11038"/>
                </a:moveTo>
                <a:cubicBezTo>
                  <a:pt x="15409" y="11091"/>
                  <a:pt x="15442" y="11131"/>
                  <a:pt x="15478" y="11162"/>
                </a:cubicBezTo>
                <a:cubicBezTo>
                  <a:pt x="15533" y="11210"/>
                  <a:pt x="15597" y="11234"/>
                  <a:pt x="15677" y="11212"/>
                </a:cubicBezTo>
                <a:cubicBezTo>
                  <a:pt x="15749" y="11192"/>
                  <a:pt x="15773" y="11180"/>
                  <a:pt x="15825" y="11137"/>
                </a:cubicBezTo>
                <a:cubicBezTo>
                  <a:pt x="15863" y="11106"/>
                  <a:pt x="15920" y="11060"/>
                  <a:pt x="15925" y="11013"/>
                </a:cubicBezTo>
                <a:cubicBezTo>
                  <a:pt x="15932" y="10953"/>
                  <a:pt x="15941" y="10985"/>
                  <a:pt x="15974" y="10964"/>
                </a:cubicBezTo>
                <a:cubicBezTo>
                  <a:pt x="15974" y="10900"/>
                  <a:pt x="15956" y="10903"/>
                  <a:pt x="15925" y="10939"/>
                </a:cubicBezTo>
                <a:cubicBezTo>
                  <a:pt x="15903" y="10961"/>
                  <a:pt x="15894" y="10966"/>
                  <a:pt x="15900" y="10988"/>
                </a:cubicBezTo>
                <a:cubicBezTo>
                  <a:pt x="15957" y="11011"/>
                  <a:pt x="16044" y="10943"/>
                  <a:pt x="15974" y="10914"/>
                </a:cubicBezTo>
                <a:cubicBezTo>
                  <a:pt x="15934" y="10897"/>
                  <a:pt x="15930" y="10942"/>
                  <a:pt x="15925" y="10964"/>
                </a:cubicBezTo>
              </a:path>
              <a:path w="3821" h="3003">
                <a:moveTo>
                  <a:pt x="17264" y="11013"/>
                </a:moveTo>
                <a:cubicBezTo>
                  <a:pt x="17284" y="10993"/>
                  <a:pt x="17305" y="11067"/>
                  <a:pt x="17314" y="11112"/>
                </a:cubicBezTo>
                <a:cubicBezTo>
                  <a:pt x="17324" y="11159"/>
                  <a:pt x="17312" y="11198"/>
                  <a:pt x="17338" y="11237"/>
                </a:cubicBezTo>
                <a:cubicBezTo>
                  <a:pt x="17361" y="11271"/>
                  <a:pt x="17448" y="11323"/>
                  <a:pt x="17487" y="11336"/>
                </a:cubicBezTo>
                <a:cubicBezTo>
                  <a:pt x="17549" y="11357"/>
                  <a:pt x="17607" y="11325"/>
                  <a:pt x="17661" y="11311"/>
                </a:cubicBezTo>
                <a:cubicBezTo>
                  <a:pt x="17692" y="11303"/>
                  <a:pt x="17724" y="11308"/>
                  <a:pt x="17735" y="11286"/>
                </a:cubicBezTo>
                <a:cubicBezTo>
                  <a:pt x="17746" y="11263"/>
                  <a:pt x="17770" y="11174"/>
                  <a:pt x="17785" y="11162"/>
                </a:cubicBezTo>
                <a:cubicBezTo>
                  <a:pt x="17814" y="11138"/>
                  <a:pt x="17810" y="11115"/>
                  <a:pt x="17810" y="11063"/>
                </a:cubicBezTo>
                <a:cubicBezTo>
                  <a:pt x="17810" y="11011"/>
                  <a:pt x="17796" y="11010"/>
                  <a:pt x="17785" y="10988"/>
                </a:cubicBezTo>
                <a:cubicBezTo>
                  <a:pt x="17785" y="10964"/>
                  <a:pt x="17785" y="10955"/>
                  <a:pt x="17785" y="10939"/>
                </a:cubicBezTo>
              </a:path>
              <a:path w="3821" h="3003">
                <a:moveTo>
                  <a:pt x="17810" y="10096"/>
                </a:moveTo>
                <a:cubicBezTo>
                  <a:pt x="17847" y="10047"/>
                  <a:pt x="17816" y="10026"/>
                  <a:pt x="17810" y="10071"/>
                </a:cubicBezTo>
                <a:cubicBezTo>
                  <a:pt x="17801" y="10140"/>
                  <a:pt x="17874" y="10047"/>
                  <a:pt x="17859" y="9996"/>
                </a:cubicBezTo>
                <a:cubicBezTo>
                  <a:pt x="17851" y="9988"/>
                  <a:pt x="17843" y="9979"/>
                  <a:pt x="17835" y="9971"/>
                </a:cubicBezTo>
                <a:cubicBezTo>
                  <a:pt x="17828" y="9974"/>
                  <a:pt x="17746" y="10055"/>
                  <a:pt x="17785" y="10071"/>
                </a:cubicBezTo>
                <a:cubicBezTo>
                  <a:pt x="17851" y="10097"/>
                  <a:pt x="17846" y="10015"/>
                  <a:pt x="17859" y="9971"/>
                </a:cubicBezTo>
                <a:cubicBezTo>
                  <a:pt x="17831" y="9888"/>
                  <a:pt x="17791" y="10047"/>
                  <a:pt x="17785" y="10071"/>
                </a:cubicBezTo>
                <a:cubicBezTo>
                  <a:pt x="17755" y="10193"/>
                  <a:pt x="17904" y="9946"/>
                  <a:pt x="17835" y="9996"/>
                </a:cubicBezTo>
                <a:cubicBezTo>
                  <a:pt x="17797" y="10024"/>
                  <a:pt x="17802" y="9988"/>
                  <a:pt x="17835" y="10021"/>
                </a:cubicBezTo>
                <a:cubicBezTo>
                  <a:pt x="17835" y="10029"/>
                  <a:pt x="17835" y="10038"/>
                  <a:pt x="17835" y="10046"/>
                </a:cubicBezTo>
              </a:path>
              <a:path w="3821" h="3003">
                <a:moveTo>
                  <a:pt x="16966" y="9575"/>
                </a:moveTo>
                <a:cubicBezTo>
                  <a:pt x="16949" y="9678"/>
                  <a:pt x="16882" y="9742"/>
                  <a:pt x="16867" y="9847"/>
                </a:cubicBezTo>
                <a:cubicBezTo>
                  <a:pt x="16852" y="9952"/>
                  <a:pt x="16850" y="10042"/>
                  <a:pt x="16942" y="10096"/>
                </a:cubicBezTo>
                <a:cubicBezTo>
                  <a:pt x="16996" y="10128"/>
                  <a:pt x="17084" y="10085"/>
                  <a:pt x="17115" y="10021"/>
                </a:cubicBezTo>
                <a:cubicBezTo>
                  <a:pt x="17167" y="9913"/>
                  <a:pt x="17171" y="9804"/>
                  <a:pt x="17115" y="9699"/>
                </a:cubicBezTo>
                <a:cubicBezTo>
                  <a:pt x="17097" y="9665"/>
                  <a:pt x="17025" y="9628"/>
                  <a:pt x="16991" y="9624"/>
                </a:cubicBezTo>
                <a:cubicBezTo>
                  <a:pt x="16966" y="9624"/>
                  <a:pt x="16958" y="9624"/>
                  <a:pt x="16966" y="9649"/>
                </a:cubicBezTo>
              </a:path>
              <a:path w="3821" h="3003">
                <a:moveTo>
                  <a:pt x="17413" y="9674"/>
                </a:moveTo>
                <a:cubicBezTo>
                  <a:pt x="17413" y="9602"/>
                  <a:pt x="17346" y="9598"/>
                  <a:pt x="17314" y="9674"/>
                </a:cubicBezTo>
                <a:cubicBezTo>
                  <a:pt x="17265" y="9791"/>
                  <a:pt x="17307" y="9884"/>
                  <a:pt x="17338" y="9996"/>
                </a:cubicBezTo>
                <a:cubicBezTo>
                  <a:pt x="17485" y="9985"/>
                  <a:pt x="17577" y="9975"/>
                  <a:pt x="17562" y="9798"/>
                </a:cubicBezTo>
                <a:cubicBezTo>
                  <a:pt x="17556" y="9734"/>
                  <a:pt x="17467" y="9554"/>
                  <a:pt x="17363" y="9624"/>
                </a:cubicBezTo>
                <a:cubicBezTo>
                  <a:pt x="17347" y="9649"/>
                  <a:pt x="17330" y="9674"/>
                  <a:pt x="17314" y="9699"/>
                </a:cubicBezTo>
              </a:path>
              <a:path w="3821" h="3003">
                <a:moveTo>
                  <a:pt x="18083" y="9451"/>
                </a:moveTo>
                <a:cubicBezTo>
                  <a:pt x="18083" y="9388"/>
                  <a:pt x="18059" y="9528"/>
                  <a:pt x="18058" y="9550"/>
                </a:cubicBezTo>
                <a:cubicBezTo>
                  <a:pt x="18054" y="9619"/>
                  <a:pt x="18033" y="9678"/>
                  <a:pt x="18033" y="9748"/>
                </a:cubicBezTo>
                <a:cubicBezTo>
                  <a:pt x="18033" y="9845"/>
                  <a:pt x="18030" y="9938"/>
                  <a:pt x="18058" y="10021"/>
                </a:cubicBezTo>
                <a:cubicBezTo>
                  <a:pt x="18068" y="10052"/>
                  <a:pt x="18111" y="10059"/>
                  <a:pt x="18157" y="10046"/>
                </a:cubicBezTo>
                <a:cubicBezTo>
                  <a:pt x="18226" y="10026"/>
                  <a:pt x="18251" y="9957"/>
                  <a:pt x="18256" y="9897"/>
                </a:cubicBezTo>
                <a:cubicBezTo>
                  <a:pt x="18262" y="9821"/>
                  <a:pt x="18252" y="9761"/>
                  <a:pt x="18231" y="9699"/>
                </a:cubicBezTo>
                <a:cubicBezTo>
                  <a:pt x="18219" y="9662"/>
                  <a:pt x="18207" y="9642"/>
                  <a:pt x="18207" y="9599"/>
                </a:cubicBezTo>
                <a:cubicBezTo>
                  <a:pt x="18207" y="9552"/>
                  <a:pt x="18145" y="9504"/>
                  <a:pt x="18132" y="9451"/>
                </a:cubicBezTo>
                <a:cubicBezTo>
                  <a:pt x="18124" y="9420"/>
                  <a:pt x="18129" y="9387"/>
                  <a:pt x="18107" y="9376"/>
                </a:cubicBezTo>
                <a:cubicBezTo>
                  <a:pt x="18049" y="9346"/>
                  <a:pt x="18069" y="9319"/>
                  <a:pt x="18058" y="9451"/>
                </a:cubicBezTo>
              </a:path>
              <a:path w="3821" h="3003">
                <a:moveTo>
                  <a:pt x="18529" y="9475"/>
                </a:moveTo>
                <a:cubicBezTo>
                  <a:pt x="18482" y="9598"/>
                  <a:pt x="18401" y="9715"/>
                  <a:pt x="18380" y="9847"/>
                </a:cubicBezTo>
                <a:cubicBezTo>
                  <a:pt x="18367" y="9926"/>
                  <a:pt x="18368" y="9969"/>
                  <a:pt x="18430" y="9996"/>
                </a:cubicBezTo>
                <a:cubicBezTo>
                  <a:pt x="18525" y="10037"/>
                  <a:pt x="18581" y="9968"/>
                  <a:pt x="18604" y="9872"/>
                </a:cubicBezTo>
                <a:cubicBezTo>
                  <a:pt x="18623" y="9791"/>
                  <a:pt x="18643" y="9684"/>
                  <a:pt x="18628" y="9599"/>
                </a:cubicBezTo>
                <a:cubicBezTo>
                  <a:pt x="18616" y="9530"/>
                  <a:pt x="18554" y="9476"/>
                  <a:pt x="18504" y="9451"/>
                </a:cubicBezTo>
              </a:path>
              <a:path w="3821" h="3003">
                <a:moveTo>
                  <a:pt x="18802" y="9475"/>
                </a:moveTo>
                <a:cubicBezTo>
                  <a:pt x="18820" y="9422"/>
                  <a:pt x="18947" y="9457"/>
                  <a:pt x="19000" y="9451"/>
                </a:cubicBezTo>
                <a:cubicBezTo>
                  <a:pt x="19112" y="9428"/>
                  <a:pt x="19143" y="9427"/>
                  <a:pt x="19199" y="9376"/>
                </a:cubicBezTo>
                <a:cubicBezTo>
                  <a:pt x="19157" y="9521"/>
                  <a:pt x="19138" y="9673"/>
                  <a:pt x="19100" y="9823"/>
                </a:cubicBezTo>
                <a:cubicBezTo>
                  <a:pt x="19086" y="9879"/>
                  <a:pt x="19049" y="9880"/>
                  <a:pt x="19100" y="9897"/>
                </a:cubicBezTo>
              </a:path>
              <a:path w="3821" h="3003">
                <a:moveTo>
                  <a:pt x="17909" y="11361"/>
                </a:moveTo>
                <a:cubicBezTo>
                  <a:pt x="17909" y="11344"/>
                  <a:pt x="17909" y="11328"/>
                  <a:pt x="17909" y="11311"/>
                </a:cubicBezTo>
                <a:cubicBezTo>
                  <a:pt x="17854" y="11403"/>
                  <a:pt x="17884" y="11547"/>
                  <a:pt x="17884" y="11658"/>
                </a:cubicBezTo>
                <a:cubicBezTo>
                  <a:pt x="17884" y="11698"/>
                  <a:pt x="17895" y="11696"/>
                  <a:pt x="17934" y="11633"/>
                </a:cubicBezTo>
              </a:path>
              <a:path w="3821" h="3003">
                <a:moveTo>
                  <a:pt x="18207" y="11212"/>
                </a:moveTo>
                <a:cubicBezTo>
                  <a:pt x="18374" y="11236"/>
                  <a:pt x="18554" y="11345"/>
                  <a:pt x="18430" y="11534"/>
                </a:cubicBezTo>
                <a:cubicBezTo>
                  <a:pt x="18352" y="11586"/>
                  <a:pt x="18323" y="11604"/>
                  <a:pt x="18256" y="11609"/>
                </a:cubicBezTo>
                <a:cubicBezTo>
                  <a:pt x="18256" y="11494"/>
                  <a:pt x="18418" y="11495"/>
                  <a:pt x="18504" y="11485"/>
                </a:cubicBezTo>
                <a:cubicBezTo>
                  <a:pt x="18654" y="11467"/>
                  <a:pt x="18653" y="11497"/>
                  <a:pt x="18777" y="11410"/>
                </a:cubicBezTo>
              </a:path>
              <a:path w="3821" h="3003">
                <a:moveTo>
                  <a:pt x="18802" y="11137"/>
                </a:moveTo>
                <a:cubicBezTo>
                  <a:pt x="18750" y="11292"/>
                  <a:pt x="18729" y="11339"/>
                  <a:pt x="18777" y="11485"/>
                </a:cubicBezTo>
                <a:cubicBezTo>
                  <a:pt x="18853" y="11447"/>
                  <a:pt x="19160" y="11202"/>
                  <a:pt x="18926" y="11112"/>
                </a:cubicBezTo>
                <a:cubicBezTo>
                  <a:pt x="18893" y="11120"/>
                  <a:pt x="18860" y="11129"/>
                  <a:pt x="18827" y="11137"/>
                </a:cubicBezTo>
              </a:path>
              <a:path w="3821" h="3003">
                <a:moveTo>
                  <a:pt x="17264" y="12030"/>
                </a:moveTo>
                <a:cubicBezTo>
                  <a:pt x="17725" y="11900"/>
                  <a:pt x="18183" y="11771"/>
                  <a:pt x="18653" y="11683"/>
                </a:cubicBezTo>
                <a:cubicBezTo>
                  <a:pt x="18764" y="11664"/>
                  <a:pt x="18786" y="11629"/>
                  <a:pt x="18827" y="11683"/>
                </a:cubicBezTo>
              </a:path>
              <a:path w="3821" h="3003">
                <a:moveTo>
                  <a:pt x="18604" y="11881"/>
                </a:moveTo>
                <a:cubicBezTo>
                  <a:pt x="18554" y="11981"/>
                  <a:pt x="18364" y="12210"/>
                  <a:pt x="18529" y="12328"/>
                </a:cubicBezTo>
                <a:cubicBezTo>
                  <a:pt x="18704" y="12453"/>
                  <a:pt x="19018" y="12135"/>
                  <a:pt x="18901" y="11981"/>
                </a:cubicBezTo>
                <a:cubicBezTo>
                  <a:pt x="18780" y="11932"/>
                  <a:pt x="18742" y="11916"/>
                  <a:pt x="18653" y="119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97880" y="4830840"/>
            <a:ext cx="1160280" cy="642960"/>
          </a:xfrm>
          <a:custGeom>
            <a:avLst/>
            <a:gdLst/>
            <a:ahLst/>
            <a:rect l="l" t="t" r="r" b="b"/>
            <a:pathLst>
              <a:path w="3225" h="1787">
                <a:moveTo>
                  <a:pt x="21605" y="14188"/>
                </a:moveTo>
                <a:cubicBezTo>
                  <a:pt x="21542" y="14314"/>
                  <a:pt x="21411" y="14402"/>
                  <a:pt x="21406" y="14560"/>
                </a:cubicBezTo>
                <a:cubicBezTo>
                  <a:pt x="21401" y="14721"/>
                  <a:pt x="21668" y="14712"/>
                  <a:pt x="21605" y="14883"/>
                </a:cubicBezTo>
                <a:cubicBezTo>
                  <a:pt x="21531" y="14956"/>
                  <a:pt x="21507" y="14981"/>
                  <a:pt x="21431" y="14932"/>
                </a:cubicBezTo>
                <a:cubicBezTo>
                  <a:pt x="21379" y="14736"/>
                  <a:pt x="21495" y="14570"/>
                  <a:pt x="21555" y="14362"/>
                </a:cubicBezTo>
                <a:cubicBezTo>
                  <a:pt x="21555" y="14319"/>
                  <a:pt x="21549" y="14328"/>
                  <a:pt x="21530" y="14412"/>
                </a:cubicBezTo>
              </a:path>
              <a:path w="3225" h="1787">
                <a:moveTo>
                  <a:pt x="21903" y="15205"/>
                </a:moveTo>
                <a:cubicBezTo>
                  <a:pt x="21948" y="15033"/>
                  <a:pt x="22002" y="14868"/>
                  <a:pt x="22002" y="14684"/>
                </a:cubicBezTo>
                <a:cubicBezTo>
                  <a:pt x="22002" y="14494"/>
                  <a:pt x="21934" y="14375"/>
                  <a:pt x="21878" y="14213"/>
                </a:cubicBezTo>
                <a:cubicBezTo>
                  <a:pt x="21878" y="14205"/>
                  <a:pt x="21878" y="14196"/>
                  <a:pt x="21878" y="14188"/>
                </a:cubicBezTo>
                <a:cubicBezTo>
                  <a:pt x="22144" y="14188"/>
                  <a:pt x="22406" y="14203"/>
                  <a:pt x="22671" y="14213"/>
                </a:cubicBezTo>
                <a:cubicBezTo>
                  <a:pt x="23135" y="14230"/>
                  <a:pt x="23599" y="14205"/>
                  <a:pt x="24061" y="14238"/>
                </a:cubicBezTo>
                <a:cubicBezTo>
                  <a:pt x="24164" y="14245"/>
                  <a:pt x="24256" y="14217"/>
                  <a:pt x="24358" y="14213"/>
                </a:cubicBezTo>
                <a:cubicBezTo>
                  <a:pt x="24440" y="14210"/>
                  <a:pt x="24523" y="14213"/>
                  <a:pt x="24606" y="14213"/>
                </a:cubicBezTo>
              </a:path>
              <a:path w="3225" h="1787">
                <a:moveTo>
                  <a:pt x="22349" y="14461"/>
                </a:moveTo>
                <a:cubicBezTo>
                  <a:pt x="22304" y="14393"/>
                  <a:pt x="22213" y="14528"/>
                  <a:pt x="22175" y="14585"/>
                </a:cubicBezTo>
                <a:cubicBezTo>
                  <a:pt x="22115" y="14677"/>
                  <a:pt x="22126" y="14730"/>
                  <a:pt x="22126" y="14833"/>
                </a:cubicBezTo>
                <a:cubicBezTo>
                  <a:pt x="22126" y="14866"/>
                  <a:pt x="22134" y="14874"/>
                  <a:pt x="22175" y="14858"/>
                </a:cubicBezTo>
                <a:cubicBezTo>
                  <a:pt x="22325" y="14821"/>
                  <a:pt x="22383" y="14747"/>
                  <a:pt x="22399" y="14585"/>
                </a:cubicBezTo>
                <a:cubicBezTo>
                  <a:pt x="22409" y="14480"/>
                  <a:pt x="22364" y="14472"/>
                  <a:pt x="22275" y="14461"/>
                </a:cubicBezTo>
              </a:path>
              <a:path w="3225" h="1787">
                <a:moveTo>
                  <a:pt x="22696" y="14759"/>
                </a:moveTo>
                <a:cubicBezTo>
                  <a:pt x="22696" y="14800"/>
                  <a:pt x="22696" y="14874"/>
                  <a:pt x="22696" y="14833"/>
                </a:cubicBezTo>
              </a:path>
              <a:path w="3225" h="1787">
                <a:moveTo>
                  <a:pt x="22994" y="14560"/>
                </a:moveTo>
                <a:cubicBezTo>
                  <a:pt x="22976" y="14669"/>
                  <a:pt x="22969" y="14770"/>
                  <a:pt x="22969" y="14883"/>
                </a:cubicBezTo>
                <a:cubicBezTo>
                  <a:pt x="22969" y="14992"/>
                  <a:pt x="22964" y="14947"/>
                  <a:pt x="23044" y="14833"/>
                </a:cubicBezTo>
              </a:path>
              <a:path w="3225" h="1787">
                <a:moveTo>
                  <a:pt x="23192" y="14684"/>
                </a:moveTo>
                <a:cubicBezTo>
                  <a:pt x="23345" y="14703"/>
                  <a:pt x="23435" y="14732"/>
                  <a:pt x="23440" y="14908"/>
                </a:cubicBezTo>
                <a:cubicBezTo>
                  <a:pt x="23444" y="15043"/>
                  <a:pt x="23269" y="15113"/>
                  <a:pt x="23168" y="15032"/>
                </a:cubicBezTo>
                <a:cubicBezTo>
                  <a:pt x="23168" y="15024"/>
                  <a:pt x="23168" y="15015"/>
                  <a:pt x="23168" y="15007"/>
                </a:cubicBezTo>
                <a:cubicBezTo>
                  <a:pt x="23297" y="14947"/>
                  <a:pt x="23316" y="14961"/>
                  <a:pt x="23440" y="15007"/>
                </a:cubicBezTo>
                <a:cubicBezTo>
                  <a:pt x="23448" y="15007"/>
                  <a:pt x="23457" y="15007"/>
                  <a:pt x="23465" y="15007"/>
                </a:cubicBezTo>
              </a:path>
              <a:path w="3225" h="1787">
                <a:moveTo>
                  <a:pt x="23713" y="14635"/>
                </a:moveTo>
                <a:cubicBezTo>
                  <a:pt x="23731" y="14759"/>
                  <a:pt x="23732" y="14869"/>
                  <a:pt x="23788" y="14982"/>
                </a:cubicBezTo>
                <a:cubicBezTo>
                  <a:pt x="23886" y="15180"/>
                  <a:pt x="24021" y="14934"/>
                  <a:pt x="24036" y="14858"/>
                </a:cubicBezTo>
                <a:cubicBezTo>
                  <a:pt x="24036" y="14833"/>
                  <a:pt x="24036" y="14825"/>
                  <a:pt x="24011" y="14833"/>
                </a:cubicBezTo>
                <a:cubicBezTo>
                  <a:pt x="23959" y="14900"/>
                  <a:pt x="23946" y="14922"/>
                  <a:pt x="23937" y="15007"/>
                </a:cubicBezTo>
              </a:path>
              <a:path w="3225" h="1787">
                <a:moveTo>
                  <a:pt x="22647" y="13990"/>
                </a:moveTo>
                <a:cubicBezTo>
                  <a:pt x="22631" y="14071"/>
                  <a:pt x="22615" y="14032"/>
                  <a:pt x="22671" y="14089"/>
                </a:cubicBezTo>
                <a:cubicBezTo>
                  <a:pt x="22675" y="14081"/>
                  <a:pt x="22773" y="13897"/>
                  <a:pt x="22671" y="13965"/>
                </a:cubicBezTo>
                <a:cubicBezTo>
                  <a:pt x="22660" y="13972"/>
                  <a:pt x="22651" y="14044"/>
                  <a:pt x="22647" y="14064"/>
                </a:cubicBezTo>
              </a:path>
              <a:path w="3225" h="1787">
                <a:moveTo>
                  <a:pt x="23664" y="13419"/>
                </a:moveTo>
                <a:cubicBezTo>
                  <a:pt x="23639" y="13470"/>
                  <a:pt x="23638" y="13518"/>
                  <a:pt x="23614" y="13494"/>
                </a:cubicBezTo>
                <a:cubicBezTo>
                  <a:pt x="23659" y="13404"/>
                  <a:pt x="23771" y="13459"/>
                  <a:pt x="23862" y="13444"/>
                </a:cubicBezTo>
                <a:cubicBezTo>
                  <a:pt x="23933" y="13433"/>
                  <a:pt x="23944" y="13391"/>
                  <a:pt x="23961" y="13444"/>
                </a:cubicBezTo>
                <a:cubicBezTo>
                  <a:pt x="23920" y="13650"/>
                  <a:pt x="23842" y="13851"/>
                  <a:pt x="23812" y="14064"/>
                </a:cubicBezTo>
                <a:cubicBezTo>
                  <a:pt x="23812" y="14114"/>
                  <a:pt x="23812" y="14130"/>
                  <a:pt x="23812" y="14163"/>
                </a:cubicBezTo>
              </a:path>
              <a:path w="3225" h="1787">
                <a:moveTo>
                  <a:pt x="23019" y="13717"/>
                </a:moveTo>
                <a:cubicBezTo>
                  <a:pt x="23019" y="13675"/>
                  <a:pt x="22928" y="13935"/>
                  <a:pt x="22920" y="13965"/>
                </a:cubicBezTo>
                <a:cubicBezTo>
                  <a:pt x="22898" y="14073"/>
                  <a:pt x="22885" y="14099"/>
                  <a:pt x="22920" y="14163"/>
                </a:cubicBezTo>
                <a:cubicBezTo>
                  <a:pt x="22970" y="14214"/>
                  <a:pt x="23068" y="14085"/>
                  <a:pt x="23093" y="14015"/>
                </a:cubicBezTo>
                <a:cubicBezTo>
                  <a:pt x="23140" y="13883"/>
                  <a:pt x="23142" y="13816"/>
                  <a:pt x="23044" y="13742"/>
                </a:cubicBezTo>
                <a:cubicBezTo>
                  <a:pt x="23036" y="13734"/>
                  <a:pt x="23027" y="13725"/>
                  <a:pt x="23019" y="13717"/>
                </a:cubicBezTo>
              </a:path>
              <a:path w="3225" h="1787">
                <a:moveTo>
                  <a:pt x="23465" y="13692"/>
                </a:moveTo>
                <a:cubicBezTo>
                  <a:pt x="23422" y="13706"/>
                  <a:pt x="23372" y="13901"/>
                  <a:pt x="23366" y="13940"/>
                </a:cubicBezTo>
                <a:cubicBezTo>
                  <a:pt x="23352" y="14030"/>
                  <a:pt x="23364" y="14107"/>
                  <a:pt x="23391" y="14188"/>
                </a:cubicBezTo>
                <a:cubicBezTo>
                  <a:pt x="23493" y="14131"/>
                  <a:pt x="23585" y="14065"/>
                  <a:pt x="23614" y="13940"/>
                </a:cubicBezTo>
                <a:cubicBezTo>
                  <a:pt x="23629" y="13873"/>
                  <a:pt x="23580" y="13753"/>
                  <a:pt x="23515" y="13717"/>
                </a:cubicBezTo>
                <a:cubicBezTo>
                  <a:pt x="23480" y="13698"/>
                  <a:pt x="23471" y="13723"/>
                  <a:pt x="23465" y="13742"/>
                </a:cubicBezTo>
              </a:path>
              <a:path w="3225" h="1787">
                <a:moveTo>
                  <a:pt x="22299" y="13717"/>
                </a:moveTo>
                <a:cubicBezTo>
                  <a:pt x="22238" y="13832"/>
                  <a:pt x="22195" y="13957"/>
                  <a:pt x="22175" y="14089"/>
                </a:cubicBezTo>
                <a:cubicBezTo>
                  <a:pt x="22175" y="14106"/>
                  <a:pt x="22175" y="14122"/>
                  <a:pt x="22175" y="14139"/>
                </a:cubicBezTo>
                <a:cubicBezTo>
                  <a:pt x="22303" y="14139"/>
                  <a:pt x="22390" y="14111"/>
                  <a:pt x="22423" y="13965"/>
                </a:cubicBezTo>
                <a:cubicBezTo>
                  <a:pt x="22439" y="13893"/>
                  <a:pt x="22445" y="13724"/>
                  <a:pt x="22349" y="13692"/>
                </a:cubicBezTo>
                <a:cubicBezTo>
                  <a:pt x="22292" y="13692"/>
                  <a:pt x="22271" y="13697"/>
                  <a:pt x="22250" y="137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77120" y="3106800"/>
            <a:ext cx="46080" cy="12528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23118" y="8632"/>
                </a:moveTo>
                <a:cubicBezTo>
                  <a:pt x="23064" y="8747"/>
                  <a:pt x="23012" y="8852"/>
                  <a:pt x="22994" y="8979"/>
                </a:cubicBezTo>
              </a:path>
              <a:path w="125" h="348">
                <a:moveTo>
                  <a:pt x="22994" y="8979"/>
                </a:moveTo>
                <a:lnTo>
                  <a:pt x="22994" y="897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00120" y="5143680"/>
            <a:ext cx="44640" cy="36360"/>
          </a:xfrm>
          <a:custGeom>
            <a:avLst/>
            <a:gdLst/>
            <a:ahLst/>
            <a:rect l="l" t="t" r="r" b="b"/>
            <a:pathLst>
              <a:path w="125" h="100">
                <a:moveTo>
                  <a:pt x="4291" y="14337"/>
                </a:moveTo>
                <a:cubicBezTo>
                  <a:pt x="4258" y="14312"/>
                  <a:pt x="4247" y="14292"/>
                  <a:pt x="4217" y="14288"/>
                </a:cubicBezTo>
                <a:cubicBezTo>
                  <a:pt x="4161" y="14281"/>
                  <a:pt x="4211" y="14356"/>
                  <a:pt x="4217" y="14387"/>
                </a:cubicBezTo>
                <a:cubicBezTo>
                  <a:pt x="4217" y="14372"/>
                  <a:pt x="4221" y="14205"/>
                  <a:pt x="4167" y="14312"/>
                </a:cubicBezTo>
                <a:cubicBezTo>
                  <a:pt x="4167" y="14329"/>
                  <a:pt x="4167" y="14345"/>
                  <a:pt x="4167" y="14362"/>
                </a:cubicBezTo>
                <a:cubicBezTo>
                  <a:pt x="4206" y="14352"/>
                  <a:pt x="4153" y="14326"/>
                  <a:pt x="4192" y="14337"/>
                </a:cubicBezTo>
                <a:cubicBezTo>
                  <a:pt x="4209" y="14337"/>
                  <a:pt x="4225" y="14337"/>
                  <a:pt x="4242" y="143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31080" y="3054240"/>
            <a:ext cx="19080" cy="214560"/>
          </a:xfrm>
          <a:custGeom>
            <a:avLst/>
            <a:gdLst/>
            <a:ahLst/>
            <a:rect l="l" t="t" r="r" b="b"/>
            <a:pathLst>
              <a:path w="50" h="597">
                <a:moveTo>
                  <a:pt x="21803" y="8483"/>
                </a:moveTo>
                <a:cubicBezTo>
                  <a:pt x="21803" y="8664"/>
                  <a:pt x="21772" y="8826"/>
                  <a:pt x="21754" y="9004"/>
                </a:cubicBezTo>
                <a:cubicBezTo>
                  <a:pt x="21754" y="9077"/>
                  <a:pt x="21753" y="9104"/>
                  <a:pt x="21803" y="90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66080" y="2982960"/>
            <a:ext cx="88920" cy="241200"/>
          </a:xfrm>
          <a:custGeom>
            <a:avLst/>
            <a:gdLst/>
            <a:ahLst/>
            <a:rect l="l" t="t" r="r" b="b"/>
            <a:pathLst>
              <a:path w="249" h="670">
                <a:moveTo>
                  <a:pt x="22324" y="8285"/>
                </a:moveTo>
                <a:cubicBezTo>
                  <a:pt x="22243" y="8352"/>
                  <a:pt x="22079" y="8460"/>
                  <a:pt x="22151" y="8582"/>
                </a:cubicBezTo>
                <a:cubicBezTo>
                  <a:pt x="22209" y="8681"/>
                  <a:pt x="22455" y="8752"/>
                  <a:pt x="22349" y="8905"/>
                </a:cubicBezTo>
                <a:cubicBezTo>
                  <a:pt x="22279" y="8951"/>
                  <a:pt x="22259" y="8968"/>
                  <a:pt x="22200" y="8954"/>
                </a:cubicBezTo>
                <a:cubicBezTo>
                  <a:pt x="22141" y="8787"/>
                  <a:pt x="22193" y="8629"/>
                  <a:pt x="22275" y="8458"/>
                </a:cubicBezTo>
                <a:cubicBezTo>
                  <a:pt x="22297" y="8436"/>
                  <a:pt x="22305" y="8431"/>
                  <a:pt x="22299" y="84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18640" y="3367080"/>
            <a:ext cx="107640" cy="196920"/>
          </a:xfrm>
          <a:custGeom>
            <a:avLst/>
            <a:gdLst/>
            <a:ahLst/>
            <a:rect l="l" t="t" r="r" b="b"/>
            <a:pathLst>
              <a:path w="298" h="547">
                <a:moveTo>
                  <a:pt x="22448" y="9426"/>
                </a:moveTo>
                <a:cubicBezTo>
                  <a:pt x="22491" y="9426"/>
                  <a:pt x="22486" y="9436"/>
                  <a:pt x="22498" y="9401"/>
                </a:cubicBezTo>
                <a:cubicBezTo>
                  <a:pt x="22498" y="9314"/>
                  <a:pt x="22400" y="9380"/>
                  <a:pt x="22349" y="9426"/>
                </a:cubicBezTo>
                <a:cubicBezTo>
                  <a:pt x="22337" y="9437"/>
                  <a:pt x="22249" y="9538"/>
                  <a:pt x="22275" y="9575"/>
                </a:cubicBezTo>
                <a:cubicBezTo>
                  <a:pt x="22305" y="9617"/>
                  <a:pt x="22325" y="9658"/>
                  <a:pt x="22349" y="9674"/>
                </a:cubicBezTo>
                <a:cubicBezTo>
                  <a:pt x="22422" y="9641"/>
                  <a:pt x="22494" y="9612"/>
                  <a:pt x="22572" y="9599"/>
                </a:cubicBezTo>
                <a:cubicBezTo>
                  <a:pt x="22553" y="9757"/>
                  <a:pt x="22514" y="9840"/>
                  <a:pt x="22349" y="9897"/>
                </a:cubicBezTo>
                <a:cubicBezTo>
                  <a:pt x="22307" y="9897"/>
                  <a:pt x="22291" y="9905"/>
                  <a:pt x="22299" y="98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88160" y="3562200"/>
            <a:ext cx="563760" cy="135000"/>
          </a:xfrm>
          <a:custGeom>
            <a:avLst/>
            <a:gdLst/>
            <a:ahLst/>
            <a:rect l="l" t="t" r="r" b="b"/>
            <a:pathLst>
              <a:path w="1564" h="373">
                <a:moveTo>
                  <a:pt x="21357" y="10269"/>
                </a:moveTo>
                <a:cubicBezTo>
                  <a:pt x="21797" y="10116"/>
                  <a:pt x="22237" y="10006"/>
                  <a:pt x="22696" y="9922"/>
                </a:cubicBezTo>
                <a:cubicBezTo>
                  <a:pt x="22789" y="9905"/>
                  <a:pt x="22837" y="9903"/>
                  <a:pt x="22920" y="98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2280" y="3714840"/>
            <a:ext cx="135000" cy="160200"/>
          </a:xfrm>
          <a:custGeom>
            <a:avLst/>
            <a:gdLst/>
            <a:ahLst/>
            <a:rect l="l" t="t" r="r" b="b"/>
            <a:pathLst>
              <a:path w="374" h="447">
                <a:moveTo>
                  <a:pt x="22647" y="10319"/>
                </a:moveTo>
                <a:cubicBezTo>
                  <a:pt x="22513" y="10363"/>
                  <a:pt x="22453" y="10478"/>
                  <a:pt x="22423" y="10616"/>
                </a:cubicBezTo>
                <a:cubicBezTo>
                  <a:pt x="22423" y="10649"/>
                  <a:pt x="22423" y="10683"/>
                  <a:pt x="22423" y="10716"/>
                </a:cubicBezTo>
                <a:cubicBezTo>
                  <a:pt x="22616" y="10783"/>
                  <a:pt x="22744" y="10715"/>
                  <a:pt x="22796" y="10492"/>
                </a:cubicBezTo>
                <a:cubicBezTo>
                  <a:pt x="22838" y="10313"/>
                  <a:pt x="22718" y="10344"/>
                  <a:pt x="22597" y="103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6240" y="2884320"/>
            <a:ext cx="115920" cy="63720"/>
          </a:xfrm>
          <a:custGeom>
            <a:avLst/>
            <a:gdLst/>
            <a:ahLst/>
            <a:rect l="l" t="t" r="r" b="b"/>
            <a:pathLst>
              <a:path w="324" h="175">
                <a:moveTo>
                  <a:pt x="21183" y="8012"/>
                </a:moveTo>
                <a:cubicBezTo>
                  <a:pt x="21183" y="8070"/>
                  <a:pt x="21183" y="8128"/>
                  <a:pt x="21183" y="8186"/>
                </a:cubicBezTo>
                <a:cubicBezTo>
                  <a:pt x="21245" y="8186"/>
                  <a:pt x="21483" y="8202"/>
                  <a:pt x="21506" y="8111"/>
                </a:cubicBezTo>
                <a:cubicBezTo>
                  <a:pt x="21498" y="8086"/>
                  <a:pt x="21489" y="8062"/>
                  <a:pt x="21481" y="80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97880" y="2820960"/>
            <a:ext cx="17280" cy="1890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21382" y="7838"/>
                </a:moveTo>
                <a:cubicBezTo>
                  <a:pt x="21409" y="8007"/>
                  <a:pt x="21431" y="8163"/>
                  <a:pt x="21431" y="8334"/>
                </a:cubicBezTo>
                <a:cubicBezTo>
                  <a:pt x="21431" y="8342"/>
                  <a:pt x="21431" y="8351"/>
                  <a:pt x="21431" y="83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04080" y="3732120"/>
            <a:ext cx="125640" cy="223920"/>
          </a:xfrm>
          <a:custGeom>
            <a:avLst/>
            <a:gdLst/>
            <a:ahLst/>
            <a:rect l="l" t="t" r="r" b="b"/>
            <a:pathLst>
              <a:path w="349" h="621">
                <a:moveTo>
                  <a:pt x="22027" y="10492"/>
                </a:moveTo>
                <a:cubicBezTo>
                  <a:pt x="21973" y="10460"/>
                  <a:pt x="21901" y="10321"/>
                  <a:pt x="21803" y="10368"/>
                </a:cubicBezTo>
                <a:cubicBezTo>
                  <a:pt x="21685" y="10425"/>
                  <a:pt x="21691" y="10561"/>
                  <a:pt x="21679" y="10666"/>
                </a:cubicBezTo>
                <a:cubicBezTo>
                  <a:pt x="21812" y="10722"/>
                  <a:pt x="21911" y="10700"/>
                  <a:pt x="21977" y="10542"/>
                </a:cubicBezTo>
                <a:cubicBezTo>
                  <a:pt x="21990" y="10510"/>
                  <a:pt x="22023" y="10448"/>
                  <a:pt x="21977" y="10492"/>
                </a:cubicBezTo>
                <a:cubicBezTo>
                  <a:pt x="21977" y="10652"/>
                  <a:pt x="21959" y="10805"/>
                  <a:pt x="21952" y="10964"/>
                </a:cubicBezTo>
                <a:cubicBezTo>
                  <a:pt x="21952" y="10972"/>
                  <a:pt x="21952" y="10980"/>
                  <a:pt x="21952" y="109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20040" y="2830680"/>
            <a:ext cx="19080" cy="179280"/>
          </a:xfrm>
          <a:custGeom>
            <a:avLst/>
            <a:gdLst/>
            <a:ahLst/>
            <a:rect l="l" t="t" r="r" b="b"/>
            <a:pathLst>
              <a:path w="50" h="497">
                <a:moveTo>
                  <a:pt x="23416" y="7863"/>
                </a:moveTo>
                <a:cubicBezTo>
                  <a:pt x="23340" y="7888"/>
                  <a:pt x="23441" y="8115"/>
                  <a:pt x="23440" y="8186"/>
                </a:cubicBezTo>
                <a:cubicBezTo>
                  <a:pt x="23423" y="8293"/>
                  <a:pt x="23415" y="8301"/>
                  <a:pt x="23416" y="83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528040" y="2714760"/>
            <a:ext cx="88920" cy="214200"/>
          </a:xfrm>
          <a:custGeom>
            <a:avLst/>
            <a:gdLst/>
            <a:ahLst/>
            <a:rect l="l" t="t" r="r" b="b"/>
            <a:pathLst>
              <a:path w="250" h="596">
                <a:moveTo>
                  <a:pt x="23812" y="7541"/>
                </a:moveTo>
                <a:cubicBezTo>
                  <a:pt x="23694" y="7713"/>
                  <a:pt x="23663" y="7734"/>
                  <a:pt x="23812" y="7888"/>
                </a:cubicBezTo>
                <a:cubicBezTo>
                  <a:pt x="23897" y="7976"/>
                  <a:pt x="23918" y="7997"/>
                  <a:pt x="23937" y="8111"/>
                </a:cubicBezTo>
                <a:cubicBezTo>
                  <a:pt x="23748" y="8143"/>
                  <a:pt x="23746" y="8046"/>
                  <a:pt x="23788" y="7863"/>
                </a:cubicBezTo>
                <a:cubicBezTo>
                  <a:pt x="23805" y="7789"/>
                  <a:pt x="23836" y="7678"/>
                  <a:pt x="23887" y="76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45680" y="2955960"/>
            <a:ext cx="134640" cy="16020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23738" y="8458"/>
                </a:moveTo>
                <a:cubicBezTo>
                  <a:pt x="23849" y="8348"/>
                  <a:pt x="23985" y="8302"/>
                  <a:pt x="24110" y="8210"/>
                </a:cubicBezTo>
                <a:cubicBezTo>
                  <a:pt x="24089" y="8315"/>
                  <a:pt x="24049" y="8423"/>
                  <a:pt x="24036" y="8533"/>
                </a:cubicBezTo>
                <a:cubicBezTo>
                  <a:pt x="24030" y="8582"/>
                  <a:pt x="24036" y="8682"/>
                  <a:pt x="24036" y="86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59840" y="3160800"/>
            <a:ext cx="544320" cy="189000"/>
          </a:xfrm>
          <a:custGeom>
            <a:avLst/>
            <a:gdLst/>
            <a:ahLst/>
            <a:rect l="l" t="t" r="r" b="b"/>
            <a:pathLst>
              <a:path w="1514" h="522">
                <a:moveTo>
                  <a:pt x="22944" y="9302"/>
                </a:moveTo>
                <a:cubicBezTo>
                  <a:pt x="23320" y="9154"/>
                  <a:pt x="23699" y="9024"/>
                  <a:pt x="24085" y="8905"/>
                </a:cubicBezTo>
                <a:cubicBezTo>
                  <a:pt x="24210" y="8866"/>
                  <a:pt x="24337" y="8824"/>
                  <a:pt x="24457" y="87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51920" y="3160800"/>
            <a:ext cx="61920" cy="46080"/>
          </a:xfrm>
          <a:custGeom>
            <a:avLst/>
            <a:gdLst/>
            <a:ahLst/>
            <a:rect l="l" t="t" r="r" b="b"/>
            <a:pathLst>
              <a:path w="174" h="125">
                <a:moveTo>
                  <a:pt x="22920" y="8781"/>
                </a:moveTo>
                <a:cubicBezTo>
                  <a:pt x="22939" y="8787"/>
                  <a:pt x="23040" y="8908"/>
                  <a:pt x="23044" y="8905"/>
                </a:cubicBezTo>
                <a:cubicBezTo>
                  <a:pt x="23060" y="8872"/>
                  <a:pt x="23077" y="8839"/>
                  <a:pt x="23093" y="88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61240" y="3259080"/>
            <a:ext cx="152640" cy="179280"/>
          </a:xfrm>
          <a:custGeom>
            <a:avLst/>
            <a:gdLst/>
            <a:ahLst/>
            <a:rect l="l" t="t" r="r" b="b"/>
            <a:pathLst>
              <a:path w="422" h="497">
                <a:moveTo>
                  <a:pt x="24061" y="9054"/>
                </a:moveTo>
                <a:cubicBezTo>
                  <a:pt x="24111" y="9206"/>
                  <a:pt x="24097" y="9373"/>
                  <a:pt x="24160" y="9525"/>
                </a:cubicBezTo>
                <a:cubicBezTo>
                  <a:pt x="24225" y="9682"/>
                  <a:pt x="24431" y="9396"/>
                  <a:pt x="24457" y="9351"/>
                </a:cubicBezTo>
                <a:cubicBezTo>
                  <a:pt x="24477" y="9291"/>
                  <a:pt x="24496" y="9276"/>
                  <a:pt x="24457" y="9252"/>
                </a:cubicBezTo>
                <a:cubicBezTo>
                  <a:pt x="24398" y="9282"/>
                  <a:pt x="24198" y="9395"/>
                  <a:pt x="24284" y="9500"/>
                </a:cubicBezTo>
                <a:cubicBezTo>
                  <a:pt x="24292" y="9492"/>
                  <a:pt x="24301" y="9483"/>
                  <a:pt x="24309" y="94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59840" y="2608200"/>
            <a:ext cx="117360" cy="187560"/>
          </a:xfrm>
          <a:custGeom>
            <a:avLst/>
            <a:gdLst/>
            <a:ahLst/>
            <a:rect l="l" t="t" r="r" b="b"/>
            <a:pathLst>
              <a:path w="324" h="522">
                <a:moveTo>
                  <a:pt x="23267" y="7317"/>
                </a:moveTo>
                <a:cubicBezTo>
                  <a:pt x="23237" y="7288"/>
                  <a:pt x="23225" y="7274"/>
                  <a:pt x="23217" y="7243"/>
                </a:cubicBezTo>
                <a:cubicBezTo>
                  <a:pt x="23141" y="7268"/>
                  <a:pt x="23067" y="7337"/>
                  <a:pt x="22994" y="7367"/>
                </a:cubicBezTo>
                <a:cubicBezTo>
                  <a:pt x="22961" y="7381"/>
                  <a:pt x="22965" y="7418"/>
                  <a:pt x="22944" y="7466"/>
                </a:cubicBezTo>
                <a:cubicBezTo>
                  <a:pt x="23029" y="7466"/>
                  <a:pt x="23172" y="7434"/>
                  <a:pt x="23242" y="7491"/>
                </a:cubicBezTo>
                <a:cubicBezTo>
                  <a:pt x="23390" y="7611"/>
                  <a:pt x="23118" y="7722"/>
                  <a:pt x="23068" y="7739"/>
                </a:cubicBezTo>
                <a:cubicBezTo>
                  <a:pt x="23008" y="7759"/>
                  <a:pt x="22973" y="7778"/>
                  <a:pt x="23019" y="77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58120" y="3384720"/>
            <a:ext cx="63720" cy="169560"/>
          </a:xfrm>
          <a:custGeom>
            <a:avLst/>
            <a:gdLst/>
            <a:ahLst/>
            <a:rect l="l" t="t" r="r" b="b"/>
            <a:pathLst>
              <a:path w="175" h="472">
                <a:moveTo>
                  <a:pt x="23217" y="9426"/>
                </a:moveTo>
                <a:cubicBezTo>
                  <a:pt x="23217" y="9301"/>
                  <a:pt x="23305" y="9603"/>
                  <a:pt x="23341" y="9723"/>
                </a:cubicBezTo>
                <a:cubicBezTo>
                  <a:pt x="23362" y="9807"/>
                  <a:pt x="23363" y="9827"/>
                  <a:pt x="23391" y="98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39120" y="3357720"/>
            <a:ext cx="187200" cy="142560"/>
          </a:xfrm>
          <a:custGeom>
            <a:avLst/>
            <a:gdLst/>
            <a:ahLst/>
            <a:rect l="l" t="t" r="r" b="b"/>
            <a:pathLst>
              <a:path w="522" h="397">
                <a:moveTo>
                  <a:pt x="23440" y="9401"/>
                </a:moveTo>
                <a:cubicBezTo>
                  <a:pt x="23522" y="9343"/>
                  <a:pt x="23567" y="9286"/>
                  <a:pt x="23639" y="9376"/>
                </a:cubicBezTo>
                <a:cubicBezTo>
                  <a:pt x="23730" y="9490"/>
                  <a:pt x="23649" y="9613"/>
                  <a:pt x="23589" y="9723"/>
                </a:cubicBezTo>
                <a:cubicBezTo>
                  <a:pt x="23705" y="9723"/>
                  <a:pt x="23809" y="9680"/>
                  <a:pt x="23912" y="9624"/>
                </a:cubicBezTo>
                <a:cubicBezTo>
                  <a:pt x="23951" y="9603"/>
                  <a:pt x="23946" y="9577"/>
                  <a:pt x="23961" y="96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3679920" y="281160"/>
            <a:ext cx="50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bjective:  Students will Divide Decimals by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7680" y="1090440"/>
            <a:ext cx="81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quotient. Check that the answer 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61600" y="1562040"/>
            <a:ext cx="1718280" cy="459720"/>
            <a:chOff x="561600" y="1562040"/>
            <a:chExt cx="1718280" cy="459720"/>
          </a:xfrm>
        </p:grpSpPr>
        <p:sp>
          <p:nvSpPr>
            <p:cNvPr id="200" name=""/>
            <p:cNvSpPr/>
            <p:nvPr/>
          </p:nvSpPr>
          <p:spPr>
            <a:xfrm>
              <a:off x="561600" y="1562040"/>
              <a:ext cx="171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Utopia-Bold"/>
                </a:rPr>
                <a:t>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6    0.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5"/>
            <a:srcRect l="22218" t="0" r="18690" b="0"/>
            <a:stretch/>
          </p:blipFill>
          <p:spPr>
            <a:xfrm>
              <a:off x="1373040" y="1689120"/>
              <a:ext cx="265320" cy="2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552960" y="378792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32 ÷ 0.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30800" y="4562640"/>
            <a:ext cx="19080" cy="18720"/>
          </a:xfrm>
          <a:custGeom>
            <a:avLst/>
            <a:gdLst/>
            <a:ahLst/>
            <a:rect l="l" t="t" r="r" b="b"/>
            <a:pathLst>
              <a:path w="51" h="51">
                <a:moveTo>
                  <a:pt x="12080" y="12675"/>
                </a:moveTo>
                <a:cubicBezTo>
                  <a:pt x="12048" y="12675"/>
                  <a:pt x="12051" y="12696"/>
                  <a:pt x="12030" y="127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43160" y="4249800"/>
            <a:ext cx="2143080" cy="492120"/>
          </a:xfrm>
          <a:custGeom>
            <a:avLst/>
            <a:gdLst/>
            <a:ahLst/>
            <a:rect l="l" t="t" r="r" b="b"/>
            <a:pathLst>
              <a:path w="5954" h="1365">
                <a:moveTo>
                  <a:pt x="8905" y="12229"/>
                </a:moveTo>
                <a:cubicBezTo>
                  <a:pt x="8941" y="12241"/>
                  <a:pt x="8791" y="12544"/>
                  <a:pt x="8781" y="12576"/>
                </a:cubicBezTo>
                <a:cubicBezTo>
                  <a:pt x="8738" y="12748"/>
                  <a:pt x="8721" y="12787"/>
                  <a:pt x="8731" y="12898"/>
                </a:cubicBezTo>
                <a:cubicBezTo>
                  <a:pt x="8929" y="12960"/>
                  <a:pt x="9172" y="12910"/>
                  <a:pt x="9227" y="12650"/>
                </a:cubicBezTo>
                <a:cubicBezTo>
                  <a:pt x="9260" y="12495"/>
                  <a:pt x="9113" y="12303"/>
                  <a:pt x="8954" y="12303"/>
                </a:cubicBezTo>
                <a:cubicBezTo>
                  <a:pt x="8954" y="12311"/>
                  <a:pt x="8954" y="12320"/>
                  <a:pt x="8954" y="12328"/>
                </a:cubicBezTo>
              </a:path>
              <a:path w="5954" h="1365">
                <a:moveTo>
                  <a:pt x="9451" y="12725"/>
                </a:moveTo>
                <a:cubicBezTo>
                  <a:pt x="9455" y="12737"/>
                  <a:pt x="9475" y="12869"/>
                  <a:pt x="9475" y="12799"/>
                </a:cubicBezTo>
              </a:path>
              <a:path w="5954" h="1365">
                <a:moveTo>
                  <a:pt x="9699" y="12254"/>
                </a:moveTo>
                <a:cubicBezTo>
                  <a:pt x="9791" y="12272"/>
                  <a:pt x="9899" y="12276"/>
                  <a:pt x="9996" y="12254"/>
                </a:cubicBezTo>
                <a:cubicBezTo>
                  <a:pt x="10037" y="12234"/>
                  <a:pt x="10043" y="12225"/>
                  <a:pt x="10071" y="12229"/>
                </a:cubicBezTo>
                <a:cubicBezTo>
                  <a:pt x="10071" y="12423"/>
                  <a:pt x="10062" y="12614"/>
                  <a:pt x="9996" y="12799"/>
                </a:cubicBezTo>
                <a:cubicBezTo>
                  <a:pt x="9973" y="12822"/>
                  <a:pt x="9965" y="12833"/>
                  <a:pt x="9971" y="12799"/>
                </a:cubicBezTo>
              </a:path>
              <a:path w="5954" h="1365">
                <a:moveTo>
                  <a:pt x="10765" y="12353"/>
                </a:moveTo>
                <a:cubicBezTo>
                  <a:pt x="10754" y="12255"/>
                  <a:pt x="10730" y="12115"/>
                  <a:pt x="10592" y="12129"/>
                </a:cubicBezTo>
                <a:cubicBezTo>
                  <a:pt x="10357" y="12153"/>
                  <a:pt x="10294" y="12346"/>
                  <a:pt x="10294" y="12526"/>
                </a:cubicBezTo>
                <a:cubicBezTo>
                  <a:pt x="10516" y="12493"/>
                  <a:pt x="10579" y="12440"/>
                  <a:pt x="10666" y="12229"/>
                </a:cubicBezTo>
                <a:cubicBezTo>
                  <a:pt x="10714" y="12433"/>
                  <a:pt x="10681" y="12639"/>
                  <a:pt x="10666" y="12849"/>
                </a:cubicBezTo>
                <a:cubicBezTo>
                  <a:pt x="10666" y="12865"/>
                  <a:pt x="10666" y="12882"/>
                  <a:pt x="10666" y="12898"/>
                </a:cubicBezTo>
              </a:path>
              <a:path w="5954" h="1365">
                <a:moveTo>
                  <a:pt x="10964" y="12948"/>
                </a:moveTo>
                <a:cubicBezTo>
                  <a:pt x="11065" y="12826"/>
                  <a:pt x="11138" y="12714"/>
                  <a:pt x="11162" y="12526"/>
                </a:cubicBezTo>
                <a:cubicBezTo>
                  <a:pt x="11192" y="12296"/>
                  <a:pt x="11144" y="12080"/>
                  <a:pt x="11112" y="11857"/>
                </a:cubicBezTo>
                <a:cubicBezTo>
                  <a:pt x="11112" y="11832"/>
                  <a:pt x="11112" y="11824"/>
                  <a:pt x="11112" y="11807"/>
                </a:cubicBezTo>
                <a:cubicBezTo>
                  <a:pt x="11221" y="11812"/>
                  <a:pt x="11329" y="11814"/>
                  <a:pt x="11435" y="11832"/>
                </a:cubicBezTo>
                <a:cubicBezTo>
                  <a:pt x="11617" y="11863"/>
                  <a:pt x="11795" y="11857"/>
                  <a:pt x="11981" y="11857"/>
                </a:cubicBezTo>
                <a:cubicBezTo>
                  <a:pt x="12282" y="11857"/>
                  <a:pt x="12598" y="11855"/>
                  <a:pt x="12898" y="11832"/>
                </a:cubicBezTo>
                <a:cubicBezTo>
                  <a:pt x="13114" y="11815"/>
                  <a:pt x="13324" y="11807"/>
                  <a:pt x="13543" y="11807"/>
                </a:cubicBezTo>
                <a:cubicBezTo>
                  <a:pt x="13911" y="11807"/>
                  <a:pt x="14300" y="11774"/>
                  <a:pt x="14660" y="11832"/>
                </a:cubicBezTo>
                <a:cubicBezTo>
                  <a:pt x="14668" y="11832"/>
                  <a:pt x="14676" y="11832"/>
                  <a:pt x="14684" y="11832"/>
                </a:cubicBezTo>
              </a:path>
              <a:path w="5954" h="1365">
                <a:moveTo>
                  <a:pt x="11609" y="12154"/>
                </a:moveTo>
                <a:cubicBezTo>
                  <a:pt x="11585" y="12275"/>
                  <a:pt x="11474" y="12361"/>
                  <a:pt x="11435" y="12477"/>
                </a:cubicBezTo>
                <a:cubicBezTo>
                  <a:pt x="11413" y="12610"/>
                  <a:pt x="11400" y="12644"/>
                  <a:pt x="11435" y="12725"/>
                </a:cubicBezTo>
                <a:cubicBezTo>
                  <a:pt x="11579" y="12704"/>
                  <a:pt x="11755" y="12641"/>
                  <a:pt x="11807" y="12477"/>
                </a:cubicBezTo>
                <a:cubicBezTo>
                  <a:pt x="11853" y="12331"/>
                  <a:pt x="11752" y="12252"/>
                  <a:pt x="11658" y="12179"/>
                </a:cubicBezTo>
                <a:cubicBezTo>
                  <a:pt x="11622" y="12151"/>
                  <a:pt x="11622" y="12138"/>
                  <a:pt x="11609" y="12179"/>
                </a:cubicBezTo>
              </a:path>
              <a:path w="5954" h="1365">
                <a:moveTo>
                  <a:pt x="12626" y="12204"/>
                </a:moveTo>
                <a:cubicBezTo>
                  <a:pt x="12592" y="12306"/>
                  <a:pt x="12541" y="12420"/>
                  <a:pt x="12526" y="12526"/>
                </a:cubicBezTo>
                <a:cubicBezTo>
                  <a:pt x="12508" y="12651"/>
                  <a:pt x="12601" y="12647"/>
                  <a:pt x="12700" y="12650"/>
                </a:cubicBezTo>
                <a:cubicBezTo>
                  <a:pt x="12796" y="12653"/>
                  <a:pt x="12894" y="12644"/>
                  <a:pt x="12948" y="12551"/>
                </a:cubicBezTo>
                <a:cubicBezTo>
                  <a:pt x="12948" y="12543"/>
                  <a:pt x="12948" y="12534"/>
                  <a:pt x="12948" y="12526"/>
                </a:cubicBezTo>
                <a:cubicBezTo>
                  <a:pt x="12862" y="12441"/>
                  <a:pt x="12787" y="12486"/>
                  <a:pt x="12725" y="12601"/>
                </a:cubicBezTo>
                <a:cubicBezTo>
                  <a:pt x="12665" y="12713"/>
                  <a:pt x="12686" y="12724"/>
                  <a:pt x="12774" y="12675"/>
                </a:cubicBezTo>
              </a:path>
              <a:path w="5954" h="1365">
                <a:moveTo>
                  <a:pt x="13122" y="12254"/>
                </a:moveTo>
                <a:cubicBezTo>
                  <a:pt x="13189" y="12226"/>
                  <a:pt x="13221" y="12173"/>
                  <a:pt x="13295" y="12154"/>
                </a:cubicBezTo>
                <a:cubicBezTo>
                  <a:pt x="13370" y="12244"/>
                  <a:pt x="13380" y="12274"/>
                  <a:pt x="13320" y="12378"/>
                </a:cubicBezTo>
                <a:cubicBezTo>
                  <a:pt x="13266" y="12470"/>
                  <a:pt x="13254" y="12428"/>
                  <a:pt x="13221" y="12477"/>
                </a:cubicBezTo>
                <a:cubicBezTo>
                  <a:pt x="13304" y="12464"/>
                  <a:pt x="13469" y="12435"/>
                  <a:pt x="13469" y="12576"/>
                </a:cubicBezTo>
                <a:cubicBezTo>
                  <a:pt x="13469" y="12695"/>
                  <a:pt x="13329" y="12695"/>
                  <a:pt x="13246" y="12700"/>
                </a:cubicBezTo>
                <a:cubicBezTo>
                  <a:pt x="13206" y="12700"/>
                  <a:pt x="13208" y="12689"/>
                  <a:pt x="13271" y="12650"/>
                </a:cubicBezTo>
              </a:path>
              <a:path w="5954" h="1365">
                <a:moveTo>
                  <a:pt x="13717" y="12204"/>
                </a:moveTo>
                <a:cubicBezTo>
                  <a:pt x="13709" y="12212"/>
                  <a:pt x="13700" y="12221"/>
                  <a:pt x="13692" y="12229"/>
                </a:cubicBezTo>
                <a:cubicBezTo>
                  <a:pt x="13702" y="12200"/>
                  <a:pt x="13745" y="12160"/>
                  <a:pt x="13791" y="12154"/>
                </a:cubicBezTo>
                <a:cubicBezTo>
                  <a:pt x="13850" y="12146"/>
                  <a:pt x="13963" y="12134"/>
                  <a:pt x="13990" y="12204"/>
                </a:cubicBezTo>
                <a:cubicBezTo>
                  <a:pt x="14026" y="12299"/>
                  <a:pt x="13958" y="12316"/>
                  <a:pt x="13915" y="12378"/>
                </a:cubicBezTo>
                <a:cubicBezTo>
                  <a:pt x="13874" y="12436"/>
                  <a:pt x="13816" y="12502"/>
                  <a:pt x="13742" y="12526"/>
                </a:cubicBezTo>
                <a:cubicBezTo>
                  <a:pt x="13708" y="12537"/>
                  <a:pt x="13665" y="12610"/>
                  <a:pt x="13643" y="12650"/>
                </a:cubicBezTo>
                <a:cubicBezTo>
                  <a:pt x="13618" y="12695"/>
                  <a:pt x="13618" y="12704"/>
                  <a:pt x="13618" y="12750"/>
                </a:cubicBezTo>
                <a:cubicBezTo>
                  <a:pt x="13618" y="12665"/>
                  <a:pt x="13644" y="12693"/>
                  <a:pt x="13717" y="12650"/>
                </a:cubicBezTo>
                <a:cubicBezTo>
                  <a:pt x="13789" y="12608"/>
                  <a:pt x="13789" y="12589"/>
                  <a:pt x="13841" y="12650"/>
                </a:cubicBezTo>
                <a:cubicBezTo>
                  <a:pt x="13870" y="12683"/>
                  <a:pt x="13919" y="12748"/>
                  <a:pt x="13965" y="12750"/>
                </a:cubicBezTo>
                <a:cubicBezTo>
                  <a:pt x="14055" y="12755"/>
                  <a:pt x="14120" y="12730"/>
                  <a:pt x="14188" y="12675"/>
                </a:cubicBezTo>
              </a:path>
              <a:path w="5954" h="1365">
                <a:moveTo>
                  <a:pt x="9525" y="12898"/>
                </a:moveTo>
                <a:cubicBezTo>
                  <a:pt x="9563" y="12936"/>
                  <a:pt x="9549" y="12951"/>
                  <a:pt x="9575" y="12998"/>
                </a:cubicBezTo>
                <a:cubicBezTo>
                  <a:pt x="9654" y="13140"/>
                  <a:pt x="9721" y="13176"/>
                  <a:pt x="9872" y="13146"/>
                </a:cubicBezTo>
                <a:cubicBezTo>
                  <a:pt x="9948" y="13131"/>
                  <a:pt x="10136" y="13083"/>
                  <a:pt x="10170" y="12998"/>
                </a:cubicBezTo>
                <a:cubicBezTo>
                  <a:pt x="10189" y="12951"/>
                  <a:pt x="10190" y="12902"/>
                  <a:pt x="10195" y="12849"/>
                </a:cubicBezTo>
                <a:cubicBezTo>
                  <a:pt x="10195" y="12939"/>
                  <a:pt x="10185" y="12977"/>
                  <a:pt x="10244" y="13047"/>
                </a:cubicBezTo>
                <a:cubicBezTo>
                  <a:pt x="10333" y="13153"/>
                  <a:pt x="10440" y="13133"/>
                  <a:pt x="10542" y="13072"/>
                </a:cubicBezTo>
                <a:cubicBezTo>
                  <a:pt x="10629" y="13020"/>
                  <a:pt x="10704" y="12970"/>
                  <a:pt x="10765" y="12898"/>
                </a:cubicBezTo>
                <a:cubicBezTo>
                  <a:pt x="10788" y="12871"/>
                  <a:pt x="10802" y="12839"/>
                  <a:pt x="10790" y="12799"/>
                </a:cubicBezTo>
                <a:cubicBezTo>
                  <a:pt x="10771" y="12737"/>
                  <a:pt x="10791" y="12770"/>
                  <a:pt x="10840" y="12725"/>
                </a:cubicBezTo>
                <a:cubicBezTo>
                  <a:pt x="10848" y="12717"/>
                  <a:pt x="10856" y="12708"/>
                  <a:pt x="10864" y="12700"/>
                </a:cubicBezTo>
                <a:cubicBezTo>
                  <a:pt x="10851" y="12707"/>
                  <a:pt x="10765" y="12725"/>
                  <a:pt x="10765" y="12750"/>
                </a:cubicBezTo>
                <a:cubicBezTo>
                  <a:pt x="10765" y="12836"/>
                  <a:pt x="10883" y="12675"/>
                  <a:pt x="10889" y="12650"/>
                </a:cubicBezTo>
                <a:cubicBezTo>
                  <a:pt x="10828" y="12702"/>
                  <a:pt x="10812" y="12699"/>
                  <a:pt x="10889" y="12725"/>
                </a:cubicBezTo>
              </a:path>
              <a:path w="5954" h="1365">
                <a:moveTo>
                  <a:pt x="12030" y="12700"/>
                </a:moveTo>
                <a:cubicBezTo>
                  <a:pt x="12079" y="12676"/>
                  <a:pt x="12049" y="12681"/>
                  <a:pt x="12080" y="12725"/>
                </a:cubicBezTo>
                <a:cubicBezTo>
                  <a:pt x="12133" y="12801"/>
                  <a:pt x="12187" y="12913"/>
                  <a:pt x="12254" y="12973"/>
                </a:cubicBezTo>
                <a:cubicBezTo>
                  <a:pt x="12344" y="13054"/>
                  <a:pt x="12469" y="13026"/>
                  <a:pt x="12576" y="12998"/>
                </a:cubicBezTo>
                <a:cubicBezTo>
                  <a:pt x="12672" y="12973"/>
                  <a:pt x="12721" y="12926"/>
                  <a:pt x="12799" y="12874"/>
                </a:cubicBezTo>
                <a:cubicBezTo>
                  <a:pt x="12857" y="12836"/>
                  <a:pt x="12898" y="12786"/>
                  <a:pt x="12923" y="12725"/>
                </a:cubicBezTo>
                <a:cubicBezTo>
                  <a:pt x="12923" y="12717"/>
                  <a:pt x="12923" y="12708"/>
                  <a:pt x="12923" y="12700"/>
                </a:cubicBezTo>
                <a:cubicBezTo>
                  <a:pt x="12942" y="12756"/>
                  <a:pt x="12953" y="12853"/>
                  <a:pt x="12998" y="12898"/>
                </a:cubicBezTo>
                <a:cubicBezTo>
                  <a:pt x="13087" y="12987"/>
                  <a:pt x="13131" y="13009"/>
                  <a:pt x="13246" y="12973"/>
                </a:cubicBezTo>
                <a:cubicBezTo>
                  <a:pt x="13312" y="12953"/>
                  <a:pt x="13425" y="12935"/>
                  <a:pt x="13469" y="12874"/>
                </a:cubicBezTo>
                <a:cubicBezTo>
                  <a:pt x="13494" y="12839"/>
                  <a:pt x="13557" y="12793"/>
                  <a:pt x="13568" y="12750"/>
                </a:cubicBezTo>
                <a:cubicBezTo>
                  <a:pt x="13579" y="12707"/>
                  <a:pt x="13562" y="12688"/>
                  <a:pt x="13519" y="12700"/>
                </a:cubicBezTo>
                <a:cubicBezTo>
                  <a:pt x="13511" y="12708"/>
                  <a:pt x="13502" y="12717"/>
                  <a:pt x="13494" y="12725"/>
                </a:cubicBezTo>
                <a:cubicBezTo>
                  <a:pt x="13511" y="12728"/>
                  <a:pt x="13637" y="12714"/>
                  <a:pt x="13593" y="12601"/>
                </a:cubicBezTo>
                <a:cubicBezTo>
                  <a:pt x="13579" y="12565"/>
                  <a:pt x="13529" y="12622"/>
                  <a:pt x="13543" y="126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2040" y="4197240"/>
            <a:ext cx="1500120" cy="446040"/>
          </a:xfrm>
          <a:custGeom>
            <a:avLst/>
            <a:gdLst/>
            <a:ahLst/>
            <a:rect l="l" t="t" r="r" b="b"/>
            <a:pathLst>
              <a:path w="4169" h="1241">
                <a:moveTo>
                  <a:pt x="17338" y="12229"/>
                </a:moveTo>
                <a:cubicBezTo>
                  <a:pt x="17350" y="12068"/>
                  <a:pt x="17382" y="12082"/>
                  <a:pt x="17537" y="12055"/>
                </a:cubicBezTo>
                <a:cubicBezTo>
                  <a:pt x="17641" y="12037"/>
                  <a:pt x="17729" y="12030"/>
                  <a:pt x="17835" y="12030"/>
                </a:cubicBezTo>
                <a:cubicBezTo>
                  <a:pt x="17835" y="12230"/>
                  <a:pt x="17820" y="12428"/>
                  <a:pt x="17785" y="12626"/>
                </a:cubicBezTo>
                <a:cubicBezTo>
                  <a:pt x="17777" y="12659"/>
                  <a:pt x="17768" y="12692"/>
                  <a:pt x="17760" y="12725"/>
                </a:cubicBezTo>
              </a:path>
              <a:path w="4169" h="1241">
                <a:moveTo>
                  <a:pt x="18405" y="12229"/>
                </a:moveTo>
                <a:cubicBezTo>
                  <a:pt x="18389" y="12156"/>
                  <a:pt x="18326" y="11974"/>
                  <a:pt x="18207" y="12080"/>
                </a:cubicBezTo>
                <a:cubicBezTo>
                  <a:pt x="18091" y="12183"/>
                  <a:pt x="18099" y="12268"/>
                  <a:pt x="18132" y="12378"/>
                </a:cubicBezTo>
                <a:cubicBezTo>
                  <a:pt x="18236" y="12311"/>
                  <a:pt x="18316" y="12243"/>
                  <a:pt x="18405" y="12154"/>
                </a:cubicBezTo>
                <a:cubicBezTo>
                  <a:pt x="18418" y="12313"/>
                  <a:pt x="18430" y="12465"/>
                  <a:pt x="18430" y="12626"/>
                </a:cubicBezTo>
                <a:cubicBezTo>
                  <a:pt x="18430" y="12651"/>
                  <a:pt x="18430" y="12675"/>
                  <a:pt x="18430" y="12700"/>
                </a:cubicBezTo>
              </a:path>
              <a:path w="4169" h="1241">
                <a:moveTo>
                  <a:pt x="18728" y="12898"/>
                </a:moveTo>
                <a:cubicBezTo>
                  <a:pt x="18852" y="12650"/>
                  <a:pt x="18876" y="12459"/>
                  <a:pt x="18827" y="12179"/>
                </a:cubicBezTo>
                <a:cubicBezTo>
                  <a:pt x="18820" y="12140"/>
                  <a:pt x="18780" y="12065"/>
                  <a:pt x="18777" y="12055"/>
                </a:cubicBezTo>
                <a:cubicBezTo>
                  <a:pt x="18777" y="12047"/>
                  <a:pt x="18777" y="12038"/>
                  <a:pt x="18777" y="12030"/>
                </a:cubicBezTo>
                <a:cubicBezTo>
                  <a:pt x="18962" y="12000"/>
                  <a:pt x="19135" y="11992"/>
                  <a:pt x="19323" y="11981"/>
                </a:cubicBezTo>
                <a:cubicBezTo>
                  <a:pt x="19843" y="11949"/>
                  <a:pt x="20366" y="11928"/>
                  <a:pt x="20886" y="11906"/>
                </a:cubicBezTo>
                <a:cubicBezTo>
                  <a:pt x="21087" y="11897"/>
                  <a:pt x="21290" y="11895"/>
                  <a:pt x="21481" y="11906"/>
                </a:cubicBezTo>
                <a:cubicBezTo>
                  <a:pt x="21489" y="11906"/>
                  <a:pt x="21498" y="11906"/>
                  <a:pt x="21506" y="11906"/>
                </a:cubicBezTo>
              </a:path>
              <a:path w="4169" h="1241">
                <a:moveTo>
                  <a:pt x="19273" y="12229"/>
                </a:moveTo>
                <a:cubicBezTo>
                  <a:pt x="19118" y="12260"/>
                  <a:pt x="19080" y="12437"/>
                  <a:pt x="19075" y="12576"/>
                </a:cubicBezTo>
                <a:cubicBezTo>
                  <a:pt x="19083" y="12617"/>
                  <a:pt x="19092" y="12659"/>
                  <a:pt x="19100" y="12700"/>
                </a:cubicBezTo>
                <a:cubicBezTo>
                  <a:pt x="19252" y="12700"/>
                  <a:pt x="19615" y="12640"/>
                  <a:pt x="19472" y="12378"/>
                </a:cubicBezTo>
                <a:cubicBezTo>
                  <a:pt x="19375" y="12329"/>
                  <a:pt x="19345" y="12314"/>
                  <a:pt x="19273" y="12303"/>
                </a:cubicBezTo>
              </a:path>
              <a:path w="4169" h="1241">
                <a:moveTo>
                  <a:pt x="19769" y="12179"/>
                </a:moveTo>
                <a:cubicBezTo>
                  <a:pt x="19769" y="12279"/>
                  <a:pt x="19747" y="12375"/>
                  <a:pt x="19745" y="12477"/>
                </a:cubicBezTo>
                <a:cubicBezTo>
                  <a:pt x="19745" y="12589"/>
                  <a:pt x="19739" y="12621"/>
                  <a:pt x="19794" y="12675"/>
                </a:cubicBezTo>
                <a:cubicBezTo>
                  <a:pt x="19992" y="12663"/>
                  <a:pt x="20037" y="12633"/>
                  <a:pt x="20117" y="12452"/>
                </a:cubicBezTo>
                <a:cubicBezTo>
                  <a:pt x="20000" y="12426"/>
                  <a:pt x="19898" y="12480"/>
                  <a:pt x="19893" y="12626"/>
                </a:cubicBezTo>
                <a:cubicBezTo>
                  <a:pt x="19918" y="12700"/>
                  <a:pt x="19927" y="12725"/>
                  <a:pt x="19993" y="12675"/>
                </a:cubicBezTo>
              </a:path>
              <a:path w="4169" h="1241">
                <a:moveTo>
                  <a:pt x="20265" y="12229"/>
                </a:moveTo>
                <a:cubicBezTo>
                  <a:pt x="20293" y="12221"/>
                  <a:pt x="20494" y="12113"/>
                  <a:pt x="20489" y="12204"/>
                </a:cubicBezTo>
                <a:cubicBezTo>
                  <a:pt x="20463" y="12282"/>
                  <a:pt x="20451" y="12309"/>
                  <a:pt x="20389" y="12328"/>
                </a:cubicBezTo>
                <a:cubicBezTo>
                  <a:pt x="20389" y="12336"/>
                  <a:pt x="20389" y="12345"/>
                  <a:pt x="20389" y="12353"/>
                </a:cubicBezTo>
                <a:cubicBezTo>
                  <a:pt x="20460" y="12353"/>
                  <a:pt x="20582" y="12361"/>
                  <a:pt x="20563" y="12477"/>
                </a:cubicBezTo>
                <a:cubicBezTo>
                  <a:pt x="20551" y="12551"/>
                  <a:pt x="20321" y="12679"/>
                  <a:pt x="20290" y="12601"/>
                </a:cubicBezTo>
                <a:cubicBezTo>
                  <a:pt x="20298" y="12584"/>
                  <a:pt x="20307" y="12568"/>
                  <a:pt x="20315" y="12551"/>
                </a:cubicBezTo>
              </a:path>
              <a:path w="4169" h="1241">
                <a:moveTo>
                  <a:pt x="20786" y="12154"/>
                </a:moveTo>
                <a:cubicBezTo>
                  <a:pt x="20881" y="12163"/>
                  <a:pt x="21099" y="12177"/>
                  <a:pt x="21084" y="12328"/>
                </a:cubicBezTo>
                <a:cubicBezTo>
                  <a:pt x="21070" y="12471"/>
                  <a:pt x="20883" y="12548"/>
                  <a:pt x="20836" y="12502"/>
                </a:cubicBezTo>
                <a:cubicBezTo>
                  <a:pt x="20937" y="12468"/>
                  <a:pt x="21029" y="12466"/>
                  <a:pt x="21134" y="12502"/>
                </a:cubicBezTo>
                <a:cubicBezTo>
                  <a:pt x="21150" y="12510"/>
                  <a:pt x="21167" y="12518"/>
                  <a:pt x="21183" y="12526"/>
                </a:cubicBezTo>
              </a:path>
              <a:path w="4169" h="1241">
                <a:moveTo>
                  <a:pt x="20588" y="11857"/>
                </a:moveTo>
                <a:cubicBezTo>
                  <a:pt x="20597" y="11813"/>
                  <a:pt x="20613" y="11780"/>
                  <a:pt x="20613" y="11733"/>
                </a:cubicBezTo>
                <a:cubicBezTo>
                  <a:pt x="20613" y="11677"/>
                  <a:pt x="20628" y="11671"/>
                  <a:pt x="20588" y="11658"/>
                </a:cubicBezTo>
                <a:cubicBezTo>
                  <a:pt x="20571" y="11719"/>
                  <a:pt x="20608" y="11864"/>
                  <a:pt x="20638" y="11757"/>
                </a:cubicBezTo>
                <a:cubicBezTo>
                  <a:pt x="20638" y="11732"/>
                  <a:pt x="20638" y="11708"/>
                  <a:pt x="20638" y="11683"/>
                </a:cubicBezTo>
                <a:cubicBezTo>
                  <a:pt x="20610" y="11600"/>
                  <a:pt x="20593" y="11734"/>
                  <a:pt x="20613" y="11757"/>
                </a:cubicBezTo>
                <a:cubicBezTo>
                  <a:pt x="20654" y="11806"/>
                  <a:pt x="20662" y="11661"/>
                  <a:pt x="20662" y="11658"/>
                </a:cubicBezTo>
              </a:path>
              <a:path w="4169" h="1241">
                <a:moveTo>
                  <a:pt x="20687" y="12526"/>
                </a:moveTo>
                <a:cubicBezTo>
                  <a:pt x="20687" y="12568"/>
                  <a:pt x="20749" y="12595"/>
                  <a:pt x="20712" y="12576"/>
                </a:cubicBezTo>
                <a:cubicBezTo>
                  <a:pt x="20704" y="12576"/>
                  <a:pt x="20695" y="12576"/>
                  <a:pt x="20687" y="125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28920" y="1509840"/>
            <a:ext cx="1849320" cy="1901520"/>
          </a:xfrm>
          <a:custGeom>
            <a:avLst/>
            <a:gdLst/>
            <a:ahLst/>
            <a:rect l="l" t="t" r="r" b="b"/>
            <a:pathLst>
              <a:path w="5135" h="5284">
                <a:moveTo>
                  <a:pt x="8682" y="6846"/>
                </a:moveTo>
                <a:cubicBezTo>
                  <a:pt x="8753" y="6638"/>
                  <a:pt x="8793" y="6479"/>
                  <a:pt x="8781" y="6251"/>
                </a:cubicBezTo>
                <a:cubicBezTo>
                  <a:pt x="8769" y="6022"/>
                  <a:pt x="8718" y="5778"/>
                  <a:pt x="8657" y="5556"/>
                </a:cubicBezTo>
                <a:cubicBezTo>
                  <a:pt x="8640" y="5494"/>
                  <a:pt x="8624" y="5479"/>
                  <a:pt x="8607" y="5432"/>
                </a:cubicBezTo>
                <a:cubicBezTo>
                  <a:pt x="8699" y="5444"/>
                  <a:pt x="8785" y="5455"/>
                  <a:pt x="8880" y="5457"/>
                </a:cubicBezTo>
                <a:cubicBezTo>
                  <a:pt x="9071" y="5461"/>
                  <a:pt x="9285" y="5449"/>
                  <a:pt x="9475" y="5432"/>
                </a:cubicBezTo>
                <a:cubicBezTo>
                  <a:pt x="9666" y="5415"/>
                  <a:pt x="9854" y="5388"/>
                  <a:pt x="10046" y="5383"/>
                </a:cubicBezTo>
                <a:cubicBezTo>
                  <a:pt x="10157" y="5380"/>
                  <a:pt x="10255" y="5358"/>
                  <a:pt x="10368" y="5358"/>
                </a:cubicBezTo>
                <a:cubicBezTo>
                  <a:pt x="10485" y="5358"/>
                  <a:pt x="10595" y="5333"/>
                  <a:pt x="10716" y="5333"/>
                </a:cubicBezTo>
                <a:cubicBezTo>
                  <a:pt x="10808" y="5333"/>
                  <a:pt x="10912" y="5351"/>
                  <a:pt x="10988" y="5358"/>
                </a:cubicBezTo>
                <a:cubicBezTo>
                  <a:pt x="11094" y="5368"/>
                  <a:pt x="11205" y="5358"/>
                  <a:pt x="11311" y="5358"/>
                </a:cubicBezTo>
              </a:path>
              <a:path w="5135" h="5284">
                <a:moveTo>
                  <a:pt x="9351" y="5829"/>
                </a:moveTo>
                <a:cubicBezTo>
                  <a:pt x="9351" y="5703"/>
                  <a:pt x="9318" y="6027"/>
                  <a:pt x="9302" y="6152"/>
                </a:cubicBezTo>
                <a:cubicBezTo>
                  <a:pt x="9283" y="6296"/>
                  <a:pt x="9277" y="6429"/>
                  <a:pt x="9277" y="6573"/>
                </a:cubicBezTo>
              </a:path>
              <a:path w="5135" h="5284">
                <a:moveTo>
                  <a:pt x="9624" y="6350"/>
                </a:moveTo>
                <a:cubicBezTo>
                  <a:pt x="9624" y="6361"/>
                  <a:pt x="9624" y="6464"/>
                  <a:pt x="9624" y="6400"/>
                </a:cubicBezTo>
              </a:path>
              <a:path w="5135" h="5284">
                <a:moveTo>
                  <a:pt x="10071" y="5804"/>
                </a:moveTo>
                <a:cubicBezTo>
                  <a:pt x="10099" y="5874"/>
                  <a:pt x="10063" y="6011"/>
                  <a:pt x="10046" y="6102"/>
                </a:cubicBezTo>
                <a:cubicBezTo>
                  <a:pt x="10019" y="6247"/>
                  <a:pt x="10013" y="6333"/>
                  <a:pt x="10021" y="6474"/>
                </a:cubicBezTo>
                <a:cubicBezTo>
                  <a:pt x="10026" y="6565"/>
                  <a:pt x="10217" y="6536"/>
                  <a:pt x="10269" y="6524"/>
                </a:cubicBezTo>
                <a:cubicBezTo>
                  <a:pt x="10381" y="6498"/>
                  <a:pt x="10432" y="6467"/>
                  <a:pt x="10492" y="6375"/>
                </a:cubicBezTo>
                <a:cubicBezTo>
                  <a:pt x="10561" y="6270"/>
                  <a:pt x="10536" y="6327"/>
                  <a:pt x="10517" y="6251"/>
                </a:cubicBezTo>
                <a:cubicBezTo>
                  <a:pt x="10420" y="6226"/>
                  <a:pt x="10400" y="6257"/>
                  <a:pt x="10344" y="6350"/>
                </a:cubicBezTo>
                <a:cubicBezTo>
                  <a:pt x="10310" y="6407"/>
                  <a:pt x="10319" y="6461"/>
                  <a:pt x="10319" y="6524"/>
                </a:cubicBezTo>
              </a:path>
              <a:path w="5135" h="5284">
                <a:moveTo>
                  <a:pt x="7020" y="5953"/>
                </a:moveTo>
                <a:cubicBezTo>
                  <a:pt x="6907" y="5930"/>
                  <a:pt x="6859" y="6184"/>
                  <a:pt x="6821" y="6276"/>
                </a:cubicBezTo>
                <a:cubicBezTo>
                  <a:pt x="6771" y="6398"/>
                  <a:pt x="6700" y="6528"/>
                  <a:pt x="6772" y="6648"/>
                </a:cubicBezTo>
                <a:cubicBezTo>
                  <a:pt x="6917" y="6587"/>
                  <a:pt x="6973" y="6542"/>
                  <a:pt x="6995" y="6375"/>
                </a:cubicBezTo>
                <a:cubicBezTo>
                  <a:pt x="7014" y="6232"/>
                  <a:pt x="6969" y="6152"/>
                  <a:pt x="6921" y="6028"/>
                </a:cubicBezTo>
                <a:cubicBezTo>
                  <a:pt x="6921" y="6003"/>
                  <a:pt x="6921" y="5995"/>
                  <a:pt x="6921" y="5978"/>
                </a:cubicBezTo>
              </a:path>
              <a:path w="5135" h="5284">
                <a:moveTo>
                  <a:pt x="7491" y="6102"/>
                </a:moveTo>
                <a:cubicBezTo>
                  <a:pt x="7426" y="6246"/>
                  <a:pt x="7374" y="6386"/>
                  <a:pt x="7392" y="6548"/>
                </a:cubicBezTo>
                <a:cubicBezTo>
                  <a:pt x="7400" y="6573"/>
                  <a:pt x="7409" y="6598"/>
                  <a:pt x="7417" y="6623"/>
                </a:cubicBezTo>
                <a:cubicBezTo>
                  <a:pt x="7510" y="6623"/>
                  <a:pt x="7562" y="6576"/>
                  <a:pt x="7565" y="6474"/>
                </a:cubicBezTo>
                <a:cubicBezTo>
                  <a:pt x="7569" y="6358"/>
                  <a:pt x="7487" y="6294"/>
                  <a:pt x="7441" y="6226"/>
                </a:cubicBezTo>
                <a:cubicBezTo>
                  <a:pt x="7441" y="6218"/>
                  <a:pt x="7441" y="6209"/>
                  <a:pt x="7441" y="6201"/>
                </a:cubicBezTo>
              </a:path>
              <a:path w="5135" h="5284">
                <a:moveTo>
                  <a:pt x="7789" y="6127"/>
                </a:moveTo>
                <a:cubicBezTo>
                  <a:pt x="7789" y="6205"/>
                  <a:pt x="7769" y="6272"/>
                  <a:pt x="7764" y="6350"/>
                </a:cubicBezTo>
                <a:cubicBezTo>
                  <a:pt x="7764" y="6375"/>
                  <a:pt x="7764" y="6383"/>
                  <a:pt x="7764" y="6400"/>
                </a:cubicBezTo>
                <a:cubicBezTo>
                  <a:pt x="7828" y="6392"/>
                  <a:pt x="7932" y="6378"/>
                  <a:pt x="7987" y="6350"/>
                </a:cubicBezTo>
                <a:cubicBezTo>
                  <a:pt x="7995" y="6342"/>
                  <a:pt x="8004" y="6333"/>
                  <a:pt x="8012" y="6325"/>
                </a:cubicBezTo>
              </a:path>
              <a:path w="5135" h="5284">
                <a:moveTo>
                  <a:pt x="7938" y="5879"/>
                </a:moveTo>
                <a:cubicBezTo>
                  <a:pt x="7938" y="6020"/>
                  <a:pt x="7960" y="6158"/>
                  <a:pt x="7962" y="6300"/>
                </a:cubicBezTo>
                <a:cubicBezTo>
                  <a:pt x="7964" y="6408"/>
                  <a:pt x="7962" y="6515"/>
                  <a:pt x="7962" y="6623"/>
                </a:cubicBezTo>
              </a:path>
              <a:path w="5135" h="5284">
                <a:moveTo>
                  <a:pt x="7342" y="6648"/>
                </a:moveTo>
                <a:cubicBezTo>
                  <a:pt x="7317" y="6640"/>
                  <a:pt x="7289" y="6600"/>
                  <a:pt x="7243" y="6623"/>
                </a:cubicBezTo>
                <a:cubicBezTo>
                  <a:pt x="7221" y="6645"/>
                  <a:pt x="7212" y="6650"/>
                  <a:pt x="7218" y="6672"/>
                </a:cubicBezTo>
                <a:cubicBezTo>
                  <a:pt x="7270" y="6621"/>
                  <a:pt x="7211" y="6552"/>
                  <a:pt x="7193" y="6623"/>
                </a:cubicBezTo>
                <a:cubicBezTo>
                  <a:pt x="7193" y="6631"/>
                  <a:pt x="7193" y="6640"/>
                  <a:pt x="7193" y="6648"/>
                </a:cubicBezTo>
              </a:path>
              <a:path w="5135" h="5284">
                <a:moveTo>
                  <a:pt x="7268" y="6772"/>
                </a:moveTo>
                <a:cubicBezTo>
                  <a:pt x="7243" y="6772"/>
                  <a:pt x="7235" y="6772"/>
                  <a:pt x="7243" y="6747"/>
                </a:cubicBezTo>
                <a:cubicBezTo>
                  <a:pt x="7243" y="6814"/>
                  <a:pt x="7240" y="6865"/>
                  <a:pt x="7268" y="6921"/>
                </a:cubicBezTo>
                <a:cubicBezTo>
                  <a:pt x="7298" y="6981"/>
                  <a:pt x="7348" y="7012"/>
                  <a:pt x="7417" y="7020"/>
                </a:cubicBezTo>
                <a:cubicBezTo>
                  <a:pt x="7477" y="7027"/>
                  <a:pt x="7576" y="6962"/>
                  <a:pt x="7590" y="6921"/>
                </a:cubicBezTo>
                <a:cubicBezTo>
                  <a:pt x="7600" y="6891"/>
                  <a:pt x="7590" y="6830"/>
                  <a:pt x="7590" y="6796"/>
                </a:cubicBezTo>
                <a:cubicBezTo>
                  <a:pt x="7620" y="6836"/>
                  <a:pt x="7625" y="6910"/>
                  <a:pt x="7665" y="6945"/>
                </a:cubicBezTo>
                <a:cubicBezTo>
                  <a:pt x="7710" y="6986"/>
                  <a:pt x="7778" y="7052"/>
                  <a:pt x="7863" y="7045"/>
                </a:cubicBezTo>
                <a:cubicBezTo>
                  <a:pt x="7940" y="7039"/>
                  <a:pt x="8070" y="6986"/>
                  <a:pt x="8136" y="6945"/>
                </a:cubicBezTo>
                <a:cubicBezTo>
                  <a:pt x="8176" y="6920"/>
                  <a:pt x="8221" y="6864"/>
                  <a:pt x="8235" y="6821"/>
                </a:cubicBezTo>
                <a:cubicBezTo>
                  <a:pt x="8248" y="6781"/>
                  <a:pt x="8235" y="6714"/>
                  <a:pt x="8235" y="6672"/>
                </a:cubicBezTo>
                <a:cubicBezTo>
                  <a:pt x="8235" y="6699"/>
                  <a:pt x="8215" y="6769"/>
                  <a:pt x="8235" y="6722"/>
                </a:cubicBezTo>
                <a:cubicBezTo>
                  <a:pt x="8281" y="6613"/>
                  <a:pt x="8200" y="6698"/>
                  <a:pt x="8186" y="6747"/>
                </a:cubicBezTo>
                <a:cubicBezTo>
                  <a:pt x="8221" y="6747"/>
                  <a:pt x="8233" y="6737"/>
                  <a:pt x="8235" y="6697"/>
                </a:cubicBezTo>
              </a:path>
              <a:path w="5135" h="5284">
                <a:moveTo>
                  <a:pt x="8235" y="6772"/>
                </a:moveTo>
                <a:cubicBezTo>
                  <a:pt x="8235" y="6710"/>
                  <a:pt x="8225" y="6670"/>
                  <a:pt x="8260" y="6623"/>
                </a:cubicBezTo>
              </a:path>
              <a:path w="5135" h="5284">
                <a:moveTo>
                  <a:pt x="9649" y="6474"/>
                </a:moveTo>
                <a:cubicBezTo>
                  <a:pt x="9656" y="6526"/>
                  <a:pt x="9674" y="6546"/>
                  <a:pt x="9674" y="6598"/>
                </a:cubicBezTo>
                <a:cubicBezTo>
                  <a:pt x="9674" y="6651"/>
                  <a:pt x="9699" y="6716"/>
                  <a:pt x="9748" y="6747"/>
                </a:cubicBezTo>
                <a:cubicBezTo>
                  <a:pt x="9775" y="6765"/>
                  <a:pt x="9868" y="6790"/>
                  <a:pt x="9897" y="6796"/>
                </a:cubicBezTo>
                <a:cubicBezTo>
                  <a:pt x="9983" y="6813"/>
                  <a:pt x="10066" y="6785"/>
                  <a:pt x="10145" y="6772"/>
                </a:cubicBezTo>
                <a:cubicBezTo>
                  <a:pt x="10199" y="6763"/>
                  <a:pt x="10249" y="6757"/>
                  <a:pt x="10294" y="6747"/>
                </a:cubicBezTo>
                <a:cubicBezTo>
                  <a:pt x="10355" y="6734"/>
                  <a:pt x="10388" y="6712"/>
                  <a:pt x="10443" y="6672"/>
                </a:cubicBezTo>
                <a:cubicBezTo>
                  <a:pt x="10505" y="6627"/>
                  <a:pt x="10556" y="6555"/>
                  <a:pt x="10592" y="6499"/>
                </a:cubicBezTo>
                <a:cubicBezTo>
                  <a:pt x="10612" y="6468"/>
                  <a:pt x="10660" y="6412"/>
                  <a:pt x="10666" y="6400"/>
                </a:cubicBezTo>
                <a:cubicBezTo>
                  <a:pt x="10666" y="6375"/>
                  <a:pt x="10666" y="6367"/>
                  <a:pt x="10641" y="6375"/>
                </a:cubicBezTo>
              </a:path>
              <a:path w="5135" h="5284">
                <a:moveTo>
                  <a:pt x="10666" y="6400"/>
                </a:moveTo>
                <a:cubicBezTo>
                  <a:pt x="10666" y="6487"/>
                  <a:pt x="10667" y="6551"/>
                  <a:pt x="10691" y="6623"/>
                </a:cubicBezTo>
                <a:cubicBezTo>
                  <a:pt x="10705" y="6664"/>
                  <a:pt x="10774" y="6689"/>
                  <a:pt x="10815" y="6697"/>
                </a:cubicBezTo>
                <a:cubicBezTo>
                  <a:pt x="10915" y="6717"/>
                  <a:pt x="11020" y="6687"/>
                  <a:pt x="11112" y="6672"/>
                </a:cubicBezTo>
                <a:cubicBezTo>
                  <a:pt x="11175" y="6661"/>
                  <a:pt x="11218" y="6656"/>
                  <a:pt x="11261" y="6598"/>
                </a:cubicBezTo>
                <a:cubicBezTo>
                  <a:pt x="11297" y="6550"/>
                  <a:pt x="11309" y="6460"/>
                  <a:pt x="11336" y="6424"/>
                </a:cubicBezTo>
                <a:cubicBezTo>
                  <a:pt x="11361" y="6424"/>
                  <a:pt x="11369" y="6424"/>
                  <a:pt x="11361" y="6400"/>
                </a:cubicBezTo>
              </a:path>
              <a:path w="5135" h="5284">
                <a:moveTo>
                  <a:pt x="11509" y="6375"/>
                </a:moveTo>
                <a:cubicBezTo>
                  <a:pt x="11473" y="6362"/>
                  <a:pt x="11485" y="6344"/>
                  <a:pt x="11485" y="6300"/>
                </a:cubicBezTo>
                <a:cubicBezTo>
                  <a:pt x="11485" y="6167"/>
                  <a:pt x="11418" y="6246"/>
                  <a:pt x="11385" y="6325"/>
                </a:cubicBezTo>
                <a:cubicBezTo>
                  <a:pt x="11368" y="6365"/>
                  <a:pt x="11412" y="6369"/>
                  <a:pt x="11435" y="6375"/>
                </a:cubicBezTo>
                <a:cubicBezTo>
                  <a:pt x="11483" y="6252"/>
                  <a:pt x="11505" y="6296"/>
                  <a:pt x="11435" y="6226"/>
                </a:cubicBezTo>
                <a:cubicBezTo>
                  <a:pt x="11402" y="6248"/>
                  <a:pt x="11396" y="6281"/>
                  <a:pt x="11410" y="6276"/>
                </a:cubicBezTo>
                <a:cubicBezTo>
                  <a:pt x="11421" y="6272"/>
                  <a:pt x="11385" y="6272"/>
                  <a:pt x="11385" y="6350"/>
                </a:cubicBezTo>
              </a:path>
              <a:path w="5135" h="5284">
                <a:moveTo>
                  <a:pt x="11584" y="5085"/>
                </a:moveTo>
                <a:cubicBezTo>
                  <a:pt x="11561" y="5017"/>
                  <a:pt x="11517" y="5089"/>
                  <a:pt x="11509" y="5135"/>
                </a:cubicBezTo>
                <a:cubicBezTo>
                  <a:pt x="11493" y="5229"/>
                  <a:pt x="11584" y="5061"/>
                  <a:pt x="11584" y="5060"/>
                </a:cubicBezTo>
                <a:cubicBezTo>
                  <a:pt x="11506" y="5060"/>
                  <a:pt x="11514" y="5101"/>
                  <a:pt x="11534" y="5159"/>
                </a:cubicBezTo>
                <a:cubicBezTo>
                  <a:pt x="11573" y="5134"/>
                  <a:pt x="11547" y="5068"/>
                  <a:pt x="11534" y="5085"/>
                </a:cubicBezTo>
                <a:cubicBezTo>
                  <a:pt x="11493" y="5139"/>
                  <a:pt x="11568" y="5040"/>
                  <a:pt x="11534" y="5085"/>
                </a:cubicBezTo>
                <a:cubicBezTo>
                  <a:pt x="11534" y="5093"/>
                  <a:pt x="11534" y="5102"/>
                  <a:pt x="11534" y="5110"/>
                </a:cubicBezTo>
              </a:path>
              <a:path w="5135" h="5284">
                <a:moveTo>
                  <a:pt x="11063" y="5854"/>
                </a:moveTo>
                <a:cubicBezTo>
                  <a:pt x="10952" y="5854"/>
                  <a:pt x="10991" y="5845"/>
                  <a:pt x="10914" y="5953"/>
                </a:cubicBezTo>
                <a:cubicBezTo>
                  <a:pt x="10817" y="6087"/>
                  <a:pt x="10790" y="6187"/>
                  <a:pt x="10790" y="6350"/>
                </a:cubicBezTo>
                <a:cubicBezTo>
                  <a:pt x="10790" y="6367"/>
                  <a:pt x="10790" y="6383"/>
                  <a:pt x="10790" y="6400"/>
                </a:cubicBezTo>
                <a:cubicBezTo>
                  <a:pt x="10861" y="6400"/>
                  <a:pt x="10924" y="6410"/>
                  <a:pt x="10988" y="6375"/>
                </a:cubicBezTo>
                <a:cubicBezTo>
                  <a:pt x="11071" y="6330"/>
                  <a:pt x="11149" y="6215"/>
                  <a:pt x="11187" y="6127"/>
                </a:cubicBezTo>
                <a:cubicBezTo>
                  <a:pt x="11229" y="6030"/>
                  <a:pt x="11206" y="5991"/>
                  <a:pt x="11162" y="5904"/>
                </a:cubicBezTo>
                <a:cubicBezTo>
                  <a:pt x="11150" y="5880"/>
                  <a:pt x="11101" y="5799"/>
                  <a:pt x="11088" y="5854"/>
                </a:cubicBezTo>
                <a:cubicBezTo>
                  <a:pt x="11088" y="5871"/>
                  <a:pt x="11088" y="5887"/>
                  <a:pt x="11088" y="5904"/>
                </a:cubicBezTo>
              </a:path>
              <a:path w="5135" h="5284">
                <a:moveTo>
                  <a:pt x="9451" y="4762"/>
                </a:moveTo>
                <a:cubicBezTo>
                  <a:pt x="9443" y="4754"/>
                  <a:pt x="9434" y="4746"/>
                  <a:pt x="9426" y="4738"/>
                </a:cubicBezTo>
                <a:cubicBezTo>
                  <a:pt x="9343" y="4787"/>
                  <a:pt x="9291" y="4907"/>
                  <a:pt x="9277" y="5011"/>
                </a:cubicBezTo>
                <a:cubicBezTo>
                  <a:pt x="9273" y="5042"/>
                  <a:pt x="9266" y="5185"/>
                  <a:pt x="9302" y="5209"/>
                </a:cubicBezTo>
                <a:cubicBezTo>
                  <a:pt x="9341" y="5235"/>
                  <a:pt x="9402" y="5180"/>
                  <a:pt x="9426" y="5159"/>
                </a:cubicBezTo>
                <a:cubicBezTo>
                  <a:pt x="9484" y="5108"/>
                  <a:pt x="9473" y="5044"/>
                  <a:pt x="9500" y="4986"/>
                </a:cubicBezTo>
                <a:cubicBezTo>
                  <a:pt x="9522" y="4938"/>
                  <a:pt x="9532" y="4909"/>
                  <a:pt x="9500" y="4862"/>
                </a:cubicBezTo>
                <a:cubicBezTo>
                  <a:pt x="9475" y="4824"/>
                  <a:pt x="9437" y="4802"/>
                  <a:pt x="9401" y="4787"/>
                </a:cubicBezTo>
              </a:path>
              <a:path w="5135" h="5284">
                <a:moveTo>
                  <a:pt x="9922" y="4738"/>
                </a:moveTo>
                <a:cubicBezTo>
                  <a:pt x="9915" y="4830"/>
                  <a:pt x="9904" y="4919"/>
                  <a:pt x="9897" y="5011"/>
                </a:cubicBezTo>
                <a:cubicBezTo>
                  <a:pt x="9971" y="5011"/>
                  <a:pt x="10046" y="5011"/>
                  <a:pt x="10120" y="5011"/>
                </a:cubicBezTo>
              </a:path>
              <a:path w="5135" h="5284">
                <a:moveTo>
                  <a:pt x="10145" y="4688"/>
                </a:moveTo>
                <a:cubicBezTo>
                  <a:pt x="10145" y="4864"/>
                  <a:pt x="10128" y="5034"/>
                  <a:pt x="10120" y="5209"/>
                </a:cubicBezTo>
                <a:cubicBezTo>
                  <a:pt x="10120" y="5217"/>
                  <a:pt x="10120" y="5226"/>
                  <a:pt x="10120" y="5234"/>
                </a:cubicBezTo>
              </a:path>
              <a:path w="5135" h="5284">
                <a:moveTo>
                  <a:pt x="9872" y="6995"/>
                </a:moveTo>
                <a:cubicBezTo>
                  <a:pt x="9872" y="6945"/>
                  <a:pt x="9828" y="7163"/>
                  <a:pt x="9823" y="7193"/>
                </a:cubicBezTo>
                <a:cubicBezTo>
                  <a:pt x="9808" y="7288"/>
                  <a:pt x="9913" y="7336"/>
                  <a:pt x="9996" y="7317"/>
                </a:cubicBezTo>
                <a:cubicBezTo>
                  <a:pt x="10040" y="7307"/>
                  <a:pt x="10227" y="7212"/>
                  <a:pt x="10220" y="7144"/>
                </a:cubicBezTo>
                <a:cubicBezTo>
                  <a:pt x="10212" y="7136"/>
                  <a:pt x="10203" y="7127"/>
                  <a:pt x="10195" y="7119"/>
                </a:cubicBezTo>
                <a:cubicBezTo>
                  <a:pt x="10112" y="7119"/>
                  <a:pt x="10083" y="7166"/>
                  <a:pt x="10071" y="7243"/>
                </a:cubicBezTo>
                <a:cubicBezTo>
                  <a:pt x="10071" y="7285"/>
                  <a:pt x="10079" y="7301"/>
                  <a:pt x="10046" y="7293"/>
                </a:cubicBezTo>
              </a:path>
              <a:path w="5135" h="5284">
                <a:moveTo>
                  <a:pt x="9153" y="7045"/>
                </a:moveTo>
                <a:cubicBezTo>
                  <a:pt x="9250" y="7037"/>
                  <a:pt x="9315" y="7033"/>
                  <a:pt x="9401" y="7045"/>
                </a:cubicBezTo>
              </a:path>
              <a:path w="5135" h="5284">
                <a:moveTo>
                  <a:pt x="8930" y="7541"/>
                </a:moveTo>
                <a:cubicBezTo>
                  <a:pt x="9275" y="7508"/>
                  <a:pt x="9627" y="7510"/>
                  <a:pt x="9971" y="7565"/>
                </a:cubicBezTo>
                <a:cubicBezTo>
                  <a:pt x="10136" y="7606"/>
                  <a:pt x="10167" y="7623"/>
                  <a:pt x="10269" y="7615"/>
                </a:cubicBezTo>
              </a:path>
              <a:path w="5135" h="5284">
                <a:moveTo>
                  <a:pt x="9996" y="7838"/>
                </a:moveTo>
                <a:cubicBezTo>
                  <a:pt x="9987" y="7812"/>
                  <a:pt x="9934" y="7788"/>
                  <a:pt x="9897" y="7813"/>
                </a:cubicBezTo>
                <a:cubicBezTo>
                  <a:pt x="9800" y="7878"/>
                  <a:pt x="9773" y="8049"/>
                  <a:pt x="9798" y="8136"/>
                </a:cubicBezTo>
                <a:cubicBezTo>
                  <a:pt x="9921" y="8178"/>
                  <a:pt x="10010" y="8142"/>
                  <a:pt x="10071" y="8012"/>
                </a:cubicBezTo>
                <a:cubicBezTo>
                  <a:pt x="10109" y="7932"/>
                  <a:pt x="10121" y="7786"/>
                  <a:pt x="10021" y="7739"/>
                </a:cubicBezTo>
                <a:cubicBezTo>
                  <a:pt x="9915" y="7689"/>
                  <a:pt x="9896" y="7767"/>
                  <a:pt x="9872" y="7838"/>
                </a:cubicBezTo>
              </a:path>
              <a:path w="5135" h="5284">
                <a:moveTo>
                  <a:pt x="10988" y="6623"/>
                </a:moveTo>
                <a:cubicBezTo>
                  <a:pt x="10980" y="6615"/>
                  <a:pt x="10972" y="6606"/>
                  <a:pt x="10964" y="6598"/>
                </a:cubicBezTo>
                <a:cubicBezTo>
                  <a:pt x="10964" y="6674"/>
                  <a:pt x="10941" y="6744"/>
                  <a:pt x="10939" y="6821"/>
                </a:cubicBezTo>
                <a:cubicBezTo>
                  <a:pt x="10936" y="6948"/>
                  <a:pt x="10914" y="7065"/>
                  <a:pt x="10914" y="7193"/>
                </a:cubicBezTo>
                <a:cubicBezTo>
                  <a:pt x="10914" y="7249"/>
                  <a:pt x="10939" y="7286"/>
                  <a:pt x="10939" y="7342"/>
                </a:cubicBezTo>
                <a:cubicBezTo>
                  <a:pt x="10939" y="7407"/>
                  <a:pt x="10895" y="7325"/>
                  <a:pt x="10939" y="7392"/>
                </a:cubicBezTo>
              </a:path>
              <a:path w="5135" h="5284">
                <a:moveTo>
                  <a:pt x="10765" y="7293"/>
                </a:moveTo>
                <a:cubicBezTo>
                  <a:pt x="10721" y="7293"/>
                  <a:pt x="10834" y="7350"/>
                  <a:pt x="10864" y="7392"/>
                </a:cubicBezTo>
                <a:cubicBezTo>
                  <a:pt x="10884" y="7432"/>
                  <a:pt x="10883" y="7448"/>
                  <a:pt x="10914" y="7441"/>
                </a:cubicBezTo>
                <a:cubicBezTo>
                  <a:pt x="11020" y="7389"/>
                  <a:pt x="11074" y="7269"/>
                  <a:pt x="11162" y="7193"/>
                </a:cubicBezTo>
                <a:cubicBezTo>
                  <a:pt x="11170" y="7193"/>
                  <a:pt x="11179" y="7193"/>
                  <a:pt x="11187" y="7193"/>
                </a:cubicBezTo>
              </a:path>
              <a:path w="5135" h="5284">
                <a:moveTo>
                  <a:pt x="10864" y="7764"/>
                </a:moveTo>
                <a:cubicBezTo>
                  <a:pt x="10773" y="7764"/>
                  <a:pt x="10745" y="7805"/>
                  <a:pt x="10716" y="7888"/>
                </a:cubicBezTo>
                <a:cubicBezTo>
                  <a:pt x="10687" y="7970"/>
                  <a:pt x="10648" y="8130"/>
                  <a:pt x="10740" y="8186"/>
                </a:cubicBezTo>
                <a:cubicBezTo>
                  <a:pt x="10868" y="8264"/>
                  <a:pt x="10952" y="8168"/>
                  <a:pt x="11038" y="8086"/>
                </a:cubicBezTo>
                <a:cubicBezTo>
                  <a:pt x="11115" y="8013"/>
                  <a:pt x="11112" y="7894"/>
                  <a:pt x="11038" y="7813"/>
                </a:cubicBezTo>
                <a:cubicBezTo>
                  <a:pt x="10999" y="7771"/>
                  <a:pt x="10917" y="7724"/>
                  <a:pt x="10889" y="7813"/>
                </a:cubicBezTo>
                <a:cubicBezTo>
                  <a:pt x="10889" y="7830"/>
                  <a:pt x="10889" y="7846"/>
                  <a:pt x="10889" y="7863"/>
                </a:cubicBezTo>
              </a:path>
              <a:path w="5135" h="5284">
                <a:moveTo>
                  <a:pt x="10964" y="4539"/>
                </a:moveTo>
                <a:cubicBezTo>
                  <a:pt x="10879" y="4590"/>
                  <a:pt x="10778" y="4635"/>
                  <a:pt x="10716" y="4738"/>
                </a:cubicBezTo>
                <a:cubicBezTo>
                  <a:pt x="10654" y="4842"/>
                  <a:pt x="10525" y="5115"/>
                  <a:pt x="10691" y="5184"/>
                </a:cubicBezTo>
                <a:cubicBezTo>
                  <a:pt x="10789" y="5225"/>
                  <a:pt x="10940" y="5108"/>
                  <a:pt x="10988" y="5035"/>
                </a:cubicBezTo>
                <a:cubicBezTo>
                  <a:pt x="11033" y="4966"/>
                  <a:pt x="11024" y="4822"/>
                  <a:pt x="10964" y="4762"/>
                </a:cubicBezTo>
                <a:cubicBezTo>
                  <a:pt x="10934" y="4732"/>
                  <a:pt x="10879" y="4698"/>
                  <a:pt x="10840" y="4688"/>
                </a:cubicBezTo>
              </a:path>
              <a:path w="5135" h="5284">
                <a:moveTo>
                  <a:pt x="10840" y="8434"/>
                </a:moveTo>
                <a:cubicBezTo>
                  <a:pt x="10840" y="8426"/>
                  <a:pt x="10840" y="8417"/>
                  <a:pt x="10840" y="8409"/>
                </a:cubicBezTo>
                <a:cubicBezTo>
                  <a:pt x="10772" y="8409"/>
                  <a:pt x="10801" y="8422"/>
                  <a:pt x="10765" y="8483"/>
                </a:cubicBezTo>
                <a:cubicBezTo>
                  <a:pt x="10746" y="8515"/>
                  <a:pt x="10664" y="8696"/>
                  <a:pt x="10716" y="8731"/>
                </a:cubicBezTo>
                <a:cubicBezTo>
                  <a:pt x="10820" y="8801"/>
                  <a:pt x="10956" y="8753"/>
                  <a:pt x="11013" y="8657"/>
                </a:cubicBezTo>
                <a:cubicBezTo>
                  <a:pt x="11057" y="8584"/>
                  <a:pt x="11064" y="8442"/>
                  <a:pt x="10964" y="8409"/>
                </a:cubicBezTo>
                <a:cubicBezTo>
                  <a:pt x="10893" y="8385"/>
                  <a:pt x="10897" y="8411"/>
                  <a:pt x="10889" y="8458"/>
                </a:cubicBezTo>
              </a:path>
              <a:path w="5135" h="5284">
                <a:moveTo>
                  <a:pt x="9823" y="8483"/>
                </a:moveTo>
                <a:cubicBezTo>
                  <a:pt x="9906" y="8483"/>
                  <a:pt x="9988" y="8483"/>
                  <a:pt x="10071" y="8483"/>
                </a:cubicBezTo>
              </a:path>
              <a:path w="5135" h="5284">
                <a:moveTo>
                  <a:pt x="9624" y="8930"/>
                </a:moveTo>
                <a:cubicBezTo>
                  <a:pt x="9887" y="8910"/>
                  <a:pt x="10153" y="8887"/>
                  <a:pt x="10418" y="8880"/>
                </a:cubicBezTo>
                <a:cubicBezTo>
                  <a:pt x="10682" y="8873"/>
                  <a:pt x="10948" y="8880"/>
                  <a:pt x="11212" y="8880"/>
                </a:cubicBezTo>
              </a:path>
              <a:path w="5135" h="5284">
                <a:moveTo>
                  <a:pt x="10939" y="9054"/>
                </a:moveTo>
                <a:cubicBezTo>
                  <a:pt x="10833" y="9067"/>
                  <a:pt x="10766" y="9139"/>
                  <a:pt x="10740" y="9252"/>
                </a:cubicBezTo>
                <a:cubicBezTo>
                  <a:pt x="10704" y="9409"/>
                  <a:pt x="10796" y="9538"/>
                  <a:pt x="10964" y="9451"/>
                </a:cubicBezTo>
                <a:cubicBezTo>
                  <a:pt x="11059" y="9402"/>
                  <a:pt x="11175" y="9259"/>
                  <a:pt x="11112" y="9153"/>
                </a:cubicBezTo>
                <a:cubicBezTo>
                  <a:pt x="11053" y="9053"/>
                  <a:pt x="10956" y="9045"/>
                  <a:pt x="10864" y="9079"/>
                </a:cubicBezTo>
              </a:path>
              <a:path w="5135" h="5284">
                <a:moveTo>
                  <a:pt x="8830" y="5407"/>
                </a:moveTo>
                <a:cubicBezTo>
                  <a:pt x="9023" y="5417"/>
                  <a:pt x="9209" y="5454"/>
                  <a:pt x="9401" y="5482"/>
                </a:cubicBezTo>
                <a:cubicBezTo>
                  <a:pt x="9650" y="5518"/>
                  <a:pt x="9852" y="5475"/>
                  <a:pt x="10096" y="5457"/>
                </a:cubicBezTo>
                <a:cubicBezTo>
                  <a:pt x="10269" y="5444"/>
                  <a:pt x="10445" y="5419"/>
                  <a:pt x="10616" y="5407"/>
                </a:cubicBezTo>
                <a:cubicBezTo>
                  <a:pt x="10750" y="5397"/>
                  <a:pt x="10881" y="5395"/>
                  <a:pt x="11013" y="5383"/>
                </a:cubicBezTo>
                <a:cubicBezTo>
                  <a:pt x="11129" y="5372"/>
                  <a:pt x="11249" y="5346"/>
                  <a:pt x="11361" y="5308"/>
                </a:cubicBezTo>
                <a:cubicBezTo>
                  <a:pt x="11457" y="5276"/>
                  <a:pt x="11712" y="5227"/>
                  <a:pt x="11782" y="5159"/>
                </a:cubicBezTo>
                <a:cubicBezTo>
                  <a:pt x="11874" y="5070"/>
                  <a:pt x="11878" y="4930"/>
                  <a:pt x="11881" y="4812"/>
                </a:cubicBezTo>
                <a:cubicBezTo>
                  <a:pt x="11885" y="4646"/>
                  <a:pt x="11785" y="4518"/>
                  <a:pt x="11658" y="4415"/>
                </a:cubicBezTo>
                <a:cubicBezTo>
                  <a:pt x="11423" y="4225"/>
                  <a:pt x="11152" y="4199"/>
                  <a:pt x="10864" y="4192"/>
                </a:cubicBezTo>
                <a:cubicBezTo>
                  <a:pt x="10580" y="4185"/>
                  <a:pt x="10297" y="4246"/>
                  <a:pt x="10021" y="4291"/>
                </a:cubicBezTo>
                <a:cubicBezTo>
                  <a:pt x="9614" y="4357"/>
                  <a:pt x="9257" y="4494"/>
                  <a:pt x="8905" y="4713"/>
                </a:cubicBezTo>
                <a:cubicBezTo>
                  <a:pt x="8813" y="4771"/>
                  <a:pt x="8782" y="4840"/>
                  <a:pt x="8731" y="4936"/>
                </a:cubicBezTo>
                <a:cubicBezTo>
                  <a:pt x="8656" y="5077"/>
                  <a:pt x="8651" y="5266"/>
                  <a:pt x="8781" y="5383"/>
                </a:cubicBezTo>
                <a:cubicBezTo>
                  <a:pt x="8837" y="5434"/>
                  <a:pt x="8914" y="5437"/>
                  <a:pt x="8979" y="54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73680" y="3705120"/>
            <a:ext cx="1509480" cy="1474920"/>
          </a:xfrm>
          <a:custGeom>
            <a:avLst/>
            <a:gdLst/>
            <a:ahLst/>
            <a:rect l="l" t="t" r="r" b="b"/>
            <a:pathLst>
              <a:path w="4193" h="4094">
                <a:moveTo>
                  <a:pt x="13543" y="11633"/>
                </a:moveTo>
                <a:cubicBezTo>
                  <a:pt x="13568" y="11584"/>
                  <a:pt x="13577" y="11567"/>
                  <a:pt x="13593" y="11534"/>
                </a:cubicBezTo>
                <a:cubicBezTo>
                  <a:pt x="13634" y="11520"/>
                  <a:pt x="13613" y="11492"/>
                  <a:pt x="13593" y="11534"/>
                </a:cubicBezTo>
                <a:cubicBezTo>
                  <a:pt x="13540" y="11648"/>
                  <a:pt x="13655" y="11606"/>
                  <a:pt x="13643" y="11534"/>
                </a:cubicBezTo>
                <a:cubicBezTo>
                  <a:pt x="13634" y="11481"/>
                  <a:pt x="13597" y="11556"/>
                  <a:pt x="13593" y="11609"/>
                </a:cubicBezTo>
                <a:cubicBezTo>
                  <a:pt x="13636" y="11595"/>
                  <a:pt x="13679" y="11470"/>
                  <a:pt x="13618" y="11460"/>
                </a:cubicBezTo>
                <a:cubicBezTo>
                  <a:pt x="13557" y="11450"/>
                  <a:pt x="13550" y="11577"/>
                  <a:pt x="13593" y="11534"/>
                </a:cubicBezTo>
                <a:cubicBezTo>
                  <a:pt x="13618" y="11534"/>
                  <a:pt x="13626" y="11534"/>
                  <a:pt x="13593" y="11534"/>
                </a:cubicBezTo>
              </a:path>
              <a:path w="4193" h="4094">
                <a:moveTo>
                  <a:pt x="11658" y="11112"/>
                </a:moveTo>
                <a:cubicBezTo>
                  <a:pt x="11572" y="11249"/>
                  <a:pt x="11570" y="11398"/>
                  <a:pt x="11633" y="11559"/>
                </a:cubicBezTo>
                <a:cubicBezTo>
                  <a:pt x="11677" y="11624"/>
                  <a:pt x="11683" y="11643"/>
                  <a:pt x="11733" y="11658"/>
                </a:cubicBezTo>
                <a:cubicBezTo>
                  <a:pt x="11860" y="11563"/>
                  <a:pt x="11951" y="11465"/>
                  <a:pt x="11906" y="11286"/>
                </a:cubicBezTo>
                <a:cubicBezTo>
                  <a:pt x="11875" y="11162"/>
                  <a:pt x="11756" y="11162"/>
                  <a:pt x="11658" y="11162"/>
                </a:cubicBezTo>
              </a:path>
              <a:path w="4193" h="4094">
                <a:moveTo>
                  <a:pt x="12551" y="11261"/>
                </a:moveTo>
                <a:cubicBezTo>
                  <a:pt x="12569" y="11261"/>
                  <a:pt x="12496" y="11361"/>
                  <a:pt x="12477" y="11435"/>
                </a:cubicBezTo>
                <a:cubicBezTo>
                  <a:pt x="12443" y="11572"/>
                  <a:pt x="12433" y="11655"/>
                  <a:pt x="12551" y="11708"/>
                </a:cubicBezTo>
                <a:cubicBezTo>
                  <a:pt x="12661" y="11625"/>
                  <a:pt x="12711" y="11531"/>
                  <a:pt x="12700" y="11385"/>
                </a:cubicBezTo>
                <a:cubicBezTo>
                  <a:pt x="12694" y="11306"/>
                  <a:pt x="12608" y="11178"/>
                  <a:pt x="12551" y="11261"/>
                </a:cubicBezTo>
              </a:path>
              <a:path w="4193" h="4094">
                <a:moveTo>
                  <a:pt x="13196" y="11237"/>
                </a:moveTo>
                <a:cubicBezTo>
                  <a:pt x="13125" y="11260"/>
                  <a:pt x="13106" y="11483"/>
                  <a:pt x="13097" y="11559"/>
                </a:cubicBezTo>
                <a:cubicBezTo>
                  <a:pt x="13097" y="11592"/>
                  <a:pt x="13097" y="11625"/>
                  <a:pt x="13097" y="11658"/>
                </a:cubicBezTo>
                <a:cubicBezTo>
                  <a:pt x="13217" y="11710"/>
                  <a:pt x="13298" y="11676"/>
                  <a:pt x="13320" y="11534"/>
                </a:cubicBezTo>
                <a:cubicBezTo>
                  <a:pt x="13332" y="11455"/>
                  <a:pt x="13349" y="11253"/>
                  <a:pt x="13246" y="11212"/>
                </a:cubicBezTo>
                <a:cubicBezTo>
                  <a:pt x="13204" y="11212"/>
                  <a:pt x="13188" y="11204"/>
                  <a:pt x="13196" y="11237"/>
                </a:cubicBezTo>
              </a:path>
              <a:path w="4193" h="4094">
                <a:moveTo>
                  <a:pt x="14064" y="11088"/>
                </a:moveTo>
                <a:cubicBezTo>
                  <a:pt x="14031" y="10988"/>
                  <a:pt x="13887" y="11126"/>
                  <a:pt x="13841" y="11162"/>
                </a:cubicBezTo>
                <a:cubicBezTo>
                  <a:pt x="13833" y="11170"/>
                  <a:pt x="13824" y="11179"/>
                  <a:pt x="13816" y="11187"/>
                </a:cubicBezTo>
                <a:cubicBezTo>
                  <a:pt x="13919" y="11264"/>
                  <a:pt x="14226" y="11355"/>
                  <a:pt x="14163" y="11534"/>
                </a:cubicBezTo>
                <a:cubicBezTo>
                  <a:pt x="14095" y="11602"/>
                  <a:pt x="14080" y="11625"/>
                  <a:pt x="14015" y="11633"/>
                </a:cubicBezTo>
                <a:cubicBezTo>
                  <a:pt x="13974" y="11428"/>
                  <a:pt x="14031" y="11308"/>
                  <a:pt x="14089" y="11112"/>
                </a:cubicBezTo>
                <a:cubicBezTo>
                  <a:pt x="14089" y="11088"/>
                  <a:pt x="14089" y="11080"/>
                  <a:pt x="14089" y="11112"/>
                </a:cubicBezTo>
              </a:path>
              <a:path w="4193" h="4094">
                <a:moveTo>
                  <a:pt x="12700" y="13097"/>
                </a:moveTo>
                <a:cubicBezTo>
                  <a:pt x="12732" y="13002"/>
                  <a:pt x="12712" y="13221"/>
                  <a:pt x="12700" y="13320"/>
                </a:cubicBezTo>
                <a:cubicBezTo>
                  <a:pt x="12678" y="13504"/>
                  <a:pt x="12650" y="13589"/>
                  <a:pt x="12750" y="13717"/>
                </a:cubicBezTo>
                <a:cubicBezTo>
                  <a:pt x="12860" y="13651"/>
                  <a:pt x="13145" y="13483"/>
                  <a:pt x="13047" y="13295"/>
                </a:cubicBezTo>
                <a:cubicBezTo>
                  <a:pt x="13031" y="13295"/>
                  <a:pt x="13014" y="13295"/>
                  <a:pt x="12998" y="13295"/>
                </a:cubicBezTo>
                <a:cubicBezTo>
                  <a:pt x="12908" y="13443"/>
                  <a:pt x="12752" y="13663"/>
                  <a:pt x="12998" y="13568"/>
                </a:cubicBezTo>
              </a:path>
              <a:path w="4193" h="4094">
                <a:moveTo>
                  <a:pt x="13196" y="13097"/>
                </a:moveTo>
                <a:cubicBezTo>
                  <a:pt x="13212" y="13092"/>
                  <a:pt x="13391" y="12985"/>
                  <a:pt x="13395" y="13072"/>
                </a:cubicBezTo>
                <a:cubicBezTo>
                  <a:pt x="13371" y="13167"/>
                  <a:pt x="13365" y="13197"/>
                  <a:pt x="13320" y="13246"/>
                </a:cubicBezTo>
                <a:cubicBezTo>
                  <a:pt x="13312" y="13254"/>
                  <a:pt x="13303" y="13263"/>
                  <a:pt x="13295" y="13271"/>
                </a:cubicBezTo>
                <a:cubicBezTo>
                  <a:pt x="13457" y="13244"/>
                  <a:pt x="13511" y="13336"/>
                  <a:pt x="13395" y="13494"/>
                </a:cubicBezTo>
                <a:cubicBezTo>
                  <a:pt x="13323" y="13592"/>
                  <a:pt x="13243" y="13554"/>
                  <a:pt x="13171" y="13519"/>
                </a:cubicBezTo>
              </a:path>
              <a:path w="4193" h="4094">
                <a:moveTo>
                  <a:pt x="13568" y="13047"/>
                </a:moveTo>
                <a:cubicBezTo>
                  <a:pt x="13716" y="13047"/>
                  <a:pt x="13868" y="13072"/>
                  <a:pt x="13841" y="13271"/>
                </a:cubicBezTo>
                <a:cubicBezTo>
                  <a:pt x="13816" y="13456"/>
                  <a:pt x="13679" y="13487"/>
                  <a:pt x="13543" y="13519"/>
                </a:cubicBezTo>
                <a:cubicBezTo>
                  <a:pt x="13586" y="13374"/>
                  <a:pt x="13700" y="13398"/>
                  <a:pt x="13841" y="13469"/>
                </a:cubicBezTo>
                <a:cubicBezTo>
                  <a:pt x="13905" y="13513"/>
                  <a:pt x="13935" y="13519"/>
                  <a:pt x="13891" y="13568"/>
                </a:cubicBezTo>
              </a:path>
              <a:path w="4193" h="4094">
                <a:moveTo>
                  <a:pt x="11212" y="13965"/>
                </a:moveTo>
                <a:cubicBezTo>
                  <a:pt x="11854" y="13856"/>
                  <a:pt x="12498" y="13734"/>
                  <a:pt x="13146" y="13667"/>
                </a:cubicBezTo>
                <a:cubicBezTo>
                  <a:pt x="13385" y="13642"/>
                  <a:pt x="14007" y="13643"/>
                  <a:pt x="13767" y="13643"/>
                </a:cubicBezTo>
              </a:path>
              <a:path w="4193" h="4094">
                <a:moveTo>
                  <a:pt x="13742" y="13940"/>
                </a:moveTo>
                <a:cubicBezTo>
                  <a:pt x="13650" y="14077"/>
                  <a:pt x="13663" y="14160"/>
                  <a:pt x="13692" y="14312"/>
                </a:cubicBezTo>
                <a:cubicBezTo>
                  <a:pt x="13792" y="14351"/>
                  <a:pt x="14276" y="14320"/>
                  <a:pt x="14089" y="14064"/>
                </a:cubicBezTo>
                <a:cubicBezTo>
                  <a:pt x="13927" y="14011"/>
                  <a:pt x="13863" y="13996"/>
                  <a:pt x="13742" y="14039"/>
                </a:cubicBezTo>
              </a:path>
              <a:path w="4193" h="4094">
                <a:moveTo>
                  <a:pt x="11286" y="11881"/>
                </a:moveTo>
                <a:cubicBezTo>
                  <a:pt x="11491" y="11846"/>
                  <a:pt x="11697" y="11857"/>
                  <a:pt x="11906" y="11857"/>
                </a:cubicBezTo>
                <a:cubicBezTo>
                  <a:pt x="12196" y="11857"/>
                  <a:pt x="12483" y="11832"/>
                  <a:pt x="12774" y="11832"/>
                </a:cubicBezTo>
                <a:cubicBezTo>
                  <a:pt x="12954" y="11832"/>
                  <a:pt x="13122" y="11837"/>
                  <a:pt x="13295" y="11807"/>
                </a:cubicBezTo>
                <a:cubicBezTo>
                  <a:pt x="13445" y="11781"/>
                  <a:pt x="13592" y="11777"/>
                  <a:pt x="13742" y="11757"/>
                </a:cubicBezTo>
                <a:cubicBezTo>
                  <a:pt x="13932" y="11732"/>
                  <a:pt x="14122" y="11696"/>
                  <a:pt x="14312" y="11683"/>
                </a:cubicBezTo>
                <a:cubicBezTo>
                  <a:pt x="14472" y="11672"/>
                  <a:pt x="14607" y="11636"/>
                  <a:pt x="14759" y="11584"/>
                </a:cubicBezTo>
                <a:cubicBezTo>
                  <a:pt x="14938" y="11523"/>
                  <a:pt x="15146" y="11443"/>
                  <a:pt x="15205" y="11261"/>
                </a:cubicBezTo>
                <a:cubicBezTo>
                  <a:pt x="15262" y="11084"/>
                  <a:pt x="15183" y="11014"/>
                  <a:pt x="15081" y="10889"/>
                </a:cubicBezTo>
                <a:cubicBezTo>
                  <a:pt x="14937" y="10711"/>
                  <a:pt x="14815" y="10680"/>
                  <a:pt x="14610" y="10592"/>
                </a:cubicBezTo>
                <a:cubicBezTo>
                  <a:pt x="14383" y="10494"/>
                  <a:pt x="14188" y="10426"/>
                  <a:pt x="13940" y="10393"/>
                </a:cubicBezTo>
                <a:cubicBezTo>
                  <a:pt x="13602" y="10348"/>
                  <a:pt x="13261" y="10289"/>
                  <a:pt x="12923" y="10319"/>
                </a:cubicBezTo>
                <a:cubicBezTo>
                  <a:pt x="12531" y="10354"/>
                  <a:pt x="12166" y="10423"/>
                  <a:pt x="11807" y="10592"/>
                </a:cubicBezTo>
                <a:cubicBezTo>
                  <a:pt x="11574" y="10702"/>
                  <a:pt x="11125" y="10881"/>
                  <a:pt x="11038" y="11162"/>
                </a:cubicBezTo>
                <a:cubicBezTo>
                  <a:pt x="11008" y="11259"/>
                  <a:pt x="10993" y="11667"/>
                  <a:pt x="11063" y="11757"/>
                </a:cubicBezTo>
                <a:cubicBezTo>
                  <a:pt x="11113" y="11822"/>
                  <a:pt x="11174" y="11845"/>
                  <a:pt x="11261" y="11881"/>
                </a:cubicBezTo>
                <a:cubicBezTo>
                  <a:pt x="11359" y="11922"/>
                  <a:pt x="11348" y="11902"/>
                  <a:pt x="11410" y="11956"/>
                </a:cubicBezTo>
                <a:cubicBezTo>
                  <a:pt x="11410" y="11964"/>
                  <a:pt x="11410" y="11973"/>
                  <a:pt x="11410" y="119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16120" y="2303640"/>
            <a:ext cx="1224000" cy="2840040"/>
          </a:xfrm>
          <a:custGeom>
            <a:avLst/>
            <a:gdLst/>
            <a:ahLst/>
            <a:rect l="l" t="t" r="r" b="b"/>
            <a:pathLst>
              <a:path w="3399" h="7889">
                <a:moveTo>
                  <a:pt x="7293" y="6648"/>
                </a:moveTo>
                <a:cubicBezTo>
                  <a:pt x="7293" y="6672"/>
                  <a:pt x="7293" y="6680"/>
                  <a:pt x="7268" y="6672"/>
                </a:cubicBezTo>
              </a:path>
              <a:path w="3399" h="7889">
                <a:moveTo>
                  <a:pt x="10666" y="6400"/>
                </a:moveTo>
                <a:lnTo>
                  <a:pt x="10666" y="6400"/>
                </a:lnTo>
              </a:path>
              <a:path w="3399" h="7889">
                <a:moveTo>
                  <a:pt x="9500" y="6945"/>
                </a:moveTo>
                <a:cubicBezTo>
                  <a:pt x="9478" y="6968"/>
                  <a:pt x="9456" y="7186"/>
                  <a:pt x="9451" y="7293"/>
                </a:cubicBezTo>
              </a:path>
              <a:path w="3399" h="7889">
                <a:moveTo>
                  <a:pt x="8905" y="14288"/>
                </a:moveTo>
                <a:lnTo>
                  <a:pt x="8905" y="1428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97120" y="2330280"/>
            <a:ext cx="5197680" cy="1884600"/>
          </a:xfrm>
          <a:custGeom>
            <a:avLst/>
            <a:gdLst/>
            <a:ahLst/>
            <a:rect l="l" t="t" r="r" b="b"/>
            <a:pathLst>
              <a:path w="14437" h="5235">
                <a:moveTo>
                  <a:pt x="7541" y="11609"/>
                </a:moveTo>
                <a:cubicBezTo>
                  <a:pt x="7505" y="11643"/>
                  <a:pt x="7492" y="11665"/>
                  <a:pt x="7491" y="11708"/>
                </a:cubicBezTo>
              </a:path>
              <a:path w="14437" h="5235">
                <a:moveTo>
                  <a:pt x="9624" y="6524"/>
                </a:moveTo>
                <a:cubicBezTo>
                  <a:pt x="9624" y="6483"/>
                  <a:pt x="9637" y="6511"/>
                  <a:pt x="9649" y="6474"/>
                </a:cubicBezTo>
              </a:path>
              <a:path w="14437" h="5235">
                <a:moveTo>
                  <a:pt x="9674" y="6474"/>
                </a:moveTo>
                <a:lnTo>
                  <a:pt x="9674" y="6474"/>
                </a:lnTo>
              </a:path>
              <a:path w="14437" h="5235">
                <a:moveTo>
                  <a:pt x="21803" y="8880"/>
                </a:moveTo>
                <a:cubicBezTo>
                  <a:pt x="21828" y="8943"/>
                  <a:pt x="21884" y="9018"/>
                  <a:pt x="21927" y="9079"/>
                </a:cubicBezTo>
              </a:path>
              <a:path w="14437" h="5235">
                <a:moveTo>
                  <a:pt x="21878" y="8905"/>
                </a:moveTo>
                <a:cubicBezTo>
                  <a:pt x="21818" y="9024"/>
                  <a:pt x="21791" y="9071"/>
                  <a:pt x="21779" y="92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23160" y="2589120"/>
            <a:ext cx="669960" cy="1036800"/>
          </a:xfrm>
          <a:custGeom>
            <a:avLst/>
            <a:gdLst/>
            <a:ahLst/>
            <a:rect l="l" t="t" r="r" b="b"/>
            <a:pathLst>
              <a:path w="1861" h="2879">
                <a:moveTo>
                  <a:pt x="22225" y="7962"/>
                </a:moveTo>
                <a:cubicBezTo>
                  <a:pt x="22311" y="7900"/>
                  <a:pt x="22396" y="7877"/>
                  <a:pt x="22498" y="7838"/>
                </a:cubicBezTo>
                <a:cubicBezTo>
                  <a:pt x="22514" y="7830"/>
                  <a:pt x="22531" y="7821"/>
                  <a:pt x="22547" y="7813"/>
                </a:cubicBezTo>
                <a:cubicBezTo>
                  <a:pt x="22601" y="7993"/>
                  <a:pt x="22552" y="8174"/>
                  <a:pt x="22498" y="8359"/>
                </a:cubicBezTo>
                <a:cubicBezTo>
                  <a:pt x="22475" y="8427"/>
                  <a:pt x="22460" y="8455"/>
                  <a:pt x="22523" y="8409"/>
                </a:cubicBezTo>
              </a:path>
              <a:path w="1861" h="2879">
                <a:moveTo>
                  <a:pt x="23044" y="7739"/>
                </a:moveTo>
                <a:cubicBezTo>
                  <a:pt x="22876" y="7722"/>
                  <a:pt x="22849" y="7809"/>
                  <a:pt x="22820" y="7962"/>
                </a:cubicBezTo>
                <a:cubicBezTo>
                  <a:pt x="22938" y="8001"/>
                  <a:pt x="23014" y="7898"/>
                  <a:pt x="23068" y="7789"/>
                </a:cubicBezTo>
                <a:cubicBezTo>
                  <a:pt x="23068" y="7781"/>
                  <a:pt x="23068" y="7772"/>
                  <a:pt x="23068" y="7764"/>
                </a:cubicBezTo>
                <a:cubicBezTo>
                  <a:pt x="23053" y="7945"/>
                  <a:pt x="23008" y="8109"/>
                  <a:pt x="22969" y="8285"/>
                </a:cubicBezTo>
                <a:cubicBezTo>
                  <a:pt x="22961" y="8335"/>
                  <a:pt x="22952" y="8384"/>
                  <a:pt x="22944" y="8434"/>
                </a:cubicBezTo>
              </a:path>
              <a:path w="1861" h="2879">
                <a:moveTo>
                  <a:pt x="23044" y="8582"/>
                </a:moveTo>
                <a:cubicBezTo>
                  <a:pt x="22980" y="8597"/>
                  <a:pt x="22753" y="8668"/>
                  <a:pt x="22771" y="8781"/>
                </a:cubicBezTo>
                <a:cubicBezTo>
                  <a:pt x="22788" y="8884"/>
                  <a:pt x="22987" y="8940"/>
                  <a:pt x="23044" y="9054"/>
                </a:cubicBezTo>
                <a:cubicBezTo>
                  <a:pt x="22973" y="9100"/>
                  <a:pt x="22954" y="9116"/>
                  <a:pt x="22895" y="9103"/>
                </a:cubicBezTo>
                <a:cubicBezTo>
                  <a:pt x="22906" y="8933"/>
                  <a:pt x="22956" y="8814"/>
                  <a:pt x="23019" y="8657"/>
                </a:cubicBezTo>
              </a:path>
              <a:path w="1861" h="2879">
                <a:moveTo>
                  <a:pt x="21952" y="9500"/>
                </a:moveTo>
                <a:cubicBezTo>
                  <a:pt x="22461" y="9377"/>
                  <a:pt x="22969" y="9230"/>
                  <a:pt x="23490" y="9178"/>
                </a:cubicBezTo>
                <a:cubicBezTo>
                  <a:pt x="23564" y="9178"/>
                  <a:pt x="23622" y="9178"/>
                  <a:pt x="23564" y="9178"/>
                </a:cubicBezTo>
              </a:path>
              <a:path w="1861" h="2879">
                <a:moveTo>
                  <a:pt x="23044" y="9649"/>
                </a:moveTo>
                <a:cubicBezTo>
                  <a:pt x="23046" y="9641"/>
                  <a:pt x="23136" y="9526"/>
                  <a:pt x="23143" y="9525"/>
                </a:cubicBezTo>
                <a:cubicBezTo>
                  <a:pt x="23402" y="9486"/>
                  <a:pt x="23100" y="9934"/>
                  <a:pt x="23093" y="9947"/>
                </a:cubicBezTo>
                <a:cubicBezTo>
                  <a:pt x="23055" y="10024"/>
                  <a:pt x="23056" y="10039"/>
                  <a:pt x="23019" y="10071"/>
                </a:cubicBezTo>
                <a:cubicBezTo>
                  <a:pt x="23126" y="10049"/>
                  <a:pt x="23233" y="9998"/>
                  <a:pt x="23341" y="9971"/>
                </a:cubicBezTo>
                <a:cubicBezTo>
                  <a:pt x="23349" y="9971"/>
                  <a:pt x="23358" y="9971"/>
                  <a:pt x="23366" y="9971"/>
                </a:cubicBezTo>
              </a:path>
              <a:path w="1861" h="2879">
                <a:moveTo>
                  <a:pt x="21729" y="7268"/>
                </a:moveTo>
                <a:cubicBezTo>
                  <a:pt x="21847" y="7268"/>
                  <a:pt x="21919" y="7242"/>
                  <a:pt x="22027" y="7193"/>
                </a:cubicBezTo>
                <a:cubicBezTo>
                  <a:pt x="21998" y="7367"/>
                  <a:pt x="21932" y="7536"/>
                  <a:pt x="21903" y="7714"/>
                </a:cubicBezTo>
                <a:cubicBezTo>
                  <a:pt x="21903" y="7722"/>
                  <a:pt x="21903" y="7731"/>
                  <a:pt x="21903" y="77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life applications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A stack of books is 1.35 meters tall. Each book is 0.09 meters thick. How many books are in the stack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Juan drives his car 470.8 miles and uses 14.5 gallons of gas. Find the gas mileage of Juan’s car. (round to the nearest ten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5286240"/>
            <a:ext cx="3429000" cy="509760"/>
          </a:xfrm>
          <a:custGeom>
            <a:avLst/>
            <a:gdLst/>
            <a:ahLst/>
            <a:rect l="l" t="t" r="r" b="b"/>
            <a:pathLst>
              <a:path w="9526" h="1415">
                <a:moveTo>
                  <a:pt x="9947" y="16049"/>
                </a:moveTo>
                <a:cubicBezTo>
                  <a:pt x="9947" y="16057"/>
                  <a:pt x="9947" y="16065"/>
                  <a:pt x="9947" y="16073"/>
                </a:cubicBezTo>
              </a:path>
              <a:path w="9526" h="1415">
                <a:moveTo>
                  <a:pt x="10468" y="15776"/>
                </a:moveTo>
                <a:cubicBezTo>
                  <a:pt x="10426" y="15843"/>
                  <a:pt x="10390" y="15899"/>
                  <a:pt x="10368" y="15974"/>
                </a:cubicBezTo>
                <a:cubicBezTo>
                  <a:pt x="10457" y="15998"/>
                  <a:pt x="10679" y="16040"/>
                  <a:pt x="10740" y="15925"/>
                </a:cubicBezTo>
                <a:cubicBezTo>
                  <a:pt x="10732" y="15908"/>
                  <a:pt x="10724" y="15892"/>
                  <a:pt x="10716" y="15875"/>
                </a:cubicBezTo>
              </a:path>
              <a:path w="9526" h="1415">
                <a:moveTo>
                  <a:pt x="11906" y="16049"/>
                </a:moveTo>
                <a:cubicBezTo>
                  <a:pt x="11906" y="16065"/>
                  <a:pt x="11906" y="16082"/>
                  <a:pt x="11906" y="16098"/>
                </a:cubicBezTo>
              </a:path>
              <a:path w="9526" h="1415">
                <a:moveTo>
                  <a:pt x="19397" y="15974"/>
                </a:moveTo>
                <a:cubicBezTo>
                  <a:pt x="19397" y="16037"/>
                  <a:pt x="19447" y="15989"/>
                  <a:pt x="19472" y="15974"/>
                </a:cubicBezTo>
              </a:path>
              <a:path w="9526" h="1415">
                <a:moveTo>
                  <a:pt x="13494" y="14734"/>
                </a:moveTo>
                <a:cubicBezTo>
                  <a:pt x="13453" y="14734"/>
                  <a:pt x="13481" y="14721"/>
                  <a:pt x="13444" y="14709"/>
                </a:cubicBezTo>
              </a:path>
              <a:path w="9526" h="1415">
                <a:moveTo>
                  <a:pt x="13469" y="14709"/>
                </a:moveTo>
                <a:lnTo>
                  <a:pt x="13469" y="14709"/>
                </a:lnTo>
              </a:path>
              <a:path w="9526" h="1415">
                <a:moveTo>
                  <a:pt x="13469" y="14684"/>
                </a:moveTo>
                <a:lnTo>
                  <a:pt x="13469" y="1468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44920" y="5187960"/>
            <a:ext cx="2759040" cy="696960"/>
          </a:xfrm>
          <a:custGeom>
            <a:avLst/>
            <a:gdLst/>
            <a:ahLst/>
            <a:rect l="l" t="t" r="r" b="b"/>
            <a:pathLst>
              <a:path w="7666" h="1935">
                <a:moveTo>
                  <a:pt x="10096" y="15949"/>
                </a:moveTo>
                <a:cubicBezTo>
                  <a:pt x="10087" y="15943"/>
                  <a:pt x="10054" y="15906"/>
                  <a:pt x="10046" y="15900"/>
                </a:cubicBezTo>
                <a:cubicBezTo>
                  <a:pt x="9986" y="16035"/>
                  <a:pt x="9903" y="16179"/>
                  <a:pt x="9847" y="16321"/>
                </a:cubicBezTo>
                <a:cubicBezTo>
                  <a:pt x="9847" y="16329"/>
                  <a:pt x="9847" y="16338"/>
                  <a:pt x="9847" y="16346"/>
                </a:cubicBezTo>
                <a:cubicBezTo>
                  <a:pt x="9856" y="16217"/>
                  <a:pt x="9909" y="16100"/>
                  <a:pt x="9922" y="15974"/>
                </a:cubicBezTo>
                <a:cubicBezTo>
                  <a:pt x="9936" y="15844"/>
                  <a:pt x="9866" y="15628"/>
                  <a:pt x="9971" y="15577"/>
                </a:cubicBezTo>
                <a:cubicBezTo>
                  <a:pt x="10175" y="15479"/>
                  <a:pt x="10445" y="15483"/>
                  <a:pt x="10666" y="15453"/>
                </a:cubicBezTo>
                <a:cubicBezTo>
                  <a:pt x="10955" y="15414"/>
                  <a:pt x="11244" y="15349"/>
                  <a:pt x="11534" y="15329"/>
                </a:cubicBezTo>
                <a:cubicBezTo>
                  <a:pt x="11717" y="15317"/>
                  <a:pt x="11899" y="15320"/>
                  <a:pt x="12080" y="15304"/>
                </a:cubicBezTo>
                <a:cubicBezTo>
                  <a:pt x="12267" y="15288"/>
                  <a:pt x="12462" y="15304"/>
                  <a:pt x="12650" y="15304"/>
                </a:cubicBezTo>
              </a:path>
              <a:path w="7666" h="1935">
                <a:moveTo>
                  <a:pt x="12378" y="15627"/>
                </a:moveTo>
                <a:cubicBezTo>
                  <a:pt x="12319" y="15597"/>
                  <a:pt x="12187" y="15582"/>
                  <a:pt x="12154" y="15677"/>
                </a:cubicBezTo>
                <a:cubicBezTo>
                  <a:pt x="12154" y="15702"/>
                  <a:pt x="12154" y="15726"/>
                  <a:pt x="12154" y="15751"/>
                </a:cubicBezTo>
                <a:cubicBezTo>
                  <a:pt x="12272" y="15813"/>
                  <a:pt x="12493" y="15876"/>
                  <a:pt x="12452" y="16049"/>
                </a:cubicBezTo>
                <a:cubicBezTo>
                  <a:pt x="12405" y="16119"/>
                  <a:pt x="12393" y="16143"/>
                  <a:pt x="12328" y="16123"/>
                </a:cubicBezTo>
                <a:cubicBezTo>
                  <a:pt x="12236" y="15970"/>
                  <a:pt x="12297" y="15878"/>
                  <a:pt x="12378" y="15726"/>
                </a:cubicBezTo>
                <a:cubicBezTo>
                  <a:pt x="12402" y="15677"/>
                  <a:pt x="12410" y="15660"/>
                  <a:pt x="12353" y="15652"/>
                </a:cubicBezTo>
              </a:path>
              <a:path w="7666" h="1935">
                <a:moveTo>
                  <a:pt x="11906" y="16148"/>
                </a:moveTo>
                <a:cubicBezTo>
                  <a:pt x="12003" y="16180"/>
                  <a:pt x="12117" y="16250"/>
                  <a:pt x="12229" y="16247"/>
                </a:cubicBezTo>
                <a:cubicBezTo>
                  <a:pt x="12386" y="16243"/>
                  <a:pt x="12574" y="16192"/>
                  <a:pt x="12700" y="16098"/>
                </a:cubicBezTo>
                <a:cubicBezTo>
                  <a:pt x="12747" y="16052"/>
                  <a:pt x="12761" y="16040"/>
                  <a:pt x="12774" y="15999"/>
                </a:cubicBezTo>
              </a:path>
              <a:path w="7666" h="1935">
                <a:moveTo>
                  <a:pt x="12675" y="15131"/>
                </a:moveTo>
                <a:cubicBezTo>
                  <a:pt x="12743" y="15017"/>
                  <a:pt x="12666" y="15145"/>
                  <a:pt x="12675" y="15180"/>
                </a:cubicBezTo>
                <a:cubicBezTo>
                  <a:pt x="12697" y="15224"/>
                  <a:pt x="12700" y="15245"/>
                  <a:pt x="12725" y="15205"/>
                </a:cubicBezTo>
                <a:cubicBezTo>
                  <a:pt x="12736" y="15181"/>
                  <a:pt x="12822" y="15001"/>
                  <a:pt x="12725" y="15032"/>
                </a:cubicBezTo>
                <a:cubicBezTo>
                  <a:pt x="12666" y="15051"/>
                  <a:pt x="12602" y="15253"/>
                  <a:pt x="12700" y="15205"/>
                </a:cubicBezTo>
                <a:cubicBezTo>
                  <a:pt x="12717" y="15189"/>
                  <a:pt x="12733" y="15172"/>
                  <a:pt x="12750" y="15156"/>
                </a:cubicBezTo>
                <a:cubicBezTo>
                  <a:pt x="12770" y="15063"/>
                  <a:pt x="12719" y="15026"/>
                  <a:pt x="12650" y="15156"/>
                </a:cubicBezTo>
                <a:cubicBezTo>
                  <a:pt x="12610" y="15231"/>
                  <a:pt x="12763" y="15217"/>
                  <a:pt x="12700" y="15156"/>
                </a:cubicBezTo>
              </a:path>
              <a:path w="7666" h="1935">
                <a:moveTo>
                  <a:pt x="10517" y="14982"/>
                </a:moveTo>
                <a:cubicBezTo>
                  <a:pt x="10495" y="14915"/>
                  <a:pt x="10433" y="15018"/>
                  <a:pt x="10418" y="15056"/>
                </a:cubicBezTo>
                <a:cubicBezTo>
                  <a:pt x="10379" y="15153"/>
                  <a:pt x="10368" y="15304"/>
                  <a:pt x="10517" y="15304"/>
                </a:cubicBezTo>
                <a:cubicBezTo>
                  <a:pt x="10641" y="15304"/>
                  <a:pt x="10683" y="15128"/>
                  <a:pt x="10666" y="15032"/>
                </a:cubicBezTo>
                <a:cubicBezTo>
                  <a:pt x="10653" y="14957"/>
                  <a:pt x="10597" y="14982"/>
                  <a:pt x="10542" y="14982"/>
                </a:cubicBezTo>
              </a:path>
              <a:path w="7666" h="1935">
                <a:moveTo>
                  <a:pt x="11013" y="14957"/>
                </a:moveTo>
                <a:cubicBezTo>
                  <a:pt x="10977" y="14850"/>
                  <a:pt x="10896" y="15073"/>
                  <a:pt x="10889" y="15106"/>
                </a:cubicBezTo>
                <a:cubicBezTo>
                  <a:pt x="10864" y="15232"/>
                  <a:pt x="10966" y="15295"/>
                  <a:pt x="11063" y="15205"/>
                </a:cubicBezTo>
                <a:cubicBezTo>
                  <a:pt x="11132" y="15141"/>
                  <a:pt x="11168" y="15065"/>
                  <a:pt x="11187" y="14982"/>
                </a:cubicBezTo>
                <a:cubicBezTo>
                  <a:pt x="11137" y="14972"/>
                  <a:pt x="11088" y="14950"/>
                  <a:pt x="11038" y="14932"/>
                </a:cubicBezTo>
              </a:path>
              <a:path w="7666" h="1935">
                <a:moveTo>
                  <a:pt x="11460" y="14833"/>
                </a:moveTo>
                <a:cubicBezTo>
                  <a:pt x="11378" y="14806"/>
                  <a:pt x="11520" y="14756"/>
                  <a:pt x="11559" y="14734"/>
                </a:cubicBezTo>
                <a:cubicBezTo>
                  <a:pt x="11559" y="14816"/>
                  <a:pt x="11562" y="14841"/>
                  <a:pt x="11509" y="14908"/>
                </a:cubicBezTo>
                <a:cubicBezTo>
                  <a:pt x="11501" y="14916"/>
                  <a:pt x="11493" y="14924"/>
                  <a:pt x="11485" y="14932"/>
                </a:cubicBezTo>
                <a:cubicBezTo>
                  <a:pt x="11571" y="14918"/>
                  <a:pt x="11649" y="14884"/>
                  <a:pt x="11658" y="15032"/>
                </a:cubicBezTo>
                <a:cubicBezTo>
                  <a:pt x="11666" y="15169"/>
                  <a:pt x="11569" y="15204"/>
                  <a:pt x="11460" y="15230"/>
                </a:cubicBezTo>
                <a:cubicBezTo>
                  <a:pt x="11452" y="15230"/>
                  <a:pt x="11443" y="15230"/>
                  <a:pt x="11435" y="15230"/>
                </a:cubicBezTo>
              </a:path>
              <a:path w="7666" h="1935">
                <a:moveTo>
                  <a:pt x="11956" y="14734"/>
                </a:moveTo>
                <a:cubicBezTo>
                  <a:pt x="11899" y="14705"/>
                  <a:pt x="12036" y="14670"/>
                  <a:pt x="12080" y="14660"/>
                </a:cubicBezTo>
                <a:cubicBezTo>
                  <a:pt x="12121" y="14772"/>
                  <a:pt x="12184" y="14933"/>
                  <a:pt x="12030" y="15007"/>
                </a:cubicBezTo>
                <a:cubicBezTo>
                  <a:pt x="11978" y="15032"/>
                  <a:pt x="11872" y="14980"/>
                  <a:pt x="11857" y="14957"/>
                </a:cubicBezTo>
                <a:cubicBezTo>
                  <a:pt x="11977" y="14938"/>
                  <a:pt x="12111" y="14951"/>
                  <a:pt x="12229" y="15007"/>
                </a:cubicBezTo>
                <a:cubicBezTo>
                  <a:pt x="12251" y="15029"/>
                  <a:pt x="12256" y="15038"/>
                  <a:pt x="12278" y="15032"/>
                </a:cubicBezTo>
              </a:path>
              <a:path w="7666" h="1935">
                <a:moveTo>
                  <a:pt x="12477" y="15503"/>
                </a:moveTo>
                <a:cubicBezTo>
                  <a:pt x="12477" y="15451"/>
                  <a:pt x="12491" y="15450"/>
                  <a:pt x="12502" y="15429"/>
                </a:cubicBezTo>
                <a:cubicBezTo>
                  <a:pt x="12523" y="15388"/>
                  <a:pt x="12567" y="15404"/>
                  <a:pt x="12626" y="15404"/>
                </a:cubicBezTo>
                <a:cubicBezTo>
                  <a:pt x="12762" y="15404"/>
                  <a:pt x="12887" y="15382"/>
                  <a:pt x="13022" y="15379"/>
                </a:cubicBezTo>
                <a:cubicBezTo>
                  <a:pt x="13191" y="15375"/>
                  <a:pt x="13358" y="15389"/>
                  <a:pt x="13519" y="15354"/>
                </a:cubicBezTo>
                <a:cubicBezTo>
                  <a:pt x="13565" y="15344"/>
                  <a:pt x="13617" y="15379"/>
                  <a:pt x="13667" y="15379"/>
                </a:cubicBezTo>
                <a:cubicBezTo>
                  <a:pt x="13692" y="15379"/>
                  <a:pt x="13700" y="15379"/>
                  <a:pt x="13717" y="15379"/>
                </a:cubicBezTo>
              </a:path>
              <a:path w="7666" h="1935">
                <a:moveTo>
                  <a:pt x="12948" y="14808"/>
                </a:moveTo>
                <a:cubicBezTo>
                  <a:pt x="12948" y="14780"/>
                  <a:pt x="12945" y="14770"/>
                  <a:pt x="12923" y="14759"/>
                </a:cubicBezTo>
                <a:cubicBezTo>
                  <a:pt x="12923" y="14877"/>
                  <a:pt x="12901" y="14936"/>
                  <a:pt x="13047" y="14908"/>
                </a:cubicBezTo>
                <a:cubicBezTo>
                  <a:pt x="13105" y="14889"/>
                  <a:pt x="13111" y="14880"/>
                  <a:pt x="13146" y="14883"/>
                </a:cubicBezTo>
              </a:path>
              <a:path w="7666" h="1935">
                <a:moveTo>
                  <a:pt x="13146" y="14610"/>
                </a:moveTo>
                <a:cubicBezTo>
                  <a:pt x="13146" y="14791"/>
                  <a:pt x="13169" y="14953"/>
                  <a:pt x="13196" y="15131"/>
                </a:cubicBezTo>
                <a:cubicBezTo>
                  <a:pt x="13197" y="15138"/>
                  <a:pt x="13196" y="15221"/>
                  <a:pt x="13196" y="15156"/>
                </a:cubicBezTo>
              </a:path>
              <a:path w="7666" h="1935">
                <a:moveTo>
                  <a:pt x="13915" y="15503"/>
                </a:moveTo>
                <a:cubicBezTo>
                  <a:pt x="13976" y="15468"/>
                  <a:pt x="14044" y="15450"/>
                  <a:pt x="14114" y="15429"/>
                </a:cubicBezTo>
              </a:path>
              <a:path w="7666" h="1935">
                <a:moveTo>
                  <a:pt x="13444" y="14709"/>
                </a:moveTo>
                <a:cubicBezTo>
                  <a:pt x="13493" y="14709"/>
                  <a:pt x="13577" y="14699"/>
                  <a:pt x="13618" y="14684"/>
                </a:cubicBezTo>
                <a:cubicBezTo>
                  <a:pt x="13642" y="14675"/>
                  <a:pt x="13671" y="14651"/>
                  <a:pt x="13692" y="14635"/>
                </a:cubicBezTo>
                <a:cubicBezTo>
                  <a:pt x="13692" y="14764"/>
                  <a:pt x="13684" y="14905"/>
                  <a:pt x="13667" y="15032"/>
                </a:cubicBezTo>
                <a:cubicBezTo>
                  <a:pt x="13656" y="15111"/>
                  <a:pt x="13613" y="15137"/>
                  <a:pt x="13667" y="15156"/>
                </a:cubicBezTo>
              </a:path>
              <a:path w="7666" h="1935">
                <a:moveTo>
                  <a:pt x="15032" y="15304"/>
                </a:moveTo>
                <a:cubicBezTo>
                  <a:pt x="15032" y="15248"/>
                  <a:pt x="15037" y="15227"/>
                  <a:pt x="15081" y="15205"/>
                </a:cubicBezTo>
                <a:cubicBezTo>
                  <a:pt x="15193" y="15138"/>
                  <a:pt x="15253" y="15268"/>
                  <a:pt x="15255" y="15379"/>
                </a:cubicBezTo>
                <a:cubicBezTo>
                  <a:pt x="15257" y="15475"/>
                  <a:pt x="15201" y="15603"/>
                  <a:pt x="15106" y="15627"/>
                </a:cubicBezTo>
                <a:cubicBezTo>
                  <a:pt x="15170" y="15563"/>
                  <a:pt x="15273" y="15464"/>
                  <a:pt x="15354" y="15577"/>
                </a:cubicBezTo>
                <a:cubicBezTo>
                  <a:pt x="15471" y="15739"/>
                  <a:pt x="15246" y="15894"/>
                  <a:pt x="15106" y="15900"/>
                </a:cubicBezTo>
                <a:cubicBezTo>
                  <a:pt x="15098" y="15892"/>
                  <a:pt x="15089" y="15883"/>
                  <a:pt x="15081" y="15875"/>
                </a:cubicBezTo>
              </a:path>
              <a:path w="7666" h="1935">
                <a:moveTo>
                  <a:pt x="15453" y="15230"/>
                </a:moveTo>
                <a:cubicBezTo>
                  <a:pt x="15605" y="15133"/>
                  <a:pt x="15772" y="15120"/>
                  <a:pt x="15825" y="15354"/>
                </a:cubicBezTo>
                <a:cubicBezTo>
                  <a:pt x="15875" y="15576"/>
                  <a:pt x="15737" y="15687"/>
                  <a:pt x="15553" y="15726"/>
                </a:cubicBezTo>
                <a:cubicBezTo>
                  <a:pt x="15536" y="15585"/>
                  <a:pt x="15673" y="15519"/>
                  <a:pt x="15825" y="15553"/>
                </a:cubicBezTo>
                <a:cubicBezTo>
                  <a:pt x="15894" y="15569"/>
                  <a:pt x="15912" y="15630"/>
                  <a:pt x="15949" y="15677"/>
                </a:cubicBezTo>
              </a:path>
              <a:path w="7666" h="1935">
                <a:moveTo>
                  <a:pt x="16520" y="14982"/>
                </a:moveTo>
                <a:cubicBezTo>
                  <a:pt x="16448" y="14958"/>
                  <a:pt x="16389" y="14993"/>
                  <a:pt x="16346" y="15056"/>
                </a:cubicBezTo>
                <a:cubicBezTo>
                  <a:pt x="16306" y="15115"/>
                  <a:pt x="16359" y="15219"/>
                  <a:pt x="16371" y="15280"/>
                </a:cubicBezTo>
                <a:cubicBezTo>
                  <a:pt x="16480" y="15253"/>
                  <a:pt x="16498" y="15150"/>
                  <a:pt x="16644" y="15180"/>
                </a:cubicBezTo>
                <a:cubicBezTo>
                  <a:pt x="16872" y="15228"/>
                  <a:pt x="16670" y="15454"/>
                  <a:pt x="16570" y="15503"/>
                </a:cubicBezTo>
                <a:cubicBezTo>
                  <a:pt x="16478" y="15526"/>
                  <a:pt x="16453" y="15532"/>
                  <a:pt x="16396" y="15553"/>
                </a:cubicBezTo>
              </a:path>
              <a:path w="7666" h="1935">
                <a:moveTo>
                  <a:pt x="15131" y="16297"/>
                </a:moveTo>
                <a:cubicBezTo>
                  <a:pt x="15250" y="16271"/>
                  <a:pt x="15377" y="16260"/>
                  <a:pt x="15503" y="16247"/>
                </a:cubicBezTo>
                <a:cubicBezTo>
                  <a:pt x="15877" y="16207"/>
                  <a:pt x="16228" y="16162"/>
                  <a:pt x="16594" y="16073"/>
                </a:cubicBezTo>
                <a:cubicBezTo>
                  <a:pt x="16910" y="15996"/>
                  <a:pt x="17185" y="15921"/>
                  <a:pt x="17388" y="15652"/>
                </a:cubicBezTo>
                <a:cubicBezTo>
                  <a:pt x="17516" y="15482"/>
                  <a:pt x="17550" y="15299"/>
                  <a:pt x="17462" y="15106"/>
                </a:cubicBezTo>
                <a:cubicBezTo>
                  <a:pt x="17365" y="14892"/>
                  <a:pt x="17202" y="14737"/>
                  <a:pt x="16991" y="14635"/>
                </a:cubicBezTo>
                <a:cubicBezTo>
                  <a:pt x="16741" y="14513"/>
                  <a:pt x="16451" y="14429"/>
                  <a:pt x="16173" y="14412"/>
                </a:cubicBezTo>
                <a:cubicBezTo>
                  <a:pt x="15853" y="14392"/>
                  <a:pt x="15574" y="14425"/>
                  <a:pt x="15280" y="14560"/>
                </a:cubicBezTo>
                <a:cubicBezTo>
                  <a:pt x="15001" y="14688"/>
                  <a:pt x="14837" y="14909"/>
                  <a:pt x="14784" y="15205"/>
                </a:cubicBezTo>
                <a:cubicBezTo>
                  <a:pt x="14755" y="15367"/>
                  <a:pt x="14649" y="15940"/>
                  <a:pt x="14908" y="15999"/>
                </a:cubicBezTo>
                <a:cubicBezTo>
                  <a:pt x="15131" y="15974"/>
                  <a:pt x="15205" y="15966"/>
                  <a:pt x="15354" y="15949"/>
                </a:cubicBezTo>
              </a:path>
              <a:path w="7666" h="1935">
                <a:moveTo>
                  <a:pt x="15925" y="15999"/>
                </a:moveTo>
                <a:cubicBezTo>
                  <a:pt x="15933" y="16050"/>
                  <a:pt x="15944" y="16097"/>
                  <a:pt x="15949" y="16148"/>
                </a:cubicBezTo>
                <a:cubicBezTo>
                  <a:pt x="15949" y="16212"/>
                  <a:pt x="15905" y="16022"/>
                  <a:pt x="15900" y="15999"/>
                </a:cubicBezTo>
                <a:cubicBezTo>
                  <a:pt x="15900" y="15991"/>
                  <a:pt x="15900" y="15982"/>
                  <a:pt x="15900" y="15974"/>
                </a:cubicBezTo>
                <a:cubicBezTo>
                  <a:pt x="16025" y="15953"/>
                  <a:pt x="16054" y="15963"/>
                  <a:pt x="16123" y="16073"/>
                </a:cubicBezTo>
                <a:cubicBezTo>
                  <a:pt x="16123" y="16040"/>
                  <a:pt x="16103" y="15959"/>
                  <a:pt x="16148" y="15949"/>
                </a:cubicBezTo>
                <a:cubicBezTo>
                  <a:pt x="16278" y="15920"/>
                  <a:pt x="16275" y="16025"/>
                  <a:pt x="16371" y="16049"/>
                </a:cubicBezTo>
              </a:path>
              <a:path w="7666" h="1935">
                <a:moveTo>
                  <a:pt x="16421" y="15900"/>
                </a:moveTo>
                <a:cubicBezTo>
                  <a:pt x="16437" y="15931"/>
                  <a:pt x="16611" y="16321"/>
                  <a:pt x="16644" y="16321"/>
                </a:cubicBezTo>
                <a:cubicBezTo>
                  <a:pt x="16644" y="16305"/>
                  <a:pt x="16644" y="16288"/>
                  <a:pt x="16644" y="16272"/>
                </a:cubicBezTo>
              </a:path>
              <a:path w="7666" h="1935">
                <a:moveTo>
                  <a:pt x="16421" y="15825"/>
                </a:moveTo>
                <a:cubicBezTo>
                  <a:pt x="16505" y="15796"/>
                  <a:pt x="16762" y="15700"/>
                  <a:pt x="16718" y="15900"/>
                </a:cubicBezTo>
                <a:cubicBezTo>
                  <a:pt x="16689" y="16029"/>
                  <a:pt x="16635" y="16043"/>
                  <a:pt x="16570" y="15999"/>
                </a:cubicBezTo>
              </a:path>
              <a:path w="7666" h="1935">
                <a:moveTo>
                  <a:pt x="16942" y="15627"/>
                </a:moveTo>
                <a:cubicBezTo>
                  <a:pt x="16839" y="15586"/>
                  <a:pt x="16827" y="15712"/>
                  <a:pt x="16793" y="15801"/>
                </a:cubicBezTo>
                <a:cubicBezTo>
                  <a:pt x="16926" y="15786"/>
                  <a:pt x="16941" y="15748"/>
                  <a:pt x="16991" y="15627"/>
                </a:cubicBezTo>
                <a:cubicBezTo>
                  <a:pt x="17120" y="15700"/>
                  <a:pt x="17236" y="15856"/>
                  <a:pt x="17190" y="16024"/>
                </a:cubicBezTo>
                <a:cubicBezTo>
                  <a:pt x="17153" y="16159"/>
                  <a:pt x="17044" y="16141"/>
                  <a:pt x="16942" y="161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19920" y="5197320"/>
            <a:ext cx="760320" cy="1071720"/>
          </a:xfrm>
          <a:custGeom>
            <a:avLst/>
            <a:gdLst/>
            <a:ahLst/>
            <a:rect l="l" t="t" r="r" b="b"/>
            <a:pathLst>
              <a:path w="2109" h="2978">
                <a:moveTo>
                  <a:pt x="19943" y="15106"/>
                </a:moveTo>
                <a:cubicBezTo>
                  <a:pt x="19943" y="14996"/>
                  <a:pt x="19902" y="15270"/>
                  <a:pt x="19893" y="15379"/>
                </a:cubicBezTo>
                <a:cubicBezTo>
                  <a:pt x="19886" y="15458"/>
                  <a:pt x="19873" y="15518"/>
                  <a:pt x="19893" y="15528"/>
                </a:cubicBezTo>
              </a:path>
              <a:path w="2109" h="2978">
                <a:moveTo>
                  <a:pt x="20166" y="15081"/>
                </a:moveTo>
                <a:cubicBezTo>
                  <a:pt x="20166" y="15139"/>
                  <a:pt x="20166" y="15197"/>
                  <a:pt x="20166" y="15255"/>
                </a:cubicBezTo>
                <a:cubicBezTo>
                  <a:pt x="20270" y="15255"/>
                  <a:pt x="20375" y="15264"/>
                  <a:pt x="20464" y="15230"/>
                </a:cubicBezTo>
              </a:path>
              <a:path w="2109" h="2978">
                <a:moveTo>
                  <a:pt x="20464" y="14957"/>
                </a:moveTo>
                <a:cubicBezTo>
                  <a:pt x="20436" y="15098"/>
                  <a:pt x="20439" y="15234"/>
                  <a:pt x="20439" y="15379"/>
                </a:cubicBezTo>
                <a:cubicBezTo>
                  <a:pt x="20439" y="15387"/>
                  <a:pt x="20439" y="15396"/>
                  <a:pt x="20439" y="15404"/>
                </a:cubicBezTo>
              </a:path>
              <a:path w="2109" h="2978">
                <a:moveTo>
                  <a:pt x="20712" y="15007"/>
                </a:moveTo>
                <a:cubicBezTo>
                  <a:pt x="20656" y="15100"/>
                  <a:pt x="20719" y="15109"/>
                  <a:pt x="20811" y="15156"/>
                </a:cubicBezTo>
                <a:cubicBezTo>
                  <a:pt x="20905" y="15204"/>
                  <a:pt x="21035" y="15291"/>
                  <a:pt x="20886" y="15379"/>
                </a:cubicBezTo>
                <a:cubicBezTo>
                  <a:pt x="20819" y="15401"/>
                  <a:pt x="20801" y="15413"/>
                  <a:pt x="20762" y="15379"/>
                </a:cubicBezTo>
              </a:path>
              <a:path w="2109" h="2978">
                <a:moveTo>
                  <a:pt x="20712" y="14957"/>
                </a:moveTo>
                <a:cubicBezTo>
                  <a:pt x="20759" y="14938"/>
                  <a:pt x="20999" y="14815"/>
                  <a:pt x="21034" y="14833"/>
                </a:cubicBezTo>
                <a:cubicBezTo>
                  <a:pt x="21034" y="14841"/>
                  <a:pt x="21034" y="14850"/>
                  <a:pt x="21034" y="14858"/>
                </a:cubicBezTo>
              </a:path>
              <a:path w="2109" h="2978">
                <a:moveTo>
                  <a:pt x="20786" y="15677"/>
                </a:moveTo>
                <a:cubicBezTo>
                  <a:pt x="20753" y="15659"/>
                  <a:pt x="20669" y="15779"/>
                  <a:pt x="20712" y="15850"/>
                </a:cubicBezTo>
                <a:cubicBezTo>
                  <a:pt x="20759" y="15928"/>
                  <a:pt x="20896" y="15886"/>
                  <a:pt x="20960" y="15875"/>
                </a:cubicBezTo>
              </a:path>
              <a:path w="2109" h="2978">
                <a:moveTo>
                  <a:pt x="21010" y="15652"/>
                </a:moveTo>
                <a:cubicBezTo>
                  <a:pt x="20985" y="15774"/>
                  <a:pt x="20985" y="15894"/>
                  <a:pt x="20985" y="16024"/>
                </a:cubicBezTo>
                <a:cubicBezTo>
                  <a:pt x="20985" y="16082"/>
                  <a:pt x="20985" y="16090"/>
                  <a:pt x="20985" y="16123"/>
                </a:cubicBezTo>
              </a:path>
              <a:path w="2109" h="2978">
                <a:moveTo>
                  <a:pt x="19248" y="16446"/>
                </a:moveTo>
                <a:cubicBezTo>
                  <a:pt x="19438" y="16479"/>
                  <a:pt x="19723" y="16421"/>
                  <a:pt x="19918" y="16396"/>
                </a:cubicBezTo>
                <a:cubicBezTo>
                  <a:pt x="20359" y="16339"/>
                  <a:pt x="20792" y="16227"/>
                  <a:pt x="21233" y="16173"/>
                </a:cubicBezTo>
                <a:cubicBezTo>
                  <a:pt x="21266" y="16173"/>
                  <a:pt x="21299" y="16173"/>
                  <a:pt x="21332" y="16173"/>
                </a:cubicBezTo>
              </a:path>
              <a:path w="2109" h="2978">
                <a:moveTo>
                  <a:pt x="21158" y="16619"/>
                </a:moveTo>
                <a:cubicBezTo>
                  <a:pt x="21085" y="16708"/>
                  <a:pt x="21016" y="16795"/>
                  <a:pt x="21034" y="16917"/>
                </a:cubicBezTo>
                <a:cubicBezTo>
                  <a:pt x="21042" y="16925"/>
                  <a:pt x="21051" y="16934"/>
                  <a:pt x="21059" y="16942"/>
                </a:cubicBezTo>
                <a:cubicBezTo>
                  <a:pt x="21174" y="16959"/>
                  <a:pt x="21303" y="16968"/>
                  <a:pt x="21332" y="16818"/>
                </a:cubicBezTo>
                <a:cubicBezTo>
                  <a:pt x="21358" y="16683"/>
                  <a:pt x="21258" y="16650"/>
                  <a:pt x="21158" y="16594"/>
                </a:cubicBezTo>
              </a:path>
              <a:path w="2109" h="2978">
                <a:moveTo>
                  <a:pt x="20290" y="14536"/>
                </a:moveTo>
                <a:cubicBezTo>
                  <a:pt x="20299" y="14505"/>
                  <a:pt x="20374" y="14379"/>
                  <a:pt x="20439" y="14436"/>
                </a:cubicBezTo>
                <a:cubicBezTo>
                  <a:pt x="20582" y="14561"/>
                  <a:pt x="20409" y="14757"/>
                  <a:pt x="20290" y="14808"/>
                </a:cubicBezTo>
                <a:cubicBezTo>
                  <a:pt x="20180" y="14855"/>
                  <a:pt x="20141" y="14851"/>
                  <a:pt x="20141" y="14759"/>
                </a:cubicBezTo>
                <a:cubicBezTo>
                  <a:pt x="20248" y="14759"/>
                  <a:pt x="20359" y="14799"/>
                  <a:pt x="20464" y="14784"/>
                </a:cubicBezTo>
                <a:cubicBezTo>
                  <a:pt x="20536" y="14760"/>
                  <a:pt x="20559" y="14753"/>
                  <a:pt x="20588" y="14709"/>
                </a:cubicBezTo>
              </a:path>
              <a:path w="2109" h="2978">
                <a:moveTo>
                  <a:pt x="20538" y="16644"/>
                </a:moveTo>
                <a:cubicBezTo>
                  <a:pt x="20555" y="16694"/>
                  <a:pt x="20474" y="16671"/>
                  <a:pt x="20414" y="16743"/>
                </a:cubicBezTo>
                <a:cubicBezTo>
                  <a:pt x="20364" y="16802"/>
                  <a:pt x="20415" y="16895"/>
                  <a:pt x="20464" y="16942"/>
                </a:cubicBezTo>
                <a:cubicBezTo>
                  <a:pt x="20531" y="17006"/>
                  <a:pt x="20567" y="17011"/>
                  <a:pt x="20613" y="17090"/>
                </a:cubicBezTo>
                <a:cubicBezTo>
                  <a:pt x="20572" y="17131"/>
                  <a:pt x="20531" y="17180"/>
                  <a:pt x="20464" y="17165"/>
                </a:cubicBezTo>
                <a:cubicBezTo>
                  <a:pt x="20333" y="17136"/>
                  <a:pt x="20459" y="16974"/>
                  <a:pt x="20489" y="16917"/>
                </a:cubicBezTo>
                <a:cubicBezTo>
                  <a:pt x="20508" y="16880"/>
                  <a:pt x="20617" y="16745"/>
                  <a:pt x="20588" y="16694"/>
                </a:cubicBezTo>
                <a:cubicBezTo>
                  <a:pt x="20558" y="16664"/>
                  <a:pt x="20547" y="16650"/>
                  <a:pt x="20538" y="16619"/>
                </a:cubicBezTo>
              </a:path>
              <a:path w="2109" h="2978">
                <a:moveTo>
                  <a:pt x="19224" y="14858"/>
                </a:moveTo>
                <a:cubicBezTo>
                  <a:pt x="19248" y="14920"/>
                  <a:pt x="19224" y="15045"/>
                  <a:pt x="19224" y="15131"/>
                </a:cubicBezTo>
                <a:cubicBezTo>
                  <a:pt x="19224" y="15156"/>
                  <a:pt x="19224" y="15164"/>
                  <a:pt x="19224" y="15180"/>
                </a:cubicBezTo>
              </a:path>
              <a:path w="2109" h="2978">
                <a:moveTo>
                  <a:pt x="19819" y="16867"/>
                </a:moveTo>
                <a:cubicBezTo>
                  <a:pt x="19841" y="16800"/>
                  <a:pt x="19775" y="16875"/>
                  <a:pt x="19720" y="16917"/>
                </a:cubicBezTo>
                <a:cubicBezTo>
                  <a:pt x="19666" y="16958"/>
                  <a:pt x="19678" y="16945"/>
                  <a:pt x="19645" y="17016"/>
                </a:cubicBezTo>
                <a:cubicBezTo>
                  <a:pt x="19626" y="17057"/>
                  <a:pt x="19618" y="17063"/>
                  <a:pt x="19621" y="17090"/>
                </a:cubicBezTo>
                <a:cubicBezTo>
                  <a:pt x="19683" y="17106"/>
                  <a:pt x="19719" y="17115"/>
                  <a:pt x="19794" y="17115"/>
                </a:cubicBezTo>
                <a:cubicBezTo>
                  <a:pt x="19949" y="17115"/>
                  <a:pt x="19847" y="17280"/>
                  <a:pt x="19794" y="17338"/>
                </a:cubicBezTo>
                <a:cubicBezTo>
                  <a:pt x="19703" y="17437"/>
                  <a:pt x="19642" y="17400"/>
                  <a:pt x="19546" y="173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10120" y="5607000"/>
            <a:ext cx="106560" cy="28800"/>
          </a:xfrm>
          <a:custGeom>
            <a:avLst/>
            <a:gdLst/>
            <a:ahLst/>
            <a:rect l="l" t="t" r="r" b="b"/>
            <a:pathLst>
              <a:path w="299" h="76">
                <a:moveTo>
                  <a:pt x="13915" y="15652"/>
                </a:moveTo>
                <a:cubicBezTo>
                  <a:pt x="14015" y="15628"/>
                  <a:pt x="14114" y="15606"/>
                  <a:pt x="14213" y="155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67160" y="6831000"/>
            <a:ext cx="71640" cy="19080"/>
          </a:xfrm>
          <a:custGeom>
            <a:avLst/>
            <a:gdLst/>
            <a:ahLst/>
            <a:rect l="l" t="t" r="r" b="b"/>
            <a:pathLst>
              <a:path w="200" h="50">
                <a:moveTo>
                  <a:pt x="12129" y="19025"/>
                </a:moveTo>
                <a:cubicBezTo>
                  <a:pt x="12129" y="19017"/>
                  <a:pt x="12129" y="19008"/>
                  <a:pt x="12129" y="19000"/>
                </a:cubicBezTo>
                <a:cubicBezTo>
                  <a:pt x="12179" y="19000"/>
                  <a:pt x="12228" y="19000"/>
                  <a:pt x="12278" y="19000"/>
                </a:cubicBezTo>
              </a:path>
              <a:path w="200" h="50">
                <a:moveTo>
                  <a:pt x="12254" y="18976"/>
                </a:moveTo>
                <a:cubicBezTo>
                  <a:pt x="12295" y="18976"/>
                  <a:pt x="12303" y="18976"/>
                  <a:pt x="12328" y="189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3240" y="5589720"/>
            <a:ext cx="2527560" cy="1233360"/>
          </a:xfrm>
          <a:custGeom>
            <a:avLst/>
            <a:gdLst/>
            <a:ahLst/>
            <a:rect l="l" t="t" r="r" b="b"/>
            <a:pathLst>
              <a:path w="7021" h="3424">
                <a:moveTo>
                  <a:pt x="10691" y="15627"/>
                </a:moveTo>
                <a:cubicBezTo>
                  <a:pt x="10700" y="15802"/>
                  <a:pt x="10716" y="15972"/>
                  <a:pt x="10716" y="16148"/>
                </a:cubicBezTo>
                <a:cubicBezTo>
                  <a:pt x="10734" y="16073"/>
                  <a:pt x="10741" y="16061"/>
                  <a:pt x="10765" y="15949"/>
                </a:cubicBezTo>
              </a:path>
              <a:path w="7021" h="3424">
                <a:moveTo>
                  <a:pt x="10790" y="15701"/>
                </a:moveTo>
                <a:cubicBezTo>
                  <a:pt x="10907" y="15687"/>
                  <a:pt x="11020" y="15660"/>
                  <a:pt x="11137" y="15652"/>
                </a:cubicBezTo>
                <a:cubicBezTo>
                  <a:pt x="11197" y="15790"/>
                  <a:pt x="11139" y="15904"/>
                  <a:pt x="11112" y="16049"/>
                </a:cubicBezTo>
                <a:cubicBezTo>
                  <a:pt x="11112" y="16093"/>
                  <a:pt x="11109" y="16113"/>
                  <a:pt x="11137" y="16073"/>
                </a:cubicBezTo>
              </a:path>
              <a:path w="7021" h="3424">
                <a:moveTo>
                  <a:pt x="11485" y="15677"/>
                </a:moveTo>
                <a:cubicBezTo>
                  <a:pt x="11365" y="15652"/>
                  <a:pt x="11336" y="15918"/>
                  <a:pt x="11336" y="16024"/>
                </a:cubicBezTo>
                <a:cubicBezTo>
                  <a:pt x="11344" y="16057"/>
                  <a:pt x="11353" y="16090"/>
                  <a:pt x="11361" y="16123"/>
                </a:cubicBezTo>
                <a:cubicBezTo>
                  <a:pt x="11526" y="16149"/>
                  <a:pt x="11661" y="16103"/>
                  <a:pt x="11683" y="15900"/>
                </a:cubicBezTo>
                <a:cubicBezTo>
                  <a:pt x="11688" y="15858"/>
                  <a:pt x="11592" y="15634"/>
                  <a:pt x="11509" y="15701"/>
                </a:cubicBezTo>
                <a:cubicBezTo>
                  <a:pt x="11509" y="15709"/>
                  <a:pt x="11509" y="15718"/>
                  <a:pt x="11509" y="15726"/>
                </a:cubicBezTo>
              </a:path>
              <a:path w="7021" h="3424">
                <a:moveTo>
                  <a:pt x="8285" y="15999"/>
                </a:moveTo>
                <a:cubicBezTo>
                  <a:pt x="8229" y="15980"/>
                  <a:pt x="8283" y="16218"/>
                  <a:pt x="8285" y="16297"/>
                </a:cubicBezTo>
                <a:cubicBezTo>
                  <a:pt x="8285" y="16391"/>
                  <a:pt x="8306" y="16412"/>
                  <a:pt x="8260" y="16446"/>
                </a:cubicBezTo>
                <a:cubicBezTo>
                  <a:pt x="8260" y="16380"/>
                  <a:pt x="8270" y="16351"/>
                  <a:pt x="8285" y="16272"/>
                </a:cubicBezTo>
              </a:path>
              <a:path w="7021" h="3424">
                <a:moveTo>
                  <a:pt x="8508" y="15999"/>
                </a:moveTo>
                <a:cubicBezTo>
                  <a:pt x="8508" y="16065"/>
                  <a:pt x="8508" y="16131"/>
                  <a:pt x="8508" y="16197"/>
                </a:cubicBezTo>
                <a:cubicBezTo>
                  <a:pt x="8595" y="16197"/>
                  <a:pt x="8653" y="16162"/>
                  <a:pt x="8731" y="16123"/>
                </a:cubicBezTo>
                <a:cubicBezTo>
                  <a:pt x="8794" y="16091"/>
                  <a:pt x="8774" y="16077"/>
                  <a:pt x="8806" y="16024"/>
                </a:cubicBezTo>
              </a:path>
              <a:path w="7021" h="3424">
                <a:moveTo>
                  <a:pt x="8781" y="15875"/>
                </a:moveTo>
                <a:cubicBezTo>
                  <a:pt x="8816" y="16034"/>
                  <a:pt x="8856" y="16207"/>
                  <a:pt x="8830" y="16371"/>
                </a:cubicBezTo>
                <a:cubicBezTo>
                  <a:pt x="8822" y="16388"/>
                  <a:pt x="8814" y="16404"/>
                  <a:pt x="8806" y="16421"/>
                </a:cubicBezTo>
              </a:path>
              <a:path w="7021" h="3424">
                <a:moveTo>
                  <a:pt x="9029" y="16222"/>
                </a:moveTo>
                <a:cubicBezTo>
                  <a:pt x="9037" y="16241"/>
                  <a:pt x="9054" y="16329"/>
                  <a:pt x="9054" y="16272"/>
                </a:cubicBezTo>
              </a:path>
              <a:path w="7021" h="3424">
                <a:moveTo>
                  <a:pt x="9475" y="15801"/>
                </a:moveTo>
                <a:cubicBezTo>
                  <a:pt x="9395" y="15852"/>
                  <a:pt x="9344" y="15853"/>
                  <a:pt x="9327" y="15925"/>
                </a:cubicBezTo>
                <a:cubicBezTo>
                  <a:pt x="9306" y="16009"/>
                  <a:pt x="9290" y="16028"/>
                  <a:pt x="9327" y="16073"/>
                </a:cubicBezTo>
                <a:cubicBezTo>
                  <a:pt x="9412" y="16056"/>
                  <a:pt x="9486" y="15995"/>
                  <a:pt x="9575" y="16049"/>
                </a:cubicBezTo>
                <a:cubicBezTo>
                  <a:pt x="9710" y="16131"/>
                  <a:pt x="9642" y="16268"/>
                  <a:pt x="9500" y="16272"/>
                </a:cubicBezTo>
                <a:cubicBezTo>
                  <a:pt x="9416" y="16251"/>
                  <a:pt x="9397" y="16249"/>
                  <a:pt x="9351" y="16222"/>
                </a:cubicBezTo>
              </a:path>
              <a:path w="7021" h="3424">
                <a:moveTo>
                  <a:pt x="9103" y="16297"/>
                </a:moveTo>
                <a:cubicBezTo>
                  <a:pt x="9103" y="16365"/>
                  <a:pt x="9148" y="16460"/>
                  <a:pt x="9227" y="16470"/>
                </a:cubicBezTo>
                <a:cubicBezTo>
                  <a:pt x="9346" y="16486"/>
                  <a:pt x="9525" y="16373"/>
                  <a:pt x="9575" y="16272"/>
                </a:cubicBezTo>
                <a:cubicBezTo>
                  <a:pt x="9575" y="16264"/>
                  <a:pt x="9575" y="16255"/>
                  <a:pt x="9575" y="16247"/>
                </a:cubicBezTo>
              </a:path>
              <a:path w="7021" h="3424">
                <a:moveTo>
                  <a:pt x="11633" y="16371"/>
                </a:moveTo>
                <a:cubicBezTo>
                  <a:pt x="11555" y="16371"/>
                  <a:pt x="11507" y="16405"/>
                  <a:pt x="11435" y="16421"/>
                </a:cubicBezTo>
                <a:cubicBezTo>
                  <a:pt x="11435" y="16479"/>
                  <a:pt x="11435" y="16536"/>
                  <a:pt x="11435" y="16594"/>
                </a:cubicBezTo>
                <a:cubicBezTo>
                  <a:pt x="11504" y="16588"/>
                  <a:pt x="11577" y="16550"/>
                  <a:pt x="11633" y="16594"/>
                </a:cubicBezTo>
                <a:cubicBezTo>
                  <a:pt x="11692" y="16641"/>
                  <a:pt x="11639" y="16718"/>
                  <a:pt x="11609" y="16768"/>
                </a:cubicBezTo>
                <a:cubicBezTo>
                  <a:pt x="11552" y="16862"/>
                  <a:pt x="11519" y="16884"/>
                  <a:pt x="11410" y="16892"/>
                </a:cubicBezTo>
                <a:cubicBezTo>
                  <a:pt x="11402" y="16892"/>
                  <a:pt x="11393" y="16892"/>
                  <a:pt x="11385" y="16892"/>
                </a:cubicBezTo>
              </a:path>
              <a:path w="7021" h="3424">
                <a:moveTo>
                  <a:pt x="10964" y="16470"/>
                </a:moveTo>
                <a:cubicBezTo>
                  <a:pt x="10991" y="16465"/>
                  <a:pt x="11082" y="16421"/>
                  <a:pt x="11112" y="16446"/>
                </a:cubicBezTo>
                <a:cubicBezTo>
                  <a:pt x="11175" y="16498"/>
                  <a:pt x="11169" y="16616"/>
                  <a:pt x="11112" y="16669"/>
                </a:cubicBezTo>
                <a:cubicBezTo>
                  <a:pt x="11072" y="16689"/>
                  <a:pt x="11066" y="16698"/>
                  <a:pt x="11038" y="16694"/>
                </a:cubicBezTo>
                <a:cubicBezTo>
                  <a:pt x="11100" y="16679"/>
                  <a:pt x="11146" y="16644"/>
                  <a:pt x="11212" y="16694"/>
                </a:cubicBezTo>
                <a:cubicBezTo>
                  <a:pt x="11290" y="16754"/>
                  <a:pt x="11284" y="16847"/>
                  <a:pt x="11212" y="16892"/>
                </a:cubicBezTo>
                <a:cubicBezTo>
                  <a:pt x="11138" y="16938"/>
                  <a:pt x="11102" y="16938"/>
                  <a:pt x="11038" y="16917"/>
                </a:cubicBezTo>
                <a:cubicBezTo>
                  <a:pt x="11013" y="16917"/>
                  <a:pt x="11005" y="16917"/>
                  <a:pt x="11013" y="16892"/>
                </a:cubicBezTo>
              </a:path>
              <a:path w="7021" h="3424">
                <a:moveTo>
                  <a:pt x="10592" y="16495"/>
                </a:moveTo>
                <a:cubicBezTo>
                  <a:pt x="10592" y="16539"/>
                  <a:pt x="10540" y="16642"/>
                  <a:pt x="10567" y="16669"/>
                </a:cubicBezTo>
                <a:cubicBezTo>
                  <a:pt x="10579" y="16681"/>
                  <a:pt x="10759" y="16715"/>
                  <a:pt x="10765" y="16694"/>
                </a:cubicBezTo>
                <a:cubicBezTo>
                  <a:pt x="10765" y="16669"/>
                  <a:pt x="10765" y="16644"/>
                  <a:pt x="10765" y="16619"/>
                </a:cubicBezTo>
              </a:path>
              <a:path w="7021" h="3424">
                <a:moveTo>
                  <a:pt x="10716" y="16421"/>
                </a:moveTo>
                <a:cubicBezTo>
                  <a:pt x="10716" y="16547"/>
                  <a:pt x="10737" y="16666"/>
                  <a:pt x="10740" y="16793"/>
                </a:cubicBezTo>
                <a:cubicBezTo>
                  <a:pt x="10742" y="16881"/>
                  <a:pt x="10746" y="16942"/>
                  <a:pt x="10765" y="17016"/>
                </a:cubicBezTo>
              </a:path>
              <a:path w="7021" h="3424">
                <a:moveTo>
                  <a:pt x="10195" y="17264"/>
                </a:moveTo>
                <a:cubicBezTo>
                  <a:pt x="10370" y="17200"/>
                  <a:pt x="10525" y="17163"/>
                  <a:pt x="10716" y="17140"/>
                </a:cubicBezTo>
                <a:cubicBezTo>
                  <a:pt x="11047" y="17100"/>
                  <a:pt x="11359" y="17071"/>
                  <a:pt x="11683" y="16991"/>
                </a:cubicBezTo>
                <a:cubicBezTo>
                  <a:pt x="11741" y="16977"/>
                  <a:pt x="11802" y="16959"/>
                  <a:pt x="11857" y="16942"/>
                </a:cubicBezTo>
              </a:path>
              <a:path w="7021" h="3424">
                <a:moveTo>
                  <a:pt x="9996" y="16842"/>
                </a:moveTo>
                <a:cubicBezTo>
                  <a:pt x="10054" y="16821"/>
                  <a:pt x="10082" y="16818"/>
                  <a:pt x="10145" y="16818"/>
                </a:cubicBezTo>
              </a:path>
              <a:path w="7021" h="3424">
                <a:moveTo>
                  <a:pt x="11187" y="17289"/>
                </a:moveTo>
                <a:cubicBezTo>
                  <a:pt x="11268" y="17267"/>
                  <a:pt x="11321" y="17242"/>
                  <a:pt x="11385" y="17264"/>
                </a:cubicBezTo>
                <a:cubicBezTo>
                  <a:pt x="11412" y="17345"/>
                  <a:pt x="11375" y="17374"/>
                  <a:pt x="11311" y="17438"/>
                </a:cubicBezTo>
                <a:cubicBezTo>
                  <a:pt x="11384" y="17447"/>
                  <a:pt x="11493" y="17494"/>
                  <a:pt x="11410" y="17587"/>
                </a:cubicBezTo>
                <a:cubicBezTo>
                  <a:pt x="11347" y="17658"/>
                  <a:pt x="11251" y="17671"/>
                  <a:pt x="11237" y="17587"/>
                </a:cubicBezTo>
              </a:path>
              <a:path w="7021" h="3424">
                <a:moveTo>
                  <a:pt x="11807" y="17190"/>
                </a:moveTo>
                <a:cubicBezTo>
                  <a:pt x="11721" y="17218"/>
                  <a:pt x="11666" y="17190"/>
                  <a:pt x="11658" y="17289"/>
                </a:cubicBezTo>
                <a:cubicBezTo>
                  <a:pt x="11653" y="17353"/>
                  <a:pt x="11671" y="17360"/>
                  <a:pt x="11733" y="17363"/>
                </a:cubicBezTo>
                <a:cubicBezTo>
                  <a:pt x="11809" y="17366"/>
                  <a:pt x="11928" y="17324"/>
                  <a:pt x="11956" y="17413"/>
                </a:cubicBezTo>
                <a:cubicBezTo>
                  <a:pt x="11979" y="17486"/>
                  <a:pt x="11865" y="17550"/>
                  <a:pt x="11807" y="17562"/>
                </a:cubicBezTo>
                <a:cubicBezTo>
                  <a:pt x="11764" y="17571"/>
                  <a:pt x="11703" y="17562"/>
                  <a:pt x="11658" y="17562"/>
                </a:cubicBezTo>
              </a:path>
              <a:path w="7021" h="3424">
                <a:moveTo>
                  <a:pt x="12303" y="16446"/>
                </a:moveTo>
                <a:cubicBezTo>
                  <a:pt x="12303" y="16438"/>
                  <a:pt x="12303" y="16429"/>
                  <a:pt x="12303" y="16421"/>
                </a:cubicBezTo>
                <a:cubicBezTo>
                  <a:pt x="12272" y="16467"/>
                  <a:pt x="12320" y="16652"/>
                  <a:pt x="12328" y="16743"/>
                </a:cubicBezTo>
                <a:cubicBezTo>
                  <a:pt x="12333" y="16800"/>
                  <a:pt x="12307" y="16852"/>
                  <a:pt x="12353" y="16867"/>
                </a:cubicBezTo>
              </a:path>
              <a:path w="7021" h="3424">
                <a:moveTo>
                  <a:pt x="12229" y="16917"/>
                </a:moveTo>
                <a:cubicBezTo>
                  <a:pt x="12256" y="16930"/>
                  <a:pt x="12282" y="16991"/>
                  <a:pt x="12328" y="16966"/>
                </a:cubicBezTo>
                <a:cubicBezTo>
                  <a:pt x="12393" y="16932"/>
                  <a:pt x="12439" y="16849"/>
                  <a:pt x="12502" y="16818"/>
                </a:cubicBezTo>
                <a:cubicBezTo>
                  <a:pt x="12526" y="16818"/>
                  <a:pt x="12535" y="16818"/>
                  <a:pt x="12551" y="16818"/>
                </a:cubicBezTo>
              </a:path>
              <a:path w="7021" h="3424">
                <a:moveTo>
                  <a:pt x="12427" y="17289"/>
                </a:moveTo>
                <a:cubicBezTo>
                  <a:pt x="12465" y="17194"/>
                  <a:pt x="12388" y="17214"/>
                  <a:pt x="12303" y="17214"/>
                </a:cubicBezTo>
                <a:cubicBezTo>
                  <a:pt x="12245" y="17214"/>
                  <a:pt x="12237" y="17214"/>
                  <a:pt x="12204" y="17214"/>
                </a:cubicBezTo>
                <a:cubicBezTo>
                  <a:pt x="12145" y="17312"/>
                  <a:pt x="12235" y="17346"/>
                  <a:pt x="12328" y="17388"/>
                </a:cubicBezTo>
                <a:cubicBezTo>
                  <a:pt x="12419" y="17429"/>
                  <a:pt x="12452" y="17408"/>
                  <a:pt x="12452" y="17512"/>
                </a:cubicBezTo>
                <a:cubicBezTo>
                  <a:pt x="12369" y="17568"/>
                  <a:pt x="12337" y="17568"/>
                  <a:pt x="12254" y="17512"/>
                </a:cubicBezTo>
                <a:cubicBezTo>
                  <a:pt x="12277" y="17387"/>
                  <a:pt x="12335" y="17372"/>
                  <a:pt x="12402" y="17264"/>
                </a:cubicBezTo>
                <a:cubicBezTo>
                  <a:pt x="12402" y="17256"/>
                  <a:pt x="12402" y="17247"/>
                  <a:pt x="12402" y="17239"/>
                </a:cubicBezTo>
              </a:path>
              <a:path w="7021" h="3424">
                <a:moveTo>
                  <a:pt x="13171" y="15726"/>
                </a:moveTo>
                <a:cubicBezTo>
                  <a:pt x="13171" y="15685"/>
                  <a:pt x="13192" y="15576"/>
                  <a:pt x="13146" y="15553"/>
                </a:cubicBezTo>
                <a:cubicBezTo>
                  <a:pt x="12952" y="15456"/>
                  <a:pt x="12862" y="15692"/>
                  <a:pt x="12874" y="15850"/>
                </a:cubicBezTo>
                <a:cubicBezTo>
                  <a:pt x="12891" y="16068"/>
                  <a:pt x="13114" y="16110"/>
                  <a:pt x="13221" y="15925"/>
                </a:cubicBezTo>
                <a:cubicBezTo>
                  <a:pt x="13268" y="15844"/>
                  <a:pt x="13304" y="15669"/>
                  <a:pt x="13171" y="15726"/>
                </a:cubicBezTo>
              </a:path>
              <a:path w="7021" h="3424">
                <a:moveTo>
                  <a:pt x="13122" y="16073"/>
                </a:moveTo>
                <a:cubicBezTo>
                  <a:pt x="13106" y="16168"/>
                  <a:pt x="13097" y="16246"/>
                  <a:pt x="13097" y="16346"/>
                </a:cubicBezTo>
                <a:cubicBezTo>
                  <a:pt x="13097" y="16596"/>
                  <a:pt x="13095" y="16845"/>
                  <a:pt x="13122" y="17090"/>
                </a:cubicBezTo>
                <a:cubicBezTo>
                  <a:pt x="13135" y="17203"/>
                  <a:pt x="13101" y="17303"/>
                  <a:pt x="13097" y="17413"/>
                </a:cubicBezTo>
                <a:cubicBezTo>
                  <a:pt x="13094" y="17487"/>
                  <a:pt x="13097" y="17562"/>
                  <a:pt x="13097" y="17636"/>
                </a:cubicBezTo>
              </a:path>
              <a:path w="7021" h="3424">
                <a:moveTo>
                  <a:pt x="12998" y="18207"/>
                </a:moveTo>
                <a:cubicBezTo>
                  <a:pt x="12915" y="18256"/>
                  <a:pt x="12885" y="18332"/>
                  <a:pt x="12874" y="18430"/>
                </a:cubicBezTo>
                <a:cubicBezTo>
                  <a:pt x="12874" y="18458"/>
                  <a:pt x="12876" y="18468"/>
                  <a:pt x="12898" y="18479"/>
                </a:cubicBezTo>
                <a:cubicBezTo>
                  <a:pt x="13027" y="18469"/>
                  <a:pt x="13079" y="18439"/>
                  <a:pt x="13122" y="18306"/>
                </a:cubicBezTo>
                <a:cubicBezTo>
                  <a:pt x="13151" y="18217"/>
                  <a:pt x="13070" y="18211"/>
                  <a:pt x="13022" y="18182"/>
                </a:cubicBezTo>
              </a:path>
              <a:path w="7021" h="3424">
                <a:moveTo>
                  <a:pt x="12328" y="18678"/>
                </a:moveTo>
                <a:cubicBezTo>
                  <a:pt x="12284" y="18678"/>
                  <a:pt x="12233" y="18662"/>
                  <a:pt x="12204" y="18703"/>
                </a:cubicBezTo>
                <a:cubicBezTo>
                  <a:pt x="12184" y="18743"/>
                  <a:pt x="12175" y="18749"/>
                  <a:pt x="12179" y="18777"/>
                </a:cubicBezTo>
                <a:cubicBezTo>
                  <a:pt x="12251" y="18777"/>
                  <a:pt x="12323" y="18750"/>
                  <a:pt x="12353" y="18827"/>
                </a:cubicBezTo>
                <a:cubicBezTo>
                  <a:pt x="12361" y="18860"/>
                  <a:pt x="12370" y="18893"/>
                  <a:pt x="12378" y="18926"/>
                </a:cubicBezTo>
              </a:path>
              <a:path w="7021" h="3424">
                <a:moveTo>
                  <a:pt x="12750" y="18678"/>
                </a:moveTo>
                <a:cubicBezTo>
                  <a:pt x="12709" y="18678"/>
                  <a:pt x="12623" y="18689"/>
                  <a:pt x="12601" y="18728"/>
                </a:cubicBezTo>
                <a:cubicBezTo>
                  <a:pt x="12601" y="18769"/>
                  <a:pt x="12601" y="18777"/>
                  <a:pt x="12601" y="18802"/>
                </a:cubicBezTo>
                <a:cubicBezTo>
                  <a:pt x="12650" y="18806"/>
                  <a:pt x="12745" y="18794"/>
                  <a:pt x="12750" y="18852"/>
                </a:cubicBezTo>
                <a:cubicBezTo>
                  <a:pt x="12750" y="18896"/>
                  <a:pt x="12753" y="18910"/>
                  <a:pt x="12725" y="18926"/>
                </a:cubicBezTo>
              </a:path>
              <a:path w="7021" h="3424">
                <a:moveTo>
                  <a:pt x="12675" y="18951"/>
                </a:moveTo>
                <a:cubicBezTo>
                  <a:pt x="12690" y="18877"/>
                  <a:pt x="12747" y="18818"/>
                  <a:pt x="12774" y="18752"/>
                </a:cubicBezTo>
                <a:cubicBezTo>
                  <a:pt x="12774" y="18744"/>
                  <a:pt x="12774" y="18736"/>
                  <a:pt x="12774" y="18728"/>
                </a:cubicBezTo>
              </a:path>
              <a:path w="7021" h="3424">
                <a:moveTo>
                  <a:pt x="13097" y="18653"/>
                </a:moveTo>
                <a:cubicBezTo>
                  <a:pt x="13080" y="18674"/>
                  <a:pt x="12992" y="18797"/>
                  <a:pt x="13097" y="18752"/>
                </a:cubicBezTo>
                <a:cubicBezTo>
                  <a:pt x="13239" y="18692"/>
                  <a:pt x="13154" y="18687"/>
                  <a:pt x="13097" y="18653"/>
                </a:cubicBezTo>
              </a:path>
              <a:path w="7021" h="3424">
                <a:moveTo>
                  <a:pt x="13494" y="15577"/>
                </a:moveTo>
                <a:cubicBezTo>
                  <a:pt x="13468" y="15705"/>
                  <a:pt x="13420" y="15810"/>
                  <a:pt x="13469" y="15949"/>
                </a:cubicBezTo>
                <a:cubicBezTo>
                  <a:pt x="13486" y="15966"/>
                  <a:pt x="13502" y="15982"/>
                  <a:pt x="13519" y="15999"/>
                </a:cubicBezTo>
                <a:cubicBezTo>
                  <a:pt x="13632" y="15964"/>
                  <a:pt x="13846" y="15793"/>
                  <a:pt x="13742" y="15627"/>
                </a:cubicBezTo>
                <a:cubicBezTo>
                  <a:pt x="13677" y="15523"/>
                  <a:pt x="13533" y="15733"/>
                  <a:pt x="13519" y="15751"/>
                </a:cubicBezTo>
              </a:path>
              <a:path w="7021" h="3424">
                <a:moveTo>
                  <a:pt x="13643" y="15974"/>
                </a:moveTo>
                <a:cubicBezTo>
                  <a:pt x="13691" y="16054"/>
                  <a:pt x="13748" y="16136"/>
                  <a:pt x="13791" y="16222"/>
                </a:cubicBezTo>
                <a:cubicBezTo>
                  <a:pt x="13836" y="16311"/>
                  <a:pt x="13892" y="16415"/>
                  <a:pt x="13940" y="16495"/>
                </a:cubicBezTo>
                <a:cubicBezTo>
                  <a:pt x="13980" y="16562"/>
                  <a:pt x="14005" y="16626"/>
                  <a:pt x="14039" y="16694"/>
                </a:cubicBezTo>
                <a:cubicBezTo>
                  <a:pt x="14075" y="16765"/>
                  <a:pt x="14173" y="16841"/>
                  <a:pt x="14238" y="16892"/>
                </a:cubicBezTo>
                <a:cubicBezTo>
                  <a:pt x="14357" y="16986"/>
                  <a:pt x="14431" y="17062"/>
                  <a:pt x="14511" y="17190"/>
                </a:cubicBezTo>
                <a:cubicBezTo>
                  <a:pt x="14574" y="17290"/>
                  <a:pt x="14658" y="17397"/>
                  <a:pt x="14734" y="17487"/>
                </a:cubicBezTo>
                <a:cubicBezTo>
                  <a:pt x="14818" y="17586"/>
                  <a:pt x="14905" y="17679"/>
                  <a:pt x="14982" y="17785"/>
                </a:cubicBezTo>
                <a:cubicBezTo>
                  <a:pt x="15039" y="17864"/>
                  <a:pt x="15088" y="17950"/>
                  <a:pt x="15131" y="18033"/>
                </a:cubicBezTo>
                <a:cubicBezTo>
                  <a:pt x="15151" y="18073"/>
                  <a:pt x="15160" y="18080"/>
                  <a:pt x="15156" y="18107"/>
                </a:cubicBezTo>
              </a:path>
              <a:path w="7021" h="3424">
                <a:moveTo>
                  <a:pt x="15205" y="18207"/>
                </a:moveTo>
                <a:cubicBezTo>
                  <a:pt x="15159" y="18214"/>
                  <a:pt x="15113" y="18249"/>
                  <a:pt x="15081" y="18306"/>
                </a:cubicBezTo>
                <a:cubicBezTo>
                  <a:pt x="15038" y="18385"/>
                  <a:pt x="15059" y="18425"/>
                  <a:pt x="15081" y="18504"/>
                </a:cubicBezTo>
                <a:cubicBezTo>
                  <a:pt x="15190" y="18490"/>
                  <a:pt x="15275" y="18432"/>
                  <a:pt x="15280" y="18306"/>
                </a:cubicBezTo>
                <a:cubicBezTo>
                  <a:pt x="15283" y="18240"/>
                  <a:pt x="15201" y="18210"/>
                  <a:pt x="15156" y="18207"/>
                </a:cubicBezTo>
                <a:cubicBezTo>
                  <a:pt x="15139" y="18207"/>
                  <a:pt x="15123" y="18207"/>
                  <a:pt x="15106" y="182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95920" y="6653160"/>
            <a:ext cx="71280" cy="150840"/>
          </a:xfrm>
          <a:custGeom>
            <a:avLst/>
            <a:gdLst/>
            <a:ahLst/>
            <a:rect l="l" t="t" r="r" b="b"/>
            <a:pathLst>
              <a:path w="200" h="423">
                <a:moveTo>
                  <a:pt x="13519" y="18479"/>
                </a:moveTo>
                <a:cubicBezTo>
                  <a:pt x="13502" y="18666"/>
                  <a:pt x="13431" y="18753"/>
                  <a:pt x="13320" y="189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7760" y="6107040"/>
            <a:ext cx="660240" cy="590760"/>
          </a:xfrm>
          <a:custGeom>
            <a:avLst/>
            <a:gdLst/>
            <a:ahLst/>
            <a:rect l="l" t="t" r="r" b="b"/>
            <a:pathLst>
              <a:path w="1836" h="1639">
                <a:moveTo>
                  <a:pt x="11286" y="17760"/>
                </a:moveTo>
                <a:cubicBezTo>
                  <a:pt x="11369" y="17746"/>
                  <a:pt x="11451" y="17686"/>
                  <a:pt x="11485" y="17810"/>
                </a:cubicBezTo>
                <a:cubicBezTo>
                  <a:pt x="11526" y="17957"/>
                  <a:pt x="11405" y="18056"/>
                  <a:pt x="11286" y="18083"/>
                </a:cubicBezTo>
                <a:cubicBezTo>
                  <a:pt x="11246" y="17975"/>
                  <a:pt x="11256" y="17956"/>
                  <a:pt x="11385" y="17934"/>
                </a:cubicBezTo>
                <a:cubicBezTo>
                  <a:pt x="11495" y="17915"/>
                  <a:pt x="11457" y="18014"/>
                  <a:pt x="11584" y="17959"/>
                </a:cubicBezTo>
                <a:cubicBezTo>
                  <a:pt x="11617" y="17942"/>
                  <a:pt x="11650" y="17926"/>
                  <a:pt x="11683" y="17909"/>
                </a:cubicBezTo>
              </a:path>
              <a:path w="1836" h="1639">
                <a:moveTo>
                  <a:pt x="11906" y="17760"/>
                </a:moveTo>
                <a:cubicBezTo>
                  <a:pt x="11844" y="17697"/>
                  <a:pt x="11743" y="17760"/>
                  <a:pt x="11683" y="17835"/>
                </a:cubicBezTo>
                <a:cubicBezTo>
                  <a:pt x="11683" y="17843"/>
                  <a:pt x="11683" y="17851"/>
                  <a:pt x="11683" y="17859"/>
                </a:cubicBezTo>
                <a:cubicBezTo>
                  <a:pt x="11786" y="17843"/>
                  <a:pt x="11834" y="17796"/>
                  <a:pt x="11906" y="17760"/>
                </a:cubicBezTo>
                <a:cubicBezTo>
                  <a:pt x="11915" y="17853"/>
                  <a:pt x="11931" y="17938"/>
                  <a:pt x="11931" y="18033"/>
                </a:cubicBezTo>
              </a:path>
              <a:path w="1836" h="1639">
                <a:moveTo>
                  <a:pt x="12278" y="17735"/>
                </a:moveTo>
                <a:cubicBezTo>
                  <a:pt x="12187" y="17791"/>
                  <a:pt x="12184" y="17860"/>
                  <a:pt x="12204" y="17959"/>
                </a:cubicBezTo>
                <a:cubicBezTo>
                  <a:pt x="12309" y="17979"/>
                  <a:pt x="12446" y="17958"/>
                  <a:pt x="12452" y="17810"/>
                </a:cubicBezTo>
                <a:cubicBezTo>
                  <a:pt x="12424" y="17755"/>
                  <a:pt x="12410" y="17738"/>
                  <a:pt x="12353" y="17760"/>
                </a:cubicBezTo>
              </a:path>
              <a:path w="1836" h="1639">
                <a:moveTo>
                  <a:pt x="11187" y="18256"/>
                </a:moveTo>
                <a:cubicBezTo>
                  <a:pt x="11366" y="18240"/>
                  <a:pt x="11558" y="18210"/>
                  <a:pt x="11733" y="18182"/>
                </a:cubicBezTo>
                <a:cubicBezTo>
                  <a:pt x="11941" y="18149"/>
                  <a:pt x="12143" y="18097"/>
                  <a:pt x="12353" y="18083"/>
                </a:cubicBezTo>
              </a:path>
              <a:path w="1836" h="1639">
                <a:moveTo>
                  <a:pt x="12402" y="18207"/>
                </a:moveTo>
                <a:cubicBezTo>
                  <a:pt x="12328" y="18207"/>
                  <a:pt x="12315" y="18247"/>
                  <a:pt x="12278" y="18306"/>
                </a:cubicBezTo>
                <a:cubicBezTo>
                  <a:pt x="12315" y="18335"/>
                  <a:pt x="12489" y="18405"/>
                  <a:pt x="12502" y="18430"/>
                </a:cubicBezTo>
                <a:cubicBezTo>
                  <a:pt x="12535" y="18495"/>
                  <a:pt x="12488" y="18524"/>
                  <a:pt x="12452" y="18554"/>
                </a:cubicBezTo>
                <a:cubicBezTo>
                  <a:pt x="12378" y="18499"/>
                  <a:pt x="12409" y="18456"/>
                  <a:pt x="12452" y="18380"/>
                </a:cubicBezTo>
                <a:cubicBezTo>
                  <a:pt x="12457" y="18371"/>
                  <a:pt x="12551" y="18260"/>
                  <a:pt x="12551" y="18256"/>
                </a:cubicBezTo>
                <a:cubicBezTo>
                  <a:pt x="12529" y="18234"/>
                  <a:pt x="12524" y="18225"/>
                  <a:pt x="12502" y="18231"/>
                </a:cubicBezTo>
              </a:path>
              <a:path w="1836" h="1639">
                <a:moveTo>
                  <a:pt x="11112" y="17289"/>
                </a:moveTo>
                <a:cubicBezTo>
                  <a:pt x="11234" y="17258"/>
                  <a:pt x="11271" y="17356"/>
                  <a:pt x="11336" y="17462"/>
                </a:cubicBezTo>
                <a:cubicBezTo>
                  <a:pt x="11368" y="17515"/>
                  <a:pt x="11344" y="17523"/>
                  <a:pt x="11385" y="17537"/>
                </a:cubicBezTo>
              </a:path>
              <a:path w="1836" h="1639">
                <a:moveTo>
                  <a:pt x="10840" y="17363"/>
                </a:moveTo>
                <a:cubicBezTo>
                  <a:pt x="10897" y="17378"/>
                  <a:pt x="10905" y="17437"/>
                  <a:pt x="10914" y="17487"/>
                </a:cubicBezTo>
                <a:cubicBezTo>
                  <a:pt x="10914" y="17504"/>
                  <a:pt x="10914" y="17520"/>
                  <a:pt x="10914" y="17537"/>
                </a:cubicBezTo>
              </a:path>
              <a:path w="1836" h="1639">
                <a:moveTo>
                  <a:pt x="11633" y="17190"/>
                </a:moveTo>
                <a:cubicBezTo>
                  <a:pt x="11633" y="17110"/>
                  <a:pt x="11633" y="17297"/>
                  <a:pt x="11633" y="17314"/>
                </a:cubicBezTo>
              </a:path>
              <a:path w="1836" h="1639">
                <a:moveTo>
                  <a:pt x="11584" y="16966"/>
                </a:moveTo>
                <a:cubicBezTo>
                  <a:pt x="11584" y="17041"/>
                  <a:pt x="11584" y="17115"/>
                  <a:pt x="11584" y="17190"/>
                </a:cubicBezTo>
              </a:path>
              <a:path w="1836" h="1639">
                <a:moveTo>
                  <a:pt x="11857" y="18256"/>
                </a:moveTo>
                <a:cubicBezTo>
                  <a:pt x="11849" y="18325"/>
                  <a:pt x="11832" y="18385"/>
                  <a:pt x="11832" y="18455"/>
                </a:cubicBezTo>
                <a:cubicBezTo>
                  <a:pt x="11832" y="18499"/>
                  <a:pt x="11852" y="18535"/>
                  <a:pt x="11906" y="18554"/>
                </a:cubicBezTo>
                <a:cubicBezTo>
                  <a:pt x="11947" y="18569"/>
                  <a:pt x="12067" y="18586"/>
                  <a:pt x="12105" y="18579"/>
                </a:cubicBezTo>
                <a:cubicBezTo>
                  <a:pt x="12149" y="18571"/>
                  <a:pt x="12232" y="18553"/>
                  <a:pt x="12254" y="18504"/>
                </a:cubicBezTo>
                <a:cubicBezTo>
                  <a:pt x="12261" y="18488"/>
                  <a:pt x="12254" y="18447"/>
                  <a:pt x="12254" y="18430"/>
                </a:cubicBezTo>
                <a:cubicBezTo>
                  <a:pt x="12202" y="18437"/>
                  <a:pt x="12140" y="18454"/>
                  <a:pt x="12105" y="18504"/>
                </a:cubicBezTo>
                <a:cubicBezTo>
                  <a:pt x="12077" y="18544"/>
                  <a:pt x="12080" y="18562"/>
                  <a:pt x="12080" y="18604"/>
                </a:cubicBezTo>
              </a:path>
              <a:path w="1836" h="1639">
                <a:moveTo>
                  <a:pt x="10716" y="17487"/>
                </a:moveTo>
                <a:cubicBezTo>
                  <a:pt x="10732" y="17422"/>
                  <a:pt x="10776" y="17418"/>
                  <a:pt x="10840" y="17413"/>
                </a:cubicBezTo>
                <a:cubicBezTo>
                  <a:pt x="10881" y="17410"/>
                  <a:pt x="10911" y="17451"/>
                  <a:pt x="10914" y="17487"/>
                </a:cubicBezTo>
                <a:cubicBezTo>
                  <a:pt x="10919" y="17560"/>
                  <a:pt x="10905" y="17596"/>
                  <a:pt x="10889" y="17661"/>
                </a:cubicBezTo>
                <a:cubicBezTo>
                  <a:pt x="10889" y="17669"/>
                  <a:pt x="10889" y="17678"/>
                  <a:pt x="10889" y="17686"/>
                </a:cubicBezTo>
                <a:cubicBezTo>
                  <a:pt x="10968" y="17673"/>
                  <a:pt x="11036" y="17633"/>
                  <a:pt x="11112" y="17611"/>
                </a:cubicBezTo>
                <a:cubicBezTo>
                  <a:pt x="11160" y="17597"/>
                  <a:pt x="11113" y="17580"/>
                  <a:pt x="11162" y="176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46760" y="6607080"/>
            <a:ext cx="339480" cy="171720"/>
          </a:xfrm>
          <a:custGeom>
            <a:avLst/>
            <a:gdLst/>
            <a:ahLst/>
            <a:rect l="l" t="t" r="r" b="b"/>
            <a:pathLst>
              <a:path w="943" h="473">
                <a:moveTo>
                  <a:pt x="13816" y="18554"/>
                </a:moveTo>
                <a:cubicBezTo>
                  <a:pt x="13805" y="18649"/>
                  <a:pt x="13778" y="18738"/>
                  <a:pt x="13742" y="18827"/>
                </a:cubicBezTo>
              </a:path>
              <a:path w="943" h="473">
                <a:moveTo>
                  <a:pt x="14064" y="18529"/>
                </a:moveTo>
                <a:cubicBezTo>
                  <a:pt x="14028" y="18587"/>
                  <a:pt x="14005" y="18616"/>
                  <a:pt x="13990" y="18678"/>
                </a:cubicBezTo>
                <a:cubicBezTo>
                  <a:pt x="14046" y="18678"/>
                  <a:pt x="14188" y="18701"/>
                  <a:pt x="14188" y="18604"/>
                </a:cubicBezTo>
                <a:cubicBezTo>
                  <a:pt x="14163" y="18554"/>
                  <a:pt x="14155" y="18538"/>
                  <a:pt x="14114" y="18529"/>
                </a:cubicBezTo>
              </a:path>
              <a:path w="943" h="473">
                <a:moveTo>
                  <a:pt x="14511" y="18405"/>
                </a:moveTo>
                <a:cubicBezTo>
                  <a:pt x="14500" y="18479"/>
                  <a:pt x="14498" y="18513"/>
                  <a:pt x="14511" y="18579"/>
                </a:cubicBezTo>
                <a:cubicBezTo>
                  <a:pt x="14556" y="18602"/>
                  <a:pt x="14675" y="18562"/>
                  <a:pt x="14684" y="18455"/>
                </a:cubicBezTo>
                <a:cubicBezTo>
                  <a:pt x="14691" y="18364"/>
                  <a:pt x="14619" y="18377"/>
                  <a:pt x="14560" y="183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0720" y="3394080"/>
            <a:ext cx="1322280" cy="2214720"/>
          </a:xfrm>
          <a:custGeom>
            <a:avLst/>
            <a:gdLst/>
            <a:ahLst/>
            <a:rect l="l" t="t" r="r" b="b"/>
            <a:pathLst>
              <a:path w="3672" h="6152">
                <a:moveTo>
                  <a:pt x="12502" y="9426"/>
                </a:moveTo>
                <a:cubicBezTo>
                  <a:pt x="12522" y="9466"/>
                  <a:pt x="12530" y="9473"/>
                  <a:pt x="12526" y="9500"/>
                </a:cubicBezTo>
              </a:path>
              <a:path w="3672" h="6152">
                <a:moveTo>
                  <a:pt x="14511" y="10716"/>
                </a:moveTo>
                <a:cubicBezTo>
                  <a:pt x="14523" y="10775"/>
                  <a:pt x="14583" y="10874"/>
                  <a:pt x="14660" y="10790"/>
                </a:cubicBezTo>
                <a:cubicBezTo>
                  <a:pt x="14660" y="10773"/>
                  <a:pt x="14660" y="10757"/>
                  <a:pt x="14660" y="10740"/>
                </a:cubicBezTo>
              </a:path>
              <a:path w="3672" h="6152">
                <a:moveTo>
                  <a:pt x="14908" y="10666"/>
                </a:moveTo>
                <a:cubicBezTo>
                  <a:pt x="15015" y="10610"/>
                  <a:pt x="15042" y="10583"/>
                  <a:pt x="15156" y="10567"/>
                </a:cubicBezTo>
              </a:path>
              <a:path w="3672" h="6152">
                <a:moveTo>
                  <a:pt x="14610" y="11112"/>
                </a:moveTo>
                <a:cubicBezTo>
                  <a:pt x="14858" y="11044"/>
                  <a:pt x="15109" y="10991"/>
                  <a:pt x="15354" y="10914"/>
                </a:cubicBezTo>
              </a:path>
              <a:path w="3672" h="6152">
                <a:moveTo>
                  <a:pt x="12502" y="15528"/>
                </a:moveTo>
                <a:lnTo>
                  <a:pt x="12502" y="15528"/>
                </a:lnTo>
              </a:path>
              <a:path w="3672" h="6152">
                <a:moveTo>
                  <a:pt x="16148" y="15577"/>
                </a:moveTo>
                <a:cubicBezTo>
                  <a:pt x="16156" y="15577"/>
                  <a:pt x="16165" y="15577"/>
                  <a:pt x="16173" y="155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76800" y="2803680"/>
            <a:ext cx="1447560" cy="1250640"/>
          </a:xfrm>
          <a:custGeom>
            <a:avLst/>
            <a:gdLst/>
            <a:ahLst/>
            <a:rect l="l" t="t" r="r" b="b"/>
            <a:pathLst>
              <a:path w="4020" h="3473">
                <a:moveTo>
                  <a:pt x="13767" y="8830"/>
                </a:moveTo>
                <a:cubicBezTo>
                  <a:pt x="13806" y="8952"/>
                  <a:pt x="13824" y="9097"/>
                  <a:pt x="13841" y="9227"/>
                </a:cubicBezTo>
                <a:cubicBezTo>
                  <a:pt x="13841" y="9272"/>
                  <a:pt x="13838" y="9285"/>
                  <a:pt x="13866" y="9302"/>
                </a:cubicBezTo>
              </a:path>
              <a:path w="4020" h="3473">
                <a:moveTo>
                  <a:pt x="14039" y="8806"/>
                </a:moveTo>
                <a:cubicBezTo>
                  <a:pt x="14069" y="8784"/>
                  <a:pt x="14101" y="8758"/>
                  <a:pt x="14139" y="8756"/>
                </a:cubicBezTo>
                <a:cubicBezTo>
                  <a:pt x="14196" y="8753"/>
                  <a:pt x="14391" y="8764"/>
                  <a:pt x="14362" y="8855"/>
                </a:cubicBezTo>
                <a:cubicBezTo>
                  <a:pt x="14312" y="8930"/>
                  <a:pt x="14296" y="8954"/>
                  <a:pt x="14238" y="8979"/>
                </a:cubicBezTo>
                <a:cubicBezTo>
                  <a:pt x="14192" y="8979"/>
                  <a:pt x="14341" y="8952"/>
                  <a:pt x="14387" y="8979"/>
                </a:cubicBezTo>
                <a:cubicBezTo>
                  <a:pt x="14524" y="9060"/>
                  <a:pt x="14473" y="9240"/>
                  <a:pt x="14337" y="9277"/>
                </a:cubicBezTo>
                <a:cubicBezTo>
                  <a:pt x="14254" y="9299"/>
                  <a:pt x="14213" y="9233"/>
                  <a:pt x="14213" y="9227"/>
                </a:cubicBezTo>
              </a:path>
              <a:path w="4020" h="3473">
                <a:moveTo>
                  <a:pt x="14709" y="8830"/>
                </a:moveTo>
                <a:cubicBezTo>
                  <a:pt x="14691" y="8842"/>
                  <a:pt x="14648" y="8932"/>
                  <a:pt x="14709" y="8954"/>
                </a:cubicBezTo>
                <a:cubicBezTo>
                  <a:pt x="14784" y="8981"/>
                  <a:pt x="15062" y="8983"/>
                  <a:pt x="14982" y="9153"/>
                </a:cubicBezTo>
                <a:cubicBezTo>
                  <a:pt x="14949" y="9223"/>
                  <a:pt x="14829" y="9186"/>
                  <a:pt x="14784" y="9178"/>
                </a:cubicBezTo>
              </a:path>
              <a:path w="4020" h="3473">
                <a:moveTo>
                  <a:pt x="14660" y="8855"/>
                </a:moveTo>
                <a:cubicBezTo>
                  <a:pt x="14767" y="8778"/>
                  <a:pt x="14853" y="8743"/>
                  <a:pt x="14982" y="8731"/>
                </a:cubicBezTo>
                <a:cubicBezTo>
                  <a:pt x="14990" y="8731"/>
                  <a:pt x="14999" y="8731"/>
                  <a:pt x="15007" y="8731"/>
                </a:cubicBezTo>
              </a:path>
              <a:path w="4020" h="3473">
                <a:moveTo>
                  <a:pt x="14114" y="9426"/>
                </a:moveTo>
                <a:cubicBezTo>
                  <a:pt x="14078" y="9426"/>
                  <a:pt x="14103" y="9434"/>
                  <a:pt x="14114" y="9401"/>
                </a:cubicBezTo>
              </a:path>
              <a:path w="4020" h="3473">
                <a:moveTo>
                  <a:pt x="13494" y="9649"/>
                </a:moveTo>
                <a:cubicBezTo>
                  <a:pt x="13516" y="9516"/>
                  <a:pt x="13518" y="9413"/>
                  <a:pt x="13494" y="9277"/>
                </a:cubicBezTo>
                <a:cubicBezTo>
                  <a:pt x="13472" y="9149"/>
                  <a:pt x="13450" y="9003"/>
                  <a:pt x="13419" y="8880"/>
                </a:cubicBezTo>
                <a:cubicBezTo>
                  <a:pt x="13414" y="8859"/>
                  <a:pt x="13373" y="8785"/>
                  <a:pt x="13395" y="8756"/>
                </a:cubicBezTo>
                <a:cubicBezTo>
                  <a:pt x="13465" y="8666"/>
                  <a:pt x="13564" y="8664"/>
                  <a:pt x="13692" y="8632"/>
                </a:cubicBezTo>
                <a:cubicBezTo>
                  <a:pt x="13970" y="8563"/>
                  <a:pt x="14249" y="8500"/>
                  <a:pt x="14536" y="8483"/>
                </a:cubicBezTo>
                <a:cubicBezTo>
                  <a:pt x="14742" y="8471"/>
                  <a:pt x="14951" y="8462"/>
                  <a:pt x="15156" y="8458"/>
                </a:cubicBezTo>
                <a:cubicBezTo>
                  <a:pt x="15328" y="8455"/>
                  <a:pt x="15484" y="8492"/>
                  <a:pt x="15652" y="8508"/>
                </a:cubicBezTo>
                <a:cubicBezTo>
                  <a:pt x="15693" y="8508"/>
                  <a:pt x="15701" y="8508"/>
                  <a:pt x="15726" y="8508"/>
                </a:cubicBezTo>
              </a:path>
              <a:path w="4020" h="3473">
                <a:moveTo>
                  <a:pt x="12129" y="9029"/>
                </a:moveTo>
                <a:cubicBezTo>
                  <a:pt x="12101" y="8940"/>
                  <a:pt x="12005" y="9060"/>
                  <a:pt x="11981" y="9103"/>
                </a:cubicBezTo>
                <a:cubicBezTo>
                  <a:pt x="11882" y="9281"/>
                  <a:pt x="11884" y="9373"/>
                  <a:pt x="11931" y="9550"/>
                </a:cubicBezTo>
                <a:cubicBezTo>
                  <a:pt x="12150" y="9550"/>
                  <a:pt x="12343" y="9479"/>
                  <a:pt x="12328" y="9203"/>
                </a:cubicBezTo>
                <a:cubicBezTo>
                  <a:pt x="12319" y="9043"/>
                  <a:pt x="12243" y="8974"/>
                  <a:pt x="12105" y="8954"/>
                </a:cubicBezTo>
              </a:path>
              <a:path w="4020" h="3473">
                <a:moveTo>
                  <a:pt x="12700" y="9054"/>
                </a:moveTo>
                <a:cubicBezTo>
                  <a:pt x="12618" y="9103"/>
                  <a:pt x="12559" y="9271"/>
                  <a:pt x="12601" y="9376"/>
                </a:cubicBezTo>
                <a:cubicBezTo>
                  <a:pt x="12626" y="9401"/>
                  <a:pt x="12650" y="9426"/>
                  <a:pt x="12675" y="9451"/>
                </a:cubicBezTo>
                <a:cubicBezTo>
                  <a:pt x="12797" y="9418"/>
                  <a:pt x="12992" y="9293"/>
                  <a:pt x="12849" y="9128"/>
                </a:cubicBezTo>
                <a:cubicBezTo>
                  <a:pt x="12767" y="9101"/>
                  <a:pt x="12734" y="9090"/>
                  <a:pt x="12675" y="9079"/>
                </a:cubicBezTo>
              </a:path>
              <a:path w="4020" h="3473">
                <a:moveTo>
                  <a:pt x="13072" y="8979"/>
                </a:moveTo>
                <a:cubicBezTo>
                  <a:pt x="12921" y="8936"/>
                  <a:pt x="12913" y="9026"/>
                  <a:pt x="12923" y="9153"/>
                </a:cubicBezTo>
                <a:cubicBezTo>
                  <a:pt x="13115" y="9169"/>
                  <a:pt x="13071" y="9083"/>
                  <a:pt x="13122" y="8930"/>
                </a:cubicBezTo>
                <a:cubicBezTo>
                  <a:pt x="13122" y="8946"/>
                  <a:pt x="13122" y="8963"/>
                  <a:pt x="13122" y="8979"/>
                </a:cubicBezTo>
                <a:cubicBezTo>
                  <a:pt x="13136" y="9120"/>
                  <a:pt x="13161" y="9260"/>
                  <a:pt x="13171" y="9401"/>
                </a:cubicBezTo>
              </a:path>
              <a:path w="4020" h="3473">
                <a:moveTo>
                  <a:pt x="12526" y="9500"/>
                </a:moveTo>
                <a:cubicBezTo>
                  <a:pt x="12526" y="9585"/>
                  <a:pt x="12575" y="9634"/>
                  <a:pt x="12650" y="9674"/>
                </a:cubicBezTo>
                <a:cubicBezTo>
                  <a:pt x="12791" y="9750"/>
                  <a:pt x="12872" y="9602"/>
                  <a:pt x="12923" y="9500"/>
                </a:cubicBezTo>
                <a:cubicBezTo>
                  <a:pt x="12897" y="9566"/>
                  <a:pt x="12956" y="9627"/>
                  <a:pt x="13047" y="9624"/>
                </a:cubicBezTo>
                <a:cubicBezTo>
                  <a:pt x="13187" y="9619"/>
                  <a:pt x="13261" y="9521"/>
                  <a:pt x="13295" y="9401"/>
                </a:cubicBezTo>
              </a:path>
              <a:path w="4020" h="3473">
                <a:moveTo>
                  <a:pt x="14139" y="9475"/>
                </a:moveTo>
                <a:cubicBezTo>
                  <a:pt x="14194" y="9457"/>
                  <a:pt x="14152" y="9444"/>
                  <a:pt x="14238" y="9475"/>
                </a:cubicBezTo>
                <a:cubicBezTo>
                  <a:pt x="14347" y="9514"/>
                  <a:pt x="14481" y="9502"/>
                  <a:pt x="14560" y="9401"/>
                </a:cubicBezTo>
                <a:cubicBezTo>
                  <a:pt x="14595" y="9356"/>
                  <a:pt x="14569" y="9271"/>
                  <a:pt x="14610" y="9327"/>
                </a:cubicBezTo>
                <a:cubicBezTo>
                  <a:pt x="14697" y="9445"/>
                  <a:pt x="14734" y="9491"/>
                  <a:pt x="14908" y="9451"/>
                </a:cubicBezTo>
                <a:cubicBezTo>
                  <a:pt x="15016" y="9426"/>
                  <a:pt x="15164" y="9345"/>
                  <a:pt x="15205" y="9252"/>
                </a:cubicBezTo>
                <a:cubicBezTo>
                  <a:pt x="15205" y="9211"/>
                  <a:pt x="15205" y="9203"/>
                  <a:pt x="15205" y="9178"/>
                </a:cubicBezTo>
              </a:path>
              <a:path w="4020" h="3473">
                <a:moveTo>
                  <a:pt x="15255" y="8483"/>
                </a:moveTo>
                <a:cubicBezTo>
                  <a:pt x="15317" y="8483"/>
                  <a:pt x="15357" y="8423"/>
                  <a:pt x="15329" y="8359"/>
                </a:cubicBezTo>
                <a:cubicBezTo>
                  <a:pt x="15309" y="8314"/>
                  <a:pt x="15256" y="8475"/>
                  <a:pt x="15255" y="8483"/>
                </a:cubicBezTo>
                <a:cubicBezTo>
                  <a:pt x="15267" y="8478"/>
                  <a:pt x="15414" y="8359"/>
                  <a:pt x="15329" y="8359"/>
                </a:cubicBezTo>
                <a:cubicBezTo>
                  <a:pt x="15261" y="8359"/>
                  <a:pt x="15263" y="8445"/>
                  <a:pt x="15255" y="8483"/>
                </a:cubicBezTo>
                <a:cubicBezTo>
                  <a:pt x="15293" y="8473"/>
                  <a:pt x="15331" y="8451"/>
                  <a:pt x="15280" y="8434"/>
                </a:cubicBezTo>
              </a:path>
              <a:path w="4020" h="3473">
                <a:moveTo>
                  <a:pt x="13568" y="8260"/>
                </a:moveTo>
                <a:cubicBezTo>
                  <a:pt x="13555" y="8220"/>
                  <a:pt x="13556" y="8250"/>
                  <a:pt x="13543" y="8210"/>
                </a:cubicBezTo>
                <a:cubicBezTo>
                  <a:pt x="13543" y="8316"/>
                  <a:pt x="13480" y="8430"/>
                  <a:pt x="13543" y="8533"/>
                </a:cubicBezTo>
                <a:cubicBezTo>
                  <a:pt x="13568" y="8541"/>
                  <a:pt x="13593" y="8550"/>
                  <a:pt x="13618" y="8558"/>
                </a:cubicBezTo>
                <a:cubicBezTo>
                  <a:pt x="13741" y="8486"/>
                  <a:pt x="13856" y="8356"/>
                  <a:pt x="13717" y="8210"/>
                </a:cubicBezTo>
                <a:cubicBezTo>
                  <a:pt x="13659" y="8150"/>
                  <a:pt x="13610" y="8202"/>
                  <a:pt x="13568" y="8235"/>
                </a:cubicBezTo>
              </a:path>
              <a:path w="4020" h="3473">
                <a:moveTo>
                  <a:pt x="14039" y="8012"/>
                </a:moveTo>
                <a:cubicBezTo>
                  <a:pt x="14047" y="8121"/>
                  <a:pt x="14064" y="8224"/>
                  <a:pt x="14064" y="8334"/>
                </a:cubicBezTo>
                <a:cubicBezTo>
                  <a:pt x="14064" y="8359"/>
                  <a:pt x="14064" y="8367"/>
                  <a:pt x="14089" y="8359"/>
                </a:cubicBezTo>
              </a:path>
              <a:path w="4020" h="3473">
                <a:moveTo>
                  <a:pt x="14461" y="9575"/>
                </a:moveTo>
                <a:cubicBezTo>
                  <a:pt x="14461" y="9510"/>
                  <a:pt x="14465" y="9486"/>
                  <a:pt x="14387" y="9475"/>
                </a:cubicBezTo>
                <a:cubicBezTo>
                  <a:pt x="14261" y="9458"/>
                  <a:pt x="14134" y="9558"/>
                  <a:pt x="14188" y="9699"/>
                </a:cubicBezTo>
                <a:cubicBezTo>
                  <a:pt x="14230" y="9809"/>
                  <a:pt x="14372" y="9664"/>
                  <a:pt x="14387" y="9624"/>
                </a:cubicBezTo>
                <a:cubicBezTo>
                  <a:pt x="14395" y="9591"/>
                  <a:pt x="14404" y="9558"/>
                  <a:pt x="14412" y="9525"/>
                </a:cubicBezTo>
                <a:cubicBezTo>
                  <a:pt x="14427" y="9525"/>
                  <a:pt x="14412" y="9589"/>
                  <a:pt x="14412" y="9699"/>
                </a:cubicBezTo>
                <a:cubicBezTo>
                  <a:pt x="14412" y="9765"/>
                  <a:pt x="14412" y="9831"/>
                  <a:pt x="14412" y="9897"/>
                </a:cubicBezTo>
              </a:path>
              <a:path w="4020" h="3473">
                <a:moveTo>
                  <a:pt x="13543" y="9872"/>
                </a:moveTo>
                <a:cubicBezTo>
                  <a:pt x="13616" y="9828"/>
                  <a:pt x="13726" y="9824"/>
                  <a:pt x="13816" y="9798"/>
                </a:cubicBezTo>
              </a:path>
              <a:path w="4020" h="3473">
                <a:moveTo>
                  <a:pt x="13494" y="10244"/>
                </a:moveTo>
                <a:cubicBezTo>
                  <a:pt x="13761" y="10156"/>
                  <a:pt x="14010" y="10109"/>
                  <a:pt x="14288" y="10071"/>
                </a:cubicBezTo>
                <a:cubicBezTo>
                  <a:pt x="14428" y="10051"/>
                  <a:pt x="14452" y="10042"/>
                  <a:pt x="14536" y="10046"/>
                </a:cubicBezTo>
              </a:path>
              <a:path w="4020" h="3473">
                <a:moveTo>
                  <a:pt x="14387" y="10244"/>
                </a:moveTo>
                <a:cubicBezTo>
                  <a:pt x="14387" y="10310"/>
                  <a:pt x="14387" y="10377"/>
                  <a:pt x="14387" y="10443"/>
                </a:cubicBezTo>
                <a:cubicBezTo>
                  <a:pt x="14474" y="10431"/>
                  <a:pt x="14517" y="10395"/>
                  <a:pt x="14585" y="10368"/>
                </a:cubicBezTo>
              </a:path>
              <a:path w="4020" h="3473">
                <a:moveTo>
                  <a:pt x="14486" y="10120"/>
                </a:moveTo>
                <a:cubicBezTo>
                  <a:pt x="14498" y="10254"/>
                  <a:pt x="14536" y="10382"/>
                  <a:pt x="14536" y="10517"/>
                </a:cubicBezTo>
                <a:cubicBezTo>
                  <a:pt x="14536" y="10509"/>
                  <a:pt x="14536" y="10500"/>
                  <a:pt x="14536" y="10492"/>
                </a:cubicBezTo>
              </a:path>
              <a:path w="4020" h="3473">
                <a:moveTo>
                  <a:pt x="15007" y="9947"/>
                </a:moveTo>
                <a:cubicBezTo>
                  <a:pt x="14993" y="9967"/>
                  <a:pt x="14902" y="10026"/>
                  <a:pt x="14858" y="10046"/>
                </a:cubicBezTo>
                <a:cubicBezTo>
                  <a:pt x="14795" y="10075"/>
                  <a:pt x="14789" y="10148"/>
                  <a:pt x="14784" y="10220"/>
                </a:cubicBezTo>
                <a:cubicBezTo>
                  <a:pt x="14784" y="10228"/>
                  <a:pt x="14784" y="10236"/>
                  <a:pt x="14784" y="10244"/>
                </a:cubicBezTo>
                <a:cubicBezTo>
                  <a:pt x="14850" y="10244"/>
                  <a:pt x="14891" y="10205"/>
                  <a:pt x="14957" y="10195"/>
                </a:cubicBezTo>
                <a:cubicBezTo>
                  <a:pt x="15079" y="10176"/>
                  <a:pt x="15201" y="10297"/>
                  <a:pt x="15081" y="10418"/>
                </a:cubicBezTo>
                <a:cubicBezTo>
                  <a:pt x="14986" y="10513"/>
                  <a:pt x="14856" y="10409"/>
                  <a:pt x="14784" y="10368"/>
                </a:cubicBezTo>
              </a:path>
              <a:path w="4020" h="3473">
                <a:moveTo>
                  <a:pt x="14759" y="9451"/>
                </a:moveTo>
                <a:cubicBezTo>
                  <a:pt x="14839" y="9587"/>
                  <a:pt x="14868" y="9687"/>
                  <a:pt x="14883" y="9847"/>
                </a:cubicBezTo>
              </a:path>
              <a:path w="4020" h="3473">
                <a:moveTo>
                  <a:pt x="14759" y="9748"/>
                </a:moveTo>
                <a:cubicBezTo>
                  <a:pt x="14774" y="9774"/>
                  <a:pt x="14860" y="9882"/>
                  <a:pt x="14908" y="9872"/>
                </a:cubicBezTo>
                <a:cubicBezTo>
                  <a:pt x="14997" y="9854"/>
                  <a:pt x="15018" y="9718"/>
                  <a:pt x="15032" y="9649"/>
                </a:cubicBezTo>
              </a:path>
              <a:path w="4020" h="3473">
                <a:moveTo>
                  <a:pt x="14709" y="7888"/>
                </a:moveTo>
                <a:cubicBezTo>
                  <a:pt x="14757" y="7815"/>
                  <a:pt x="14571" y="7900"/>
                  <a:pt x="14536" y="7913"/>
                </a:cubicBezTo>
                <a:cubicBezTo>
                  <a:pt x="14471" y="7937"/>
                  <a:pt x="14486" y="7966"/>
                  <a:pt x="14511" y="8012"/>
                </a:cubicBezTo>
                <a:cubicBezTo>
                  <a:pt x="14519" y="8020"/>
                  <a:pt x="14528" y="8029"/>
                  <a:pt x="14536" y="8037"/>
                </a:cubicBezTo>
                <a:cubicBezTo>
                  <a:pt x="14596" y="8010"/>
                  <a:pt x="14726" y="7937"/>
                  <a:pt x="14784" y="8012"/>
                </a:cubicBezTo>
                <a:cubicBezTo>
                  <a:pt x="14888" y="8147"/>
                  <a:pt x="14730" y="8249"/>
                  <a:pt x="14635" y="8285"/>
                </a:cubicBezTo>
                <a:cubicBezTo>
                  <a:pt x="14570" y="8307"/>
                  <a:pt x="14555" y="8315"/>
                  <a:pt x="14511" y="8310"/>
                </a:cubicBezTo>
              </a:path>
              <a:path w="4020" h="3473">
                <a:moveTo>
                  <a:pt x="13990" y="10914"/>
                </a:moveTo>
                <a:cubicBezTo>
                  <a:pt x="14095" y="10893"/>
                  <a:pt x="14205" y="10845"/>
                  <a:pt x="14312" y="10815"/>
                </a:cubicBezTo>
              </a:path>
              <a:path w="4020" h="3473">
                <a:moveTo>
                  <a:pt x="14635" y="10641"/>
                </a:moveTo>
                <a:cubicBezTo>
                  <a:pt x="14649" y="10731"/>
                  <a:pt x="14692" y="10802"/>
                  <a:pt x="14709" y="10889"/>
                </a:cubicBezTo>
              </a:path>
              <a:path w="4020" h="3473">
                <a:moveTo>
                  <a:pt x="14883" y="10641"/>
                </a:moveTo>
                <a:cubicBezTo>
                  <a:pt x="14961" y="10688"/>
                  <a:pt x="15050" y="10748"/>
                  <a:pt x="15131" y="10815"/>
                </a:cubicBezTo>
                <a:cubicBezTo>
                  <a:pt x="15207" y="10878"/>
                  <a:pt x="15129" y="10887"/>
                  <a:pt x="15081" y="10914"/>
                </a:cubicBezTo>
              </a:path>
              <a:path w="4020" h="3473">
                <a:moveTo>
                  <a:pt x="15404" y="10988"/>
                </a:moveTo>
                <a:cubicBezTo>
                  <a:pt x="15313" y="11067"/>
                  <a:pt x="15268" y="11146"/>
                  <a:pt x="15280" y="11261"/>
                </a:cubicBezTo>
                <a:cubicBezTo>
                  <a:pt x="15349" y="11247"/>
                  <a:pt x="15551" y="11187"/>
                  <a:pt x="15478" y="11063"/>
                </a:cubicBezTo>
                <a:cubicBezTo>
                  <a:pt x="15434" y="10987"/>
                  <a:pt x="15383" y="11032"/>
                  <a:pt x="15354" y="10988"/>
                </a:cubicBezTo>
              </a:path>
              <a:path w="4020" h="3473">
                <a:moveTo>
                  <a:pt x="13469" y="8756"/>
                </a:moveTo>
                <a:cubicBezTo>
                  <a:pt x="13669" y="8709"/>
                  <a:pt x="13858" y="8785"/>
                  <a:pt x="14064" y="8806"/>
                </a:cubicBezTo>
                <a:cubicBezTo>
                  <a:pt x="14481" y="8848"/>
                  <a:pt x="14874" y="8839"/>
                  <a:pt x="15280" y="8731"/>
                </a:cubicBezTo>
                <a:cubicBezTo>
                  <a:pt x="15469" y="8681"/>
                  <a:pt x="15736" y="8588"/>
                  <a:pt x="15850" y="8409"/>
                </a:cubicBezTo>
                <a:cubicBezTo>
                  <a:pt x="15963" y="8230"/>
                  <a:pt x="15862" y="8092"/>
                  <a:pt x="15701" y="7987"/>
                </a:cubicBezTo>
                <a:cubicBezTo>
                  <a:pt x="15407" y="7794"/>
                  <a:pt x="15049" y="7776"/>
                  <a:pt x="14709" y="7789"/>
                </a:cubicBezTo>
                <a:cubicBezTo>
                  <a:pt x="14356" y="7803"/>
                  <a:pt x="13912" y="7881"/>
                  <a:pt x="13618" y="8086"/>
                </a:cubicBezTo>
                <a:cubicBezTo>
                  <a:pt x="13383" y="8250"/>
                  <a:pt x="13265" y="8633"/>
                  <a:pt x="13593" y="8781"/>
                </a:cubicBezTo>
                <a:cubicBezTo>
                  <a:pt x="13692" y="8797"/>
                  <a:pt x="13792" y="8814"/>
                  <a:pt x="13891" y="88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53120" y="3197160"/>
            <a:ext cx="1125720" cy="250920"/>
          </a:xfrm>
          <a:custGeom>
            <a:avLst/>
            <a:gdLst/>
            <a:ahLst/>
            <a:rect l="l" t="t" r="r" b="b"/>
            <a:pathLst>
              <a:path w="3127" h="696">
                <a:moveTo>
                  <a:pt x="17090" y="9054"/>
                </a:moveTo>
                <a:cubicBezTo>
                  <a:pt x="17123" y="9215"/>
                  <a:pt x="17102" y="9357"/>
                  <a:pt x="17090" y="9525"/>
                </a:cubicBezTo>
                <a:cubicBezTo>
                  <a:pt x="17090" y="9575"/>
                  <a:pt x="17090" y="9592"/>
                  <a:pt x="17090" y="9525"/>
                </a:cubicBezTo>
              </a:path>
              <a:path w="3127" h="696">
                <a:moveTo>
                  <a:pt x="17462" y="8979"/>
                </a:moveTo>
                <a:cubicBezTo>
                  <a:pt x="17424" y="9027"/>
                  <a:pt x="17332" y="9113"/>
                  <a:pt x="17314" y="9153"/>
                </a:cubicBezTo>
                <a:cubicBezTo>
                  <a:pt x="17286" y="9210"/>
                  <a:pt x="17280" y="9233"/>
                  <a:pt x="17314" y="9277"/>
                </a:cubicBezTo>
                <a:cubicBezTo>
                  <a:pt x="17362" y="9310"/>
                  <a:pt x="17536" y="9229"/>
                  <a:pt x="17636" y="9252"/>
                </a:cubicBezTo>
                <a:cubicBezTo>
                  <a:pt x="17889" y="9309"/>
                  <a:pt x="17626" y="9543"/>
                  <a:pt x="17487" y="9550"/>
                </a:cubicBezTo>
                <a:cubicBezTo>
                  <a:pt x="17396" y="9527"/>
                  <a:pt x="17365" y="9526"/>
                  <a:pt x="17363" y="9451"/>
                </a:cubicBezTo>
              </a:path>
              <a:path w="3127" h="696">
                <a:moveTo>
                  <a:pt x="18083" y="8954"/>
                </a:moveTo>
                <a:cubicBezTo>
                  <a:pt x="18090" y="9123"/>
                  <a:pt x="18117" y="9284"/>
                  <a:pt x="18132" y="9451"/>
                </a:cubicBezTo>
                <a:cubicBezTo>
                  <a:pt x="18132" y="9377"/>
                  <a:pt x="18071" y="9270"/>
                  <a:pt x="18107" y="9203"/>
                </a:cubicBezTo>
                <a:cubicBezTo>
                  <a:pt x="18185" y="9059"/>
                  <a:pt x="18433" y="9174"/>
                  <a:pt x="18455" y="9302"/>
                </a:cubicBezTo>
                <a:cubicBezTo>
                  <a:pt x="18425" y="9391"/>
                  <a:pt x="18405" y="9425"/>
                  <a:pt x="18331" y="9451"/>
                </a:cubicBezTo>
                <a:cubicBezTo>
                  <a:pt x="18183" y="9438"/>
                  <a:pt x="18222" y="9461"/>
                  <a:pt x="18231" y="9302"/>
                </a:cubicBezTo>
              </a:path>
              <a:path w="3127" h="696">
                <a:moveTo>
                  <a:pt x="18728" y="9103"/>
                </a:moveTo>
                <a:cubicBezTo>
                  <a:pt x="18633" y="9167"/>
                  <a:pt x="18496" y="9267"/>
                  <a:pt x="18653" y="9351"/>
                </a:cubicBezTo>
                <a:cubicBezTo>
                  <a:pt x="18751" y="9404"/>
                  <a:pt x="19024" y="9310"/>
                  <a:pt x="18901" y="9178"/>
                </a:cubicBezTo>
                <a:cubicBezTo>
                  <a:pt x="18834" y="9155"/>
                  <a:pt x="18816" y="9150"/>
                  <a:pt x="18777" y="9128"/>
                </a:cubicBezTo>
              </a:path>
              <a:path w="3127" h="696">
                <a:moveTo>
                  <a:pt x="19199" y="9128"/>
                </a:moveTo>
                <a:cubicBezTo>
                  <a:pt x="19055" y="9160"/>
                  <a:pt x="19039" y="9215"/>
                  <a:pt x="19050" y="9351"/>
                </a:cubicBezTo>
                <a:cubicBezTo>
                  <a:pt x="19139" y="9338"/>
                  <a:pt x="19383" y="9305"/>
                  <a:pt x="19273" y="9153"/>
                </a:cubicBezTo>
                <a:cubicBezTo>
                  <a:pt x="19203" y="9106"/>
                  <a:pt x="19183" y="9089"/>
                  <a:pt x="19124" y="9103"/>
                </a:cubicBezTo>
              </a:path>
              <a:path w="3127" h="696">
                <a:moveTo>
                  <a:pt x="19348" y="8880"/>
                </a:moveTo>
                <a:cubicBezTo>
                  <a:pt x="19383" y="9063"/>
                  <a:pt x="19414" y="9251"/>
                  <a:pt x="19472" y="9426"/>
                </a:cubicBezTo>
              </a:path>
              <a:path w="3127" h="696">
                <a:moveTo>
                  <a:pt x="19645" y="8905"/>
                </a:moveTo>
                <a:cubicBezTo>
                  <a:pt x="19604" y="8994"/>
                  <a:pt x="19529" y="9071"/>
                  <a:pt x="19496" y="9153"/>
                </a:cubicBezTo>
                <a:cubicBezTo>
                  <a:pt x="19558" y="9187"/>
                  <a:pt x="19719" y="9266"/>
                  <a:pt x="19745" y="9327"/>
                </a:cubicBezTo>
                <a:cubicBezTo>
                  <a:pt x="19745" y="9352"/>
                  <a:pt x="19745" y="9376"/>
                  <a:pt x="19745" y="9401"/>
                </a:cubicBezTo>
              </a:path>
              <a:path w="3127" h="696">
                <a:moveTo>
                  <a:pt x="20017" y="9029"/>
                </a:moveTo>
                <a:cubicBezTo>
                  <a:pt x="19976" y="9029"/>
                  <a:pt x="19968" y="9029"/>
                  <a:pt x="19943" y="9029"/>
                </a:cubicBezTo>
                <a:cubicBezTo>
                  <a:pt x="20017" y="9082"/>
                  <a:pt x="20178" y="9135"/>
                  <a:pt x="20216" y="9227"/>
                </a:cubicBezTo>
                <a:cubicBezTo>
                  <a:pt x="20287" y="9397"/>
                  <a:pt x="20006" y="9338"/>
                  <a:pt x="19943" y="9327"/>
                </a:cubicBezTo>
                <a:cubicBezTo>
                  <a:pt x="19935" y="9327"/>
                  <a:pt x="19926" y="9327"/>
                  <a:pt x="19918" y="93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3679920" y="281160"/>
            <a:ext cx="50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bjective:  Students will Divide Decimals by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752480"/>
            <a:ext cx="7404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pple Casual"/>
              </a:rPr>
              <a:t>Practice:  Dividing Decimals Worksheet - may work with a partner. (Finish for Homewor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6280" y="441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4800600" y="3733920"/>
            <a:ext cx="227484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7T04:46:42Z</dcterms:created>
  <dc:creator>user</dc:creator>
  <dc:description/>
  <dc:language>en-US</dc:language>
  <cp:lastModifiedBy>demcgra</cp:lastModifiedBy>
  <dcterms:modified xsi:type="dcterms:W3CDTF">2012-04-24T19:14:59Z</dcterms:modified>
  <cp:revision>30</cp:revision>
  <dc:subject/>
  <dc:title>PowerPoint Presentation</dc:title>
</cp:coreProperties>
</file>